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E5F2-E21F-460B-A912-D8B040734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3313-D0E6-4FBE-91BC-A67743D25D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3FBF-72EF-4E9B-9724-9B01B8B775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0272-F6A9-4557-BBE7-91BE3FC05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дается распечатки задания, потом можно легко проверить с помощью этого слай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2891-15CB-4059-A56D-6D537CC2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E16-7362-4982-8E9B-3C951E86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51C-979E-4B4E-9FC8-BDB8F871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C03-F00A-4D65-98B7-393AA1A9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796-270C-46B9-B950-A3875236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500-DD9D-4AD4-BF0B-E47CFECC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5BF9-B198-4C27-A4D2-D2E35A38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5F0-01BA-44BB-ABBA-B776AC20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B60C-D63D-4936-94A6-11D9D70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944-2EC2-43DE-9547-B9A0F28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B2C-71E0-4FAA-97DD-F30A76EC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855-F92F-406C-8550-5F24BA8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D0B1-E3B3-4075-938E-E7FE5A698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доровье- это гармоничное равновесие количества и ка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цель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щепление в тонкой кишк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ки           водорастворимых аминокисл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              глюко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                жиры, свойственны живому орган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4"/>
          <p:cNvCxnSpPr/>
          <p:nvPr/>
        </p:nvCxnSpPr>
        <p:spPr>
          <a:xfrm>
            <a:off x="1523520" y="2209320"/>
            <a:ext cx="6865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96" name="Прямая со стрелкой 6"/>
          <p:cNvCxnSpPr/>
          <p:nvPr/>
        </p:nvCxnSpPr>
        <p:spPr>
          <a:xfrm>
            <a:off x="2015640" y="3428640"/>
            <a:ext cx="11437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97" name="Прямая со стрелкой 8"/>
          <p:cNvCxnSpPr/>
          <p:nvPr/>
        </p:nvCxnSpPr>
        <p:spPr>
          <a:xfrm>
            <a:off x="1523880" y="4571640"/>
            <a:ext cx="13723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D:\РИСУНКИ\ДЛЯ УРОКОВ\ЧЕЛОВЕК\ККИШЕЧНИК\532735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618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ункции  Жел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егчение переваривание жи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активности фермен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ает растворимость жирных кисл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ет движение киш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ерживает гнилостные процессы в кишечн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4191120" y="5029200"/>
            <a:ext cx="3333600" cy="1506600"/>
            <a:chOff x="4191120" y="5029200"/>
            <a:chExt cx="3333600" cy="1506600"/>
          </a:xfrm>
        </p:grpSpPr>
        <p:pic>
          <p:nvPicPr>
            <p:cNvPr id="103" name="Picture 6" descr=""/>
            <p:cNvPicPr/>
            <p:nvPr/>
          </p:nvPicPr>
          <p:blipFill>
            <a:blip r:embed="rId1"/>
            <a:stretch/>
          </p:blipFill>
          <p:spPr>
            <a:xfrm>
              <a:off x="4191120" y="5029200"/>
              <a:ext cx="3333600" cy="15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/>
            <p:cNvSpPr/>
            <p:nvPr/>
          </p:nvSpPr>
          <p:spPr>
            <a:xfrm>
              <a:off x="4191120" y="5029200"/>
              <a:ext cx="33336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95280" y="30492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чен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амая крупная железа пищеварительной системы, имеет массу 1,5 кг. Протоки печени впадают в 12 – перстную  кишку. Она вырабатывает желчь, которая принимает участие в расщеплении жиров. А так же печень обезвреживает некоторые вредные вещества, попадающие в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973240" cy="386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648320" y="2895480"/>
            <a:ext cx="3305160" cy="33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Users\Home\Pictures\сканирование\1376935669_drug induced liver di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09" name="Прямая со стрелкой 25"/>
          <p:cNvCxnSpPr>
            <a:endCxn id="110" idx="0"/>
          </p:cNvCxnSpPr>
          <p:nvPr/>
        </p:nvCxnSpPr>
        <p:spPr>
          <a:xfrm flipH="1">
            <a:off x="3491640" y="2133360"/>
            <a:ext cx="359640" cy="3672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3059280" y="1341360"/>
            <a:ext cx="293184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ече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0" y="1989000"/>
            <a:ext cx="3124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езвреживает ядовит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5651640" y="2349360"/>
            <a:ext cx="29304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ликог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4175280" y="4941720"/>
            <a:ext cx="496872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рушаются эритроциты – образуется жел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1908000" y="3645000"/>
            <a:ext cx="3311640" cy="107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капливаются витамины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, D, E,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Прямая со стрелкой 14"/>
          <p:cNvCxnSpPr>
            <a:endCxn id="114" idx="0"/>
          </p:cNvCxnSpPr>
          <p:nvPr/>
        </p:nvCxnSpPr>
        <p:spPr>
          <a:xfrm>
            <a:off x="6011640" y="1773360"/>
            <a:ext cx="1105560" cy="576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Прямая со стрелкой 15"/>
          <p:cNvCxnSpPr>
            <a:endCxn id="113" idx="0"/>
          </p:cNvCxnSpPr>
          <p:nvPr/>
        </p:nvCxnSpPr>
        <p:spPr>
          <a:xfrm flipH="1">
            <a:off x="1561680" y="1773000"/>
            <a:ext cx="1594800" cy="21636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Прямая со стрелкой 16"/>
          <p:cNvCxnSpPr>
            <a:stCxn id="112" idx="2"/>
          </p:cNvCxnSpPr>
          <p:nvPr/>
        </p:nvCxnSpPr>
        <p:spPr>
          <a:xfrm flipH="1">
            <a:off x="4139640" y="2060280"/>
            <a:ext cx="384840" cy="158508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Прямая со стрелкой 17"/>
          <p:cNvCxnSpPr>
            <a:stCxn id="112" idx="2"/>
          </p:cNvCxnSpPr>
          <p:nvPr/>
        </p:nvCxnSpPr>
        <p:spPr>
          <a:xfrm>
            <a:off x="4524480" y="2060280"/>
            <a:ext cx="2784960" cy="2881800"/>
          </a:xfrm>
          <a:prstGeom prst="straightConnector1">
            <a:avLst/>
          </a:prstGeom>
          <a:ln w="7632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0" name="Прямоугольник 22"/>
          <p:cNvSpPr/>
          <p:nvPr/>
        </p:nvSpPr>
        <p:spPr>
          <a:xfrm>
            <a:off x="1476360" y="5805360"/>
            <a:ext cx="4032360" cy="64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нтез гемогло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натомия тонкой киш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енка тонкой кишки образов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зистой оболоч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лизистой ткан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шечной и серозной обол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тон стр"/>
          <p:cNvPicPr/>
          <p:nvPr/>
        </p:nvPicPr>
        <p:blipFill>
          <a:blip r:embed="rId1"/>
          <a:stretch/>
        </p:blipFill>
        <p:spPr>
          <a:xfrm>
            <a:off x="685800" y="1600200"/>
            <a:ext cx="51814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609480" y="1522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асывание  - совокупность процессов, обеспечивающих перенос веществ из просвета кишки в кровь и лимф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i?id=0c2d86a693410b3273ff1748d6b1dd88-l&amp;n=13"/>
          <p:cNvPicPr/>
          <p:nvPr/>
        </p:nvPicPr>
        <p:blipFill>
          <a:blip r:embed="rId1"/>
          <a:stretch/>
        </p:blipFill>
        <p:spPr>
          <a:xfrm>
            <a:off x="1828800" y="2819520"/>
            <a:ext cx="5867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263680" y="22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Переваривание пищи в тонкой кишке завершается примерно за 4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304920" y="152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з тонкого кишечника пища поступает в толстую киш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Блог &quot;Прикол&quot;. Сегодня я об настоящих людоедах и об двойных стандартах в политике на их примере.. , Блог пользователя Прикол"/>
          <p:cNvPicPr/>
          <p:nvPr/>
        </p:nvPicPr>
        <p:blipFill>
          <a:blip r:embed="rId1"/>
          <a:stretch/>
        </p:blipFill>
        <p:spPr>
          <a:xfrm>
            <a:off x="304920" y="1752480"/>
            <a:ext cx="3498840" cy="26244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2666880" y="990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длина примерно 1,5-2 м и диаметр 4-8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3138120" y="144792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синки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9"/>
          <p:cNvSpPr/>
          <p:nvPr/>
        </p:nvSpPr>
        <p:spPr>
          <a:xfrm>
            <a:off x="4836960" y="6027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нчивается прямая кишка анальным отверс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Комментарии: Синдром раздраженной толстой кишки BeautyInfo"/>
          <p:cNvPicPr/>
          <p:nvPr/>
        </p:nvPicPr>
        <p:blipFill>
          <a:blip r:embed="rId2"/>
          <a:stretch/>
        </p:blipFill>
        <p:spPr>
          <a:xfrm>
            <a:off x="4356000" y="2744640"/>
            <a:ext cx="3041640" cy="30416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8"/>
          <p:cNvSpPr/>
          <p:nvPr/>
        </p:nvSpPr>
        <p:spPr>
          <a:xfrm>
            <a:off x="3726000" y="2058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дочная ки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7"/>
          <p:cNvSpPr/>
          <p:nvPr/>
        </p:nvSpPr>
        <p:spPr>
          <a:xfrm>
            <a:off x="684360" y="46530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ый отдел толстого кишечника — мешковидная слепая кишка с небольшим червеобразным отростком — аппендик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12"/>
          <p:cNvCxnSpPr/>
          <p:nvPr/>
        </p:nvCxnSpPr>
        <p:spPr>
          <a:xfrm flipV="1">
            <a:off x="3348000" y="4508280"/>
            <a:ext cx="1512000" cy="1447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36" name="Прямая со стрелкой 16"/>
          <p:cNvCxnSpPr/>
          <p:nvPr/>
        </p:nvCxnSpPr>
        <p:spPr>
          <a:xfrm flipV="1">
            <a:off x="4716360" y="4941360"/>
            <a:ext cx="540720" cy="10087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37" name="Прямая со стрелкой 18"/>
          <p:cNvCxnSpPr/>
          <p:nvPr/>
        </p:nvCxnSpPr>
        <p:spPr>
          <a:xfrm flipH="1" flipV="1">
            <a:off x="6011280" y="5622120"/>
            <a:ext cx="648360" cy="4057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38" name="Прямоугольник 19"/>
          <p:cNvSpPr/>
          <p:nvPr/>
        </p:nvSpPr>
        <p:spPr>
          <a:xfrm>
            <a:off x="7122960" y="4349880"/>
            <a:ext cx="202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мовидн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21"/>
          <p:cNvCxnSpPr/>
          <p:nvPr/>
        </p:nvCxnSpPr>
        <p:spPr>
          <a:xfrm flipH="1">
            <a:off x="5876280" y="2492280"/>
            <a:ext cx="369000" cy="75312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140" name="Прямоугольник 22"/>
          <p:cNvSpPr/>
          <p:nvPr/>
        </p:nvSpPr>
        <p:spPr>
          <a:xfrm>
            <a:off x="6956280" y="526896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к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24"/>
          <p:cNvCxnSpPr/>
          <p:nvPr/>
        </p:nvCxnSpPr>
        <p:spPr>
          <a:xfrm flipH="1">
            <a:off x="6658920" y="4811400"/>
            <a:ext cx="1369080" cy="13068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42" name="Прямая со стрелкой 26"/>
          <p:cNvCxnSpPr/>
          <p:nvPr/>
        </p:nvCxnSpPr>
        <p:spPr>
          <a:xfrm flipH="1" flipV="1">
            <a:off x="5876280" y="5157360"/>
            <a:ext cx="927720" cy="288000"/>
          </a:xfrm>
          <a:prstGeom prst="straightConnector1">
            <a:avLst/>
          </a:prstGeom>
          <a:ln w="381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539640" y="378936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слизистую оболочку толстой кишки интенсивно всасывается вода, минеральные соли. Специализированные микроорганизмы кишечника расщепляют целлюлозную клеточную стенку растительной пищи, а также остатки непереваренных бел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3492360" y="141300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толстого кишечника выделяют мало ферментов, но много слизи (смазка, для передвижения непереваренных остатк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Блог &quot;Прикол&quot;. Сегодня я об настоящих людоедах и об двойных стандартах в политике на их примере.. , Блог пользователя Прикол"/>
          <p:cNvPicPr/>
          <p:nvPr/>
        </p:nvPicPr>
        <p:blipFill>
          <a:blip r:embed="rId1"/>
          <a:srcRect l="41325" t="7622" r="0" b="20583"/>
          <a:stretch/>
        </p:blipFill>
        <p:spPr>
          <a:xfrm>
            <a:off x="539640" y="1052640"/>
            <a:ext cx="2776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: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щеварение в желудке и в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ишечник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особенностями пищеварения в желудке и кишечни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свойства ферментов желудочного сока, поджелудочной железы и печен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s://thumbs.dreamstime.com/b/%D0%BF%D0%B8%D1%89%D0%B5%D0%B2%D0%B0%D1%80%D0%B8%D1%82%D0%B5%D0%BB%D1%8C%D0%BD%D0%B0%D1%8F-%D1%81%D0%B8%D1%81%D1%82%D0%B5%D0%BC%D0%B0-29529235.jpg"/>
          <p:cNvPicPr/>
          <p:nvPr/>
        </p:nvPicPr>
        <p:blipFill>
          <a:blip r:embed="rId1"/>
          <a:stretch/>
        </p:blipFill>
        <p:spPr>
          <a:xfrm>
            <a:off x="5838840" y="1981080"/>
            <a:ext cx="2316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 Желудок – это полый мышечный орган, расположенный в левом подреберье и эпигастри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 Из желудка частично переваренная пища выводится в двенадцатиперстную кишк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    Начальный отдел тонкого кишечника длиной 25-30 см — двенадцатиперстная кишка, в которую открываются протоки печени и поджелудочной железы. На пищевую кашицу здесь действуют три пищеварительных сока: желчь печени, сок поджелудочной железы, сок кишечных желез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    Желудочный сок – жидкость, секретируемая желудочными железами и клетками эпителия слизистой оболочки желудка. Это бесцветная прозрачная жидкость, содержащая соляную кислоту (0,3-0,5%)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    По мере проникновения желудочного сока в пищевую массу начинается желудочная фаза пищеварения, в течение которой главным образом происходит расщепление б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457200" y="228600"/>
            <a:ext cx="84582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репление матери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удок служит резервуаром для накопления 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безврежи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и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ешне она напоминает грушу, вместимость его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 5-10 л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лость желудка выделяется желудочный сок. Желудочный сок – это прозрачная жидкость, 0,25%  объема составляет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углеводы.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действием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слюны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щихся в желудочном соке, начинается переваривани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….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в желудке задерживается 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9-10 часо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о мере превращения в полужидкую кашицу  и переваривания проходит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щевод.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200400" y="990720"/>
            <a:ext cx="34290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вар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114800" y="1766880"/>
            <a:ext cx="196056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-3 ли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348000"/>
            <a:ext cx="30481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ляная кисл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634080" y="334800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5829480" y="4114800"/>
            <a:ext cx="148572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172200" y="4576680"/>
            <a:ext cx="205740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-8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457200" y="5715000"/>
            <a:ext cx="220968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шеч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тур какого органа изображен на этом рисунк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29320" y="91332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a_n_06_03_j_cienkie_alfa"/>
          <p:cNvPicPr/>
          <p:nvPr/>
        </p:nvPicPr>
        <p:blipFill>
          <a:blip r:embed="rId1"/>
          <a:stretch/>
        </p:blipFill>
        <p:spPr>
          <a:xfrm>
            <a:off x="3965400" y="1959120"/>
            <a:ext cx="2233800" cy="1439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229320" y="20847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a_n_06_04_j_grubego_alfa"/>
          <p:cNvPicPr/>
          <p:nvPr/>
        </p:nvPicPr>
        <p:blipFill>
          <a:blip r:embed="rId2"/>
          <a:stretch/>
        </p:blipFill>
        <p:spPr>
          <a:xfrm>
            <a:off x="539640" y="4292640"/>
            <a:ext cx="2303640" cy="1584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229320" y="325656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0" descr="a_n_06_01_zoladek_alfa"/>
          <p:cNvPicPr/>
          <p:nvPr/>
        </p:nvPicPr>
        <p:blipFill>
          <a:blip r:embed="rId3"/>
          <a:stretch/>
        </p:blipFill>
        <p:spPr>
          <a:xfrm>
            <a:off x="3276720" y="4149720"/>
            <a:ext cx="2447640" cy="17272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229320" y="4428000"/>
            <a:ext cx="28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2" descr="a_n_06_02_watroba_alfa"/>
          <p:cNvPicPr/>
          <p:nvPr/>
        </p:nvPicPr>
        <p:blipFill>
          <a:blip r:embed="rId4"/>
          <a:stretch/>
        </p:blipFill>
        <p:spPr>
          <a:xfrm>
            <a:off x="6227640" y="4508640"/>
            <a:ext cx="2376720" cy="136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a_n_06_03_j_cienkie"/>
          <p:cNvPicPr/>
          <p:nvPr/>
        </p:nvPicPr>
        <p:blipFill>
          <a:blip r:embed="rId5"/>
          <a:stretch/>
        </p:blipFill>
        <p:spPr>
          <a:xfrm>
            <a:off x="3962520" y="1905120"/>
            <a:ext cx="2209680" cy="1447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a_n_06_04_j_grubego"/>
          <p:cNvPicPr/>
          <p:nvPr/>
        </p:nvPicPr>
        <p:blipFill>
          <a:blip r:embed="rId6"/>
          <a:stretch/>
        </p:blipFill>
        <p:spPr>
          <a:xfrm>
            <a:off x="533520" y="4267080"/>
            <a:ext cx="2286000" cy="1594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6" descr="a_n_06_01_zoladek"/>
          <p:cNvPicPr/>
          <p:nvPr/>
        </p:nvPicPr>
        <p:blipFill>
          <a:blip r:embed="rId7"/>
          <a:stretch/>
        </p:blipFill>
        <p:spPr>
          <a:xfrm>
            <a:off x="3276720" y="4114800"/>
            <a:ext cx="243828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a_n_06_02_watroba"/>
          <p:cNvPicPr/>
          <p:nvPr/>
        </p:nvPicPr>
        <p:blipFill>
          <a:blip r:embed="rId8"/>
          <a:stretch/>
        </p:blipFill>
        <p:spPr>
          <a:xfrm>
            <a:off x="6172200" y="4495680"/>
            <a:ext cx="2438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СТ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желудке начинается расщеплени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воды    б) белков   в) крахмала    г) жи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Расщепление питательных веществ происходит под влияние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витаминов            б) воды                в) ферм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отоки поджелудочной железы и печени открываются в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желудок    б) пищевод   в) 12-перстная кишка  г) тонкую киш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Желчь вырабатывается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поджелудочной железой    б) печенью  в) железами желуд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В 12-перстная кишке расщепляютс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только жиры   б) только крахмал  в) белки, жиры, крахмал  г) только бел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95480" y="1523520"/>
            <a:ext cx="1828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ерите правильные высказы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еварение и всасывание начинается в полости 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ь вырабатывается железам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ки перевариваются как в желудке, так и в тонком кишечн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бактерии кишечника синтезируют витам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тонит - воспаление аппенди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ь активизирует некоторые ферменты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псин - расщепляет жи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елудке кишке кислая ср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рменты- это биологические катализа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яная кислота играет роль активатора пепс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рные высказы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ищеварение и всасывание начинается в полости рта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елки перевариваются как в желудке, так и в тонком кишечнике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которые бактерии кишечника синтезируют витамины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Желчь активизирует некоторые ферменты поджелудочной железы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В желудке кишке кислая среда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Ферменты- это биологические катализаторы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Соляная кислота играет роль активатора пепсина.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ебнике стр.  182-188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абочей тетради №160-167 стр. 104-105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. Составить кроссворд по теме: Пищевар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ыло интересно узнать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ыло трудно понять, но все таки удалось, ч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было вообще не понятно, что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ый материал я смогу применить в жизни при (ситуации)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маленький за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ит кругл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слоту, фермент пеп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ому, что он 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воряет здесь бел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 всосались все они.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ргане этом всякое бы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лки и жиры здесь структуру меняю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ры желчь на части тихонько дроб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псин постепенно белки раств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! Здесь строго среда щелоч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ий здесь просто других не бы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6_34"/>
          <p:cNvPicPr/>
          <p:nvPr/>
        </p:nvPicPr>
        <p:blipFill>
          <a:blip r:embed="rId1"/>
          <a:stretch/>
        </p:blipFill>
        <p:spPr>
          <a:xfrm>
            <a:off x="3422520" y="285840"/>
            <a:ext cx="2298960" cy="628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6_34_"/>
          <p:cNvPicPr/>
          <p:nvPr/>
        </p:nvPicPr>
        <p:blipFill>
          <a:blip r:embed="rId2"/>
          <a:stretch/>
        </p:blipFill>
        <p:spPr>
          <a:xfrm>
            <a:off x="826920" y="0"/>
            <a:ext cx="73170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myzheludok.ru/wp-content/uploads/2015/10/4121233dd.jpg"/>
          <p:cNvPicPr/>
          <p:nvPr/>
        </p:nvPicPr>
        <p:blipFill>
          <a:blip r:embed="rId2"/>
          <a:stretch/>
        </p:blipFill>
        <p:spPr>
          <a:xfrm>
            <a:off x="1076400" y="1676520"/>
            <a:ext cx="6281640" cy="49622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0" y="136440"/>
            <a:ext cx="9144000" cy="1557000"/>
          </a:xfrm>
          <a:prstGeom prst="rect">
            <a:avLst/>
          </a:prstGeom>
          <a:solidFill>
            <a:srgbClr val="f8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ерхней части он заполнен воздухом. Воздушная пробка препятствует выходу пищи назад в пищевод. Эту же функцию выполняют специальные кольцевые мышцы, находящиеся у входа пищевода в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915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удочный сок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жидкость, секретируемая желудочными железами и клетками эпителия слизистой оболочки желу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543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удочный сок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ферменты, соляная кислота, слизь) вырабатывается многочисленными железами слизистой оболочки. 1кв.мм содержит около 100 желе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ы желудочного с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596880" y="1743120"/>
            <a:ext cx="8132760" cy="5121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84200" y="152280"/>
            <a:ext cx="865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-103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ункции желу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7"/>
          <p:cNvSpPr/>
          <p:nvPr/>
        </p:nvSpPr>
        <p:spPr>
          <a:xfrm>
            <a:off x="2268360" y="1341360"/>
            <a:ext cx="4104000" cy="64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ункции 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250920" y="3500280"/>
            <a:ext cx="2736720" cy="1152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ускулатура желу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9"/>
          <p:cNvSpPr/>
          <p:nvPr/>
        </p:nvSpPr>
        <p:spPr>
          <a:xfrm>
            <a:off x="1042920" y="2349360"/>
            <a:ext cx="2737080" cy="64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ханическа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5867280" y="2492280"/>
            <a:ext cx="2881440" cy="649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асывани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3348000" y="4797360"/>
            <a:ext cx="1440000" cy="647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 стрелкой 14"/>
          <p:cNvCxnSpPr/>
          <p:nvPr/>
        </p:nvCxnSpPr>
        <p:spPr>
          <a:xfrm flipH="1">
            <a:off x="1475640" y="2997000"/>
            <a:ext cx="935640" cy="5036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1" name="Прямая со стрелкой 17"/>
          <p:cNvCxnSpPr/>
          <p:nvPr/>
        </p:nvCxnSpPr>
        <p:spPr>
          <a:xfrm flipH="1">
            <a:off x="1979280" y="1988640"/>
            <a:ext cx="2305440" cy="36108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2" name="Прямая со стрелкой 19"/>
          <p:cNvCxnSpPr>
            <a:stCxn id="65" idx="2"/>
            <a:endCxn id="68" idx="0"/>
          </p:cNvCxnSpPr>
          <p:nvPr/>
        </p:nvCxnSpPr>
        <p:spPr>
          <a:xfrm>
            <a:off x="4319280" y="1989000"/>
            <a:ext cx="2989800" cy="5040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3" name="Прямая со стрелкой 25"/>
          <p:cNvCxnSpPr/>
          <p:nvPr/>
        </p:nvCxnSpPr>
        <p:spPr>
          <a:xfrm flipH="1">
            <a:off x="3923640" y="3213000"/>
            <a:ext cx="3385080" cy="165672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4" name="Прямая со стрелкой 29"/>
          <p:cNvCxnSpPr>
            <a:endCxn id="75" idx="0"/>
          </p:cNvCxnSpPr>
          <p:nvPr/>
        </p:nvCxnSpPr>
        <p:spPr>
          <a:xfrm flipH="1">
            <a:off x="5939640" y="3284640"/>
            <a:ext cx="1369080" cy="129744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6" name="Прямая со стрелкой 32"/>
          <p:cNvCxnSpPr>
            <a:endCxn id="77" idx="0"/>
          </p:cNvCxnSpPr>
          <p:nvPr/>
        </p:nvCxnSpPr>
        <p:spPr>
          <a:xfrm>
            <a:off x="7308360" y="3284280"/>
            <a:ext cx="72360" cy="216108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78" name="Прямая со стрелкой 34"/>
          <p:cNvCxnSpPr>
            <a:endCxn id="79" idx="0"/>
          </p:cNvCxnSpPr>
          <p:nvPr/>
        </p:nvCxnSpPr>
        <p:spPr>
          <a:xfrm>
            <a:off x="7380000" y="3212640"/>
            <a:ext cx="1043640" cy="1369080"/>
          </a:xfrm>
          <a:prstGeom prst="straightConnector1">
            <a:avLst/>
          </a:prstGeom>
          <a:ln w="57240">
            <a:solidFill>
              <a:srgbClr val="00206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79" name="Прямоугольник 38"/>
          <p:cNvSpPr/>
          <p:nvPr/>
        </p:nvSpPr>
        <p:spPr>
          <a:xfrm>
            <a:off x="7704000" y="4581360"/>
            <a:ext cx="1440000" cy="64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ха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9"/>
          <p:cNvSpPr/>
          <p:nvPr/>
        </p:nvSpPr>
        <p:spPr>
          <a:xfrm>
            <a:off x="6659640" y="5445000"/>
            <a:ext cx="1441440" cy="64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0"/>
          <p:cNvSpPr/>
          <p:nvPr/>
        </p:nvSpPr>
        <p:spPr>
          <a:xfrm>
            <a:off x="5219640" y="4581360"/>
            <a:ext cx="1440000" cy="64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пир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монстрационный опы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действие раствора соляной кислоты  на бе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рудова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ирка, полусваренный куриный белок, раствор соляной 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д  работы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бирку с полусваренным куриным белком дольем немного соляной кислоты и поместим ее в теплую воду  (38-39 С).   Через   20-30  мин   хлопья   белка  исчезнут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ясните,   почему  это произош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: в желудке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действием соляной кислоты и фермента пепсина - молекулы белков в кислой среде распадаются на различные аминокисл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08000" y="52200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желудка пищевая кашица небольшими порциями поступает в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кишечник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меющий три отдела: двенадцатиперстную, тощую и подвздошную кишки общей длиной 5-7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Тонкая кишка"/>
          <p:cNvPicPr/>
          <p:nvPr/>
        </p:nvPicPr>
        <p:blipFill>
          <a:blip r:embed="rId1"/>
          <a:stretch/>
        </p:blipFill>
        <p:spPr>
          <a:xfrm>
            <a:off x="2590920" y="1981080"/>
            <a:ext cx="4537080" cy="4470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3"/>
          <p:cNvSpPr/>
          <p:nvPr/>
        </p:nvSpPr>
        <p:spPr>
          <a:xfrm>
            <a:off x="5292720" y="1971720"/>
            <a:ext cx="1871640" cy="73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4905360" y="193500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двздошн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021040"/>
            <a:ext cx="2323800" cy="5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9"/>
          <p:cNvSpPr/>
          <p:nvPr/>
        </p:nvSpPr>
        <p:spPr>
          <a:xfrm>
            <a:off x="2627280" y="5734080"/>
            <a:ext cx="1513080" cy="67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647640" y="1901880"/>
            <a:ext cx="34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венадцатиперстн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2259000" y="598644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ощая ки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Прямая со стрелкой 7"/>
          <p:cNvCxnSpPr>
            <a:stCxn id="88" idx="3"/>
          </p:cNvCxnSpPr>
          <p:nvPr/>
        </p:nvCxnSpPr>
        <p:spPr>
          <a:xfrm>
            <a:off x="4140000" y="2317320"/>
            <a:ext cx="611640" cy="2581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1" name="Прямая со стрелкой 15"/>
          <p:cNvCxnSpPr/>
          <p:nvPr/>
        </p:nvCxnSpPr>
        <p:spPr>
          <a:xfrm flipH="1">
            <a:off x="5579640" y="2446200"/>
            <a:ext cx="144720" cy="119952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92" name="Прямая со стрелкой 17"/>
          <p:cNvCxnSpPr/>
          <p:nvPr/>
        </p:nvCxnSpPr>
        <p:spPr>
          <a:xfrm flipH="1" flipV="1">
            <a:off x="4140000" y="5228640"/>
            <a:ext cx="144720" cy="843480"/>
          </a:xfrm>
          <a:prstGeom prst="straightConnector1">
            <a:avLst/>
          </a:prstGeom>
          <a:ln w="381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2T06:39:16Z</dcterms:created>
  <dc:creator>USER</dc:creator>
  <dc:description/>
  <dc:language>en-US</dc:language>
  <cp:lastModifiedBy>Светлана</cp:lastModifiedBy>
  <dcterms:modified xsi:type="dcterms:W3CDTF">2022-02-16T18:51:5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