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A390-434B-42F4-956F-FDBD5E9A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D032-221F-4FCF-BF73-AFEDD4CB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49B-CF2A-4CB6-921A-D52D2C97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A15-6161-42F5-AA70-5E1E77FA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A7E2-8ECF-4B70-89A7-8C798308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452-E6F2-4C16-989F-2DBF5B9D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02F3-1EF9-4D0C-B62C-2C4564E9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AAAB-4F24-4CB8-BB31-F084F185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BBB-47B8-41D1-B41F-206569AE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02A-22FC-4A87-A733-B149CDE0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5C30-D0C7-413B-A340-2015C1C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855-59D7-4839-89B9-6117B3BA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2CA1-C03B-4E30-97CC-B807C65CD79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4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193240" cy="3481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lvl="1" marL="579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лизация в МАДОУ «ЦРР-Детский сад № 21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79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 «ЛГО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ПРОДОЛЖАЕМ РАБОТУ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утогенная трениров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флексия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лаксац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сихологический душ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Диагностика по методике В.В. Бойко «Исследование эмоционального выгорания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Измерение уровня проявления у педагогов эмоционального выгорания. Выявление педагогов с наличием синдром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Рисунок 5" descr="GRy5RcUWbiU.jpg"/>
          <p:cNvPicPr/>
          <p:nvPr/>
        </p:nvPicPr>
        <p:blipFill>
          <a:blip r:embed="rId1"/>
          <a:stretch/>
        </p:blipFill>
        <p:spPr>
          <a:xfrm>
            <a:off x="1447920" y="2743200"/>
            <a:ext cx="2771640" cy="3695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3qjSq5XcAW4.jpg"/>
          <p:cNvPicPr/>
          <p:nvPr/>
        </p:nvPicPr>
        <p:blipFill>
          <a:blip r:embed="rId2"/>
          <a:stretch/>
        </p:blipFill>
        <p:spPr>
          <a:xfrm>
            <a:off x="4876920" y="2743200"/>
            <a:ext cx="27716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Дискуссия «Плюсы и минусы профессии «Педагог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Помочь увидеть позитивные стороны профессии «Педагог» в сравнении с другими професси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PIC_1564"/>
          <p:cNvPicPr/>
          <p:nvPr/>
        </p:nvPicPr>
        <p:blipFill>
          <a:blip r:embed="rId1"/>
          <a:stretch/>
        </p:blipFill>
        <p:spPr>
          <a:xfrm>
            <a:off x="4343400" y="3124080"/>
            <a:ext cx="4578480" cy="2590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lhqAS2yAbvs.jpg"/>
          <p:cNvPicPr/>
          <p:nvPr/>
        </p:nvPicPr>
        <p:blipFill>
          <a:blip r:embed="rId2"/>
          <a:stretch/>
        </p:blipFill>
        <p:spPr>
          <a:xfrm>
            <a:off x="228600" y="3124080"/>
            <a:ext cx="35560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Тренинг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«Моя профессия – воспитатель!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1752480"/>
            <a:ext cx="9144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Развитие уверенности в себе как в педагоге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Содержимое 6" descr="QcWlBFiR2lI.jpg"/>
          <p:cNvPicPr/>
          <p:nvPr/>
        </p:nvPicPr>
        <p:blipFill>
          <a:blip r:embed="rId1"/>
          <a:stretch/>
        </p:blipFill>
        <p:spPr>
          <a:xfrm>
            <a:off x="762120" y="2133720"/>
            <a:ext cx="308592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NYODfvZSzGY.jpg"/>
          <p:cNvPicPr/>
          <p:nvPr/>
        </p:nvPicPr>
        <p:blipFill>
          <a:blip r:embed="rId2"/>
          <a:stretch/>
        </p:blipFill>
        <p:spPr>
          <a:xfrm>
            <a:off x="5105520" y="2133720"/>
            <a:ext cx="3028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руглый стол </a:t>
            </a:r>
            <a:br>
              <a:rPr sz="3600"/>
            </a:b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«Мы – профессионалы!»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Способствование осознанию своей ценности, стимулирование к передаче опыта молодым педагога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Рисунок 4" descr="xFrX4bl6guw.jpg"/>
          <p:cNvPicPr/>
          <p:nvPr/>
        </p:nvPicPr>
        <p:blipFill>
          <a:blip r:embed="rId1"/>
          <a:stretch/>
        </p:blipFill>
        <p:spPr>
          <a:xfrm>
            <a:off x="3124080" y="2362320"/>
            <a:ext cx="290520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Практикум по телесно-ориентированной терапии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Цель: Обучение методам и приемам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правленных на профилактику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возникновения стрессов, релаксацию. Провела: психолог  ДОУ Сергеева Э.Х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4" descr="PIC_1577"/>
          <p:cNvPicPr/>
          <p:nvPr/>
        </p:nvPicPr>
        <p:blipFill>
          <a:blip r:embed="rId1"/>
          <a:stretch/>
        </p:blipFill>
        <p:spPr>
          <a:xfrm>
            <a:off x="609480" y="342900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PIC_1578"/>
          <p:cNvPicPr/>
          <p:nvPr/>
        </p:nvPicPr>
        <p:blipFill>
          <a:blip r:embed="rId2"/>
          <a:stretch/>
        </p:blipFill>
        <p:spPr>
          <a:xfrm>
            <a:off x="5257800" y="1828800"/>
            <a:ext cx="3543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Тренинг </a:t>
            </a: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«Бесконфликтное общение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04920" y="1981080"/>
            <a:ext cx="40384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Цель: Предотвращение конфликтов, обучение проявлению чувства юмора в общении 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Содержимое 6" descr="EdG1rEVC-cA.jpg"/>
          <p:cNvPicPr/>
          <p:nvPr/>
        </p:nvPicPr>
        <p:blipFill>
          <a:blip r:embed="rId1"/>
          <a:stretch/>
        </p:blipFill>
        <p:spPr>
          <a:xfrm>
            <a:off x="4114800" y="2133720"/>
            <a:ext cx="484812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Коррекционная рабо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утогенная трениров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флексия деятель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елаксац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Психологический душ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PIC_1597"/>
          <p:cNvPicPr/>
          <p:nvPr/>
        </p:nvPicPr>
        <p:blipFill>
          <a:blip r:embed="rId1"/>
          <a:srcRect l="5907" t="10927" r="0" b="5463"/>
          <a:stretch/>
        </p:blipFill>
        <p:spPr>
          <a:xfrm>
            <a:off x="4267080" y="1447920"/>
            <a:ext cx="4437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 РЕАЛИЗАЦИИ ПРОЕКТА</a:t>
            </a:r>
            <a:br>
              <a:rPr sz="4400"/>
            </a:br>
            <a:br>
              <a:rPr sz="40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Дружная, сплоченная, работоспособная и конкурентноспособная команда педагог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риса</dc:creator>
  <dc:description/>
  <dc:language>en-US</dc:language>
  <cp:lastModifiedBy>Лариса</cp:lastModifiedBy>
  <dcterms:modified xsi:type="dcterms:W3CDTF">2022-04-24T07:35:4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