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D61-F9C4-43B1-A1B0-1269DF04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8C3-0348-4E78-A59A-6C7BB47B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4D4-89F7-44DC-A38E-A59395EC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1C4-4811-4702-8B01-792D84C4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DFD3D-4361-45B6-8D75-72074636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A4051-6091-439B-960E-660232E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7625C-A125-45A8-9F20-0D721DBA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4C7D8-306F-4340-B0D0-E7799CAA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FC700-4E9E-4C6A-BCF7-AA8F6532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8B6C2-6DCC-4227-9031-A72A596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D0B34-5390-4661-A218-54A56C8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1D2-E200-4C48-848F-CF28EC33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CF78C-53B5-4EFB-A5E4-6BDB4DA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C17C7-612A-4956-8DF9-566248A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8A034-0424-4017-9682-356C00D7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B371F-F47A-47E5-9C07-BF304CEA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014EE-7DC6-4830-BF6B-DB43A446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A69A-D0B5-455F-8A10-B9D1ACEC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862D-8C12-4A9D-B12B-559219D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C2A3-94E3-41D2-A031-B1EB2A82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F737-D40D-4E9F-A86D-2D34E91E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5B79-4D1E-4007-B87A-3ECE214E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E8D-E2FA-4CB6-AC71-75AFF964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EF482-8F03-4412-BE75-A7298893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764A-DA86-45C8-9099-566F9E5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7F01-847A-459B-8427-6CEF3283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D141-43F1-4324-B326-042EA24F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27F2-3630-4409-AFBE-EED16EC7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0842-5EC1-4924-B244-4FA5F341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E337-00EC-4803-8883-F7506CBC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52F50-A133-4FC0-AEAD-C59EDD1E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BAA14-6A57-4B35-B575-66370D34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695C5-D8A0-42DB-ACC8-F4CCB424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30D-4A17-4BD3-A85C-6AFF9804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71DC1A-40B7-4866-96D6-B3B3C651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43265-F67E-466F-91F7-D48182DE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01EE56-34B5-4A3E-9B01-1C55BA43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5141C-0005-4B3A-B281-82CDFCA0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B4311-48EA-4343-921C-168C8A06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2FEE5-1842-450F-A704-724E9C89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14027-531E-4CF3-BF30-A7796BE0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AE8B2-DBE9-45BE-A60C-AF553277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A62E0-EB1F-4D5D-B9DA-BCC8F3F9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68B-47F5-4CC3-9CF4-5BF3C068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86D-FE05-4A47-9378-E0E15B47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D41-DAF4-4214-BD56-4983D60E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E3A-120D-429E-B5F6-60EC606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630-A8FD-4AD6-8724-59B68F0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B9EB-63D7-42B8-BC57-16D7ECE1700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899-269A-418E-9B1A-00BE873C8D2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EF6-90C3-4B5B-9A35-DC37E87C814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FC1D-62DD-477F-99F9-F111CB46CEC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39640" y="52290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Гольская Оксана Валерье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69800" y="1828800"/>
            <a:ext cx="83026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469800" y="706320"/>
            <a:ext cx="8229600" cy="1592280"/>
          </a:xfrm>
          <a:prstGeom prst="rect">
            <a:avLst/>
          </a:prstGeom>
          <a:ln w="0">
            <a:noFill/>
          </a:ln>
        </p:spPr>
      </p:pic>
      <p:pic>
        <p:nvPicPr>
          <p:cNvPr id="197" name="Объект 6" descr=""/>
          <p:cNvPicPr/>
          <p:nvPr/>
        </p:nvPicPr>
        <p:blipFill>
          <a:blip r:embed="rId2"/>
          <a:stretch/>
        </p:blipFill>
        <p:spPr>
          <a:xfrm>
            <a:off x="2411280" y="2421000"/>
            <a:ext cx="48801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Объект 3" descr=""/>
          <p:cNvPicPr/>
          <p:nvPr/>
        </p:nvPicPr>
        <p:blipFill>
          <a:blip r:embed="rId1"/>
          <a:stretch/>
        </p:blipFill>
        <p:spPr>
          <a:xfrm>
            <a:off x="1035000" y="1773360"/>
            <a:ext cx="2652840" cy="3311280"/>
          </a:xfrm>
          <a:prstGeom prst="rect">
            <a:avLst/>
          </a:prstGeom>
          <a:ln w="0">
            <a:noFill/>
          </a:ln>
        </p:spPr>
      </p:pic>
      <p:pic>
        <p:nvPicPr>
          <p:cNvPr id="199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36080" cy="15051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3"/>
          <a:stretch/>
        </p:blipFill>
        <p:spPr>
          <a:xfrm>
            <a:off x="4284720" y="3284640"/>
            <a:ext cx="4103640" cy="28432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930240" y="5084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ригорий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5168880" y="273672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ннокентий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684360" y="6253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роли некоторых европейских стран стали вассалами папы римского!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лучение от церкв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Интердикт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 – запрет исполнять обряды и проводить богослуж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рательные военные поход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здание инквизиции. </a:t>
            </a: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Инквизиция – </a:t>
            </a:r>
            <a:r>
              <a:rPr b="0" i="1" lang="ru-RU" sz="2600" spc="-1" strike="noStrike">
                <a:solidFill>
                  <a:srgbClr val="f2f2f2"/>
                </a:solidFill>
                <a:latin typeface="Constantia"/>
              </a:rPr>
              <a:t>церковный су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Constantia"/>
              </a:rPr>
              <a:t>Жестокие наказания с применением пыто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Constantia"/>
              </a:rPr>
              <a:t>Основание и поддержка нищенствующего орденов монах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Constantia"/>
              </a:rPr>
              <a:t>Какую роль играла католическая церковь в жизни средневекового общества</a:t>
            </a:r>
            <a:r>
              <a:rPr b="0" lang="ru-RU" sz="2600" spc="-1" strike="noStrike">
                <a:solidFill>
                  <a:srgbClr val="f2f2f2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4" descr=""/>
          <p:cNvPicPr/>
          <p:nvPr/>
        </p:nvPicPr>
        <p:blipFill>
          <a:blip r:embed="rId1"/>
          <a:stretch/>
        </p:blipFill>
        <p:spPr>
          <a:xfrm>
            <a:off x="457200" y="878040"/>
            <a:ext cx="8229600" cy="4784400"/>
          </a:xfrm>
          <a:prstGeom prst="rect">
            <a:avLst/>
          </a:prstGeom>
          <a:ln w="0">
            <a:noFill/>
          </a:ln>
        </p:spPr>
      </p:pic>
      <p:pic>
        <p:nvPicPr>
          <p:cNvPr id="175" name="Заголовок 2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8454960" cy="10731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"/>
          <p:cNvSpPr/>
          <p:nvPr/>
        </p:nvSpPr>
        <p:spPr>
          <a:xfrm>
            <a:off x="647640" y="57610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onstantia"/>
              </a:rPr>
              <a:t>Духовенство относилось к I сословию, самому главному. Ведь церковь считалась посредником между людьми и Богом!!!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читайте раздел 2 на стр.125-126 и ответьте на устно на вопросы, запишите термины в тетрад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Что такое десятина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2. Что такое священные реликвии и мощ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3. Как назывались специальные папские грамоты о прощении грехов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4. Каким еще образом католическая церковь добывала себе богатство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Содержимое 3" descr="97195936460047.jpg"/>
          <p:cNvPicPr/>
          <p:nvPr/>
        </p:nvPicPr>
        <p:blipFill>
          <a:blip r:embed="rId1"/>
          <a:stretch/>
        </p:blipFill>
        <p:spPr>
          <a:xfrm>
            <a:off x="2340000" y="2205000"/>
            <a:ext cx="4529160" cy="4278240"/>
          </a:xfrm>
          <a:prstGeom prst="rect">
            <a:avLst/>
          </a:prstGeom>
          <a:ln w="0">
            <a:noFill/>
          </a:ln>
        </p:spPr>
      </p:pic>
      <p:pic>
        <p:nvPicPr>
          <p:cNvPr id="180" name="Заголовок 2" descr=""/>
          <p:cNvPicPr/>
          <p:nvPr/>
        </p:nvPicPr>
        <p:blipFill>
          <a:blip r:embed="rId2"/>
          <a:stretch/>
        </p:blipFill>
        <p:spPr>
          <a:xfrm>
            <a:off x="360360" y="341280"/>
            <a:ext cx="844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3" descr=""/>
          <p:cNvPicPr/>
          <p:nvPr/>
        </p:nvPicPr>
        <p:blipFill>
          <a:blip r:embed="rId1"/>
          <a:stretch/>
        </p:blipFill>
        <p:spPr>
          <a:xfrm>
            <a:off x="457200" y="835200"/>
            <a:ext cx="8229600" cy="5260680"/>
          </a:xfrm>
          <a:prstGeom prst="rect">
            <a:avLst/>
          </a:prstGeom>
          <a:ln w="0">
            <a:noFill/>
          </a:ln>
        </p:spPr>
      </p:pic>
      <p:pic>
        <p:nvPicPr>
          <p:cNvPr id="182" name="Заголовок 2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427640" y="17002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onstantia"/>
              </a:rPr>
              <a:t>Догматы (истины в религии, не требующие доказательств) в христианстве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ение о Троиц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 непорочном зачатии Христа (от Духа Божьего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Церковь – единственный посредник между богом и людьм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Картинки по запросу разделение церквей"/>
          <p:cNvPicPr/>
          <p:nvPr/>
        </p:nvPicPr>
        <p:blipFill>
          <a:blip r:embed="rId2"/>
          <a:stretch/>
        </p:blipFill>
        <p:spPr>
          <a:xfrm>
            <a:off x="1042920" y="1844640"/>
            <a:ext cx="30402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530280" y="122400"/>
            <a:ext cx="8381880" cy="1420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Картинки по запросу разделение церквей анафема"/>
          <p:cNvPicPr/>
          <p:nvPr/>
        </p:nvPicPr>
        <p:blipFill>
          <a:blip r:embed="rId2"/>
          <a:stretch/>
        </p:blipFill>
        <p:spPr>
          <a:xfrm>
            <a:off x="1519200" y="1557360"/>
            <a:ext cx="6105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611280" y="1989000"/>
          <a:ext cx="8229600" cy="3052800"/>
        </p:xfrm>
        <a:graphic>
          <a:graphicData uri="http://schemas.openxmlformats.org/drawingml/2006/table">
            <a:tbl>
              <a:tblPr/>
              <a:tblGrid>
                <a:gridCol w="2376360"/>
                <a:gridCol w="2879640"/>
                <a:gridCol w="2973600"/>
              </a:tblGrid>
              <a:tr h="76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осточная церков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православна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падная церков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католическа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763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ава церк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зык богослу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6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му нельзя вступать в бр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189" name="Заголовок 2" descr=""/>
          <p:cNvPicPr/>
          <p:nvPr/>
        </p:nvPicPr>
        <p:blipFill>
          <a:blip r:embed="rId1"/>
          <a:stretch/>
        </p:blipFill>
        <p:spPr>
          <a:xfrm>
            <a:off x="530280" y="71280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5"/>
          <p:cNvSpPr/>
          <p:nvPr/>
        </p:nvSpPr>
        <p:spPr>
          <a:xfrm>
            <a:off x="3106800" y="2786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Византийский патриарх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6084720" y="2924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Папа Римский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3348000" y="3645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Греческий или местные язык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6012000" y="3716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Латинский язы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3203640" y="4508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Только монахам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6227640" y="44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Всем священникам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37:33Z</dcterms:created>
  <dc:creator>Оксана</dc:creator>
  <dc:description/>
  <dc:language>en-US</dc:language>
  <cp:lastModifiedBy>User</cp:lastModifiedBy>
  <dcterms:modified xsi:type="dcterms:W3CDTF">2021-10-03T11:56:56Z</dcterms:modified>
  <cp:revision>24</cp:revision>
  <dc:subject/>
  <dc:title>Могущество папской власти. Католическая церковь и еретики</dc:title>
</cp:coreProperties>
</file>