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F7A-159F-4544-8EB1-F97D20950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6BE-3884-4FBB-8271-830E6B276D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77D-9C80-48B9-B4AC-1B4A4A40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2FA-E141-433C-8736-CEDC58E8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4CF-989A-4A33-B3AA-E36EBF23B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E88-E86D-4E6C-BBDF-1E77816B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6F02-FB9A-45D4-837B-73669DEA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828-FE87-4279-B324-72B1174A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9F9-1F71-4C0B-8E00-6E116C9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070A-8F61-43A6-B709-495CD3EB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651-8AF6-43F9-87CD-1F33CFC1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2BA-01D2-4F06-A560-5D12E4B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99A-9CE6-47C6-A7EF-86DFC6B0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176-D19D-4A4F-9FC8-E0B507DB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C8F1-6014-4BD6-B3D8-552DF5870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8600" y="609480"/>
            <a:ext cx="86104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нновацион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ехнолог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 уроках англий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343400" y="35370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заверш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На данном этап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яется демонстрация полученных результат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щит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тем пров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6607080" y="3452760"/>
            <a:ext cx="1104840" cy="1720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"/>
          <p:cNvPicPr/>
          <p:nvPr/>
        </p:nvPicPr>
        <p:blipFill>
          <a:blip r:embed="rId2"/>
          <a:stretch/>
        </p:blipFill>
        <p:spPr>
          <a:xfrm>
            <a:off x="7170840" y="1273320"/>
            <a:ext cx="1447560" cy="208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tretch/>
        </p:blipFill>
        <p:spPr>
          <a:xfrm>
            <a:off x="7678800" y="4495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 Black"/>
              </a:rPr>
              <a:t>Scrum - 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анд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ммун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ритическое 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Личный достижения ав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ие в онлайн тестирование по теме «Применение методик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роках», диплом 1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ление об использование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технологии на уроках английского языка в рамках сеанса В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анский заочный конкурс педагогического мастерства РостОК , организованный ГАОУ «РОЦ», г.Казань, диплом победителя 2 степ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спубликанского конкурса «Современные подходы к организации воспитательно - образовательного процесса в соответствии с ФГОС», г. Наб.Челны, диплом 3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ональные педагогические чтения, г. Чистополь, диплом побед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технология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хнология для реал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здание команды со своими идеями, огромным опытом и безграничной энергией, идущей в ногу со временем, стремящейся к достижению лучших результатов.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304920"/>
            <a:ext cx="84582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ть учащимся возможность научиться учитьс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ысить мотивацию к позн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Практическая значимост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ика проведения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rum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урока поможет в проведении проектных уроков/занятий по англий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68160" y="304920"/>
            <a:ext cx="84582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Методик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овед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5400" spc="-1" strike="noStrike">
                <a:solidFill>
                  <a:srgbClr val="ff3300"/>
                </a:solidFill>
                <a:latin typeface="Arial"/>
              </a:rPr>
              <a:t>Scrum-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одготовительный 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 Black"/>
              </a:rPr>
              <a:t>«Маршрутный лис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Цел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мысловые ед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ребования к конечному продук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роки и формы приема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6324480" y="141444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"/>
          <p:cNvPicPr/>
          <p:nvPr/>
        </p:nvPicPr>
        <p:blipFill>
          <a:blip r:embed="rId3"/>
          <a:stretch/>
        </p:blipFill>
        <p:spPr>
          <a:xfrm>
            <a:off x="7381800" y="33526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рганизация учащихся                    в проектн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бор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а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накомство с «маршрутным листо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ределение задач (реализации) спри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формление 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Scru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- до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7734240" y="1779480"/>
            <a:ext cx="1104840" cy="1722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"/>
          <p:cNvPicPr/>
          <p:nvPr/>
        </p:nvPicPr>
        <p:blipFill>
          <a:blip r:embed="rId2"/>
          <a:stretch/>
        </p:blipFill>
        <p:spPr>
          <a:xfrm>
            <a:off x="6586560" y="611280"/>
            <a:ext cx="144792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"/>
          <p:cNvPicPr/>
          <p:nvPr/>
        </p:nvPicPr>
        <p:blipFill>
          <a:blip r:embed="rId3"/>
          <a:stretch/>
        </p:blipFill>
        <p:spPr>
          <a:xfrm>
            <a:off x="7458120" y="375300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Этап реал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Учащиеся, рабо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 командах, выполняют различн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дача счит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ыполненной, ес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е члены команды е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свои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7491240" y="1828800"/>
            <a:ext cx="110520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"/>
          <p:cNvPicPr/>
          <p:nvPr/>
        </p:nvPicPr>
        <p:blipFill>
          <a:blip r:embed="rId2"/>
          <a:stretch/>
        </p:blipFill>
        <p:spPr>
          <a:xfrm>
            <a:off x="6202440" y="419040"/>
            <a:ext cx="14475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6997680" y="3287880"/>
            <a:ext cx="1305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3T09:48:58Z</dcterms:created>
  <dc:creator>Администратор</dc:creator>
  <dc:description/>
  <dc:language>en-US</dc:language>
  <cp:lastModifiedBy>Пользователь Windows</cp:lastModifiedBy>
  <dcterms:modified xsi:type="dcterms:W3CDTF">2022-03-29T12:41:25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