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481-4080-4DDD-953D-013AA05C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51DB-4868-486C-AB47-0F2CD881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351-7975-46B5-9AB2-73FB2A9E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C978-1B4C-4B04-8A88-F37517DA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7222-6BD8-4A76-A54B-80DA81E7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60AD-9587-4864-B45D-D591B7E9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ACF4-E5BB-431D-BAA6-52384612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CD92-F4C1-4E3A-A74F-4E8F94E6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B0E8-C972-487C-AE05-FC926C70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9002-1B6C-4672-AAC5-092365CE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D40D-2F78-4C7A-9356-23A1B470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ED8-A1C9-44DB-AEDD-5298AAFC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1FDF-D4DE-4E3D-9F6E-FA3D4712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CE7B-7BFD-4BA2-B306-13D25642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D921-506D-477D-B38E-007F030F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9C39-E02C-4B22-B5BD-50427D28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0D70-F26F-4D45-BAFE-E16C8D86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53292-03E4-4BB9-B119-90EE6487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A4448-643F-441F-8EDB-B77EB14E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21C5F-8556-4BEC-A24E-04CAEBB9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29798-9BE6-45B2-913C-038A5A3C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DB5FC-F42A-44B7-807F-5FE6098C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FEF-31D9-4440-BCF5-4D0391E3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EDA2-8797-4BBA-82A7-1052E1EA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89F17-05CB-4DEF-8B3A-B843FE74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73820-1688-4277-8709-64219876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4791E-C509-46AB-97E0-57499AC6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FD935-97EB-4BC9-BB88-FF747963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528E7-0E8A-4ECC-A597-339D4F84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BC7FF-0600-4AE0-B682-E5DE24FF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07189-635A-4EF3-8FB1-DDB01932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FBE0E-70FC-4097-8CB3-AB407AEB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7D11E-4E51-4473-B576-FE8E4E9F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DFAC-35A5-4CEB-83E2-34940ED0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C138F-640C-4FE2-ABF9-525A9CC4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1380D-E3AE-43CA-96F5-125DADA3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38B4A-AF90-48D3-A5D7-76C98832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7888E-E7AE-4D43-A8F9-2E9E2B1A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BC12A-A962-4082-B082-0B599C72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EF839-5B7B-4AE4-BCA7-D47200F7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DA384-4232-45BF-AD33-27566E54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1BDB0-627F-44AB-8A76-87D9DAA1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C0F9C-606C-40F4-A699-01B3DF35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1D0-0C5D-46BB-9588-3463A71F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23D-BA94-4087-A8BD-EA79BA91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7503-FE65-498D-846C-A7C11E22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695-4DC6-49EC-95D2-A8A2C783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9482-06B9-4FFB-8801-447867E4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E68C-DC57-450F-BDEE-B34261D1016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8E59-370B-4094-B2DB-94784F03E883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B4B4-A42B-4231-A580-F60B1B688CF4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7E66-ABBF-42C0-882D-CEB0DAC3300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БОУ «Средняя общеобразовательная школа №1»</a:t>
            </a:r>
            <a:br>
              <a:rPr sz="2200"/>
            </a:br>
            <a:r>
              <a:rPr b="0" lang="ru-RU" sz="2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г. Мичуринска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ый урок по теме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шение химических задач с математическим содержанием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имия и математика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анова Людмила Ивановн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химии высше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сова Татьяна Васильев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высше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ы 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ча 1 -  40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ча 2 – СН3О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ча 3 – СН5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ча 4 -  НСООН (муравьиная кислота) – 33,3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2Н5ОН – 66,7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 нейтрализацию 15,2г смеси муравьиной и уксусной кислот потребовалось 120г 10% раствора гидроксида натрия. Вычислите массовые доли кислот в исходной смес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месь изомерных м- и о-алкилфенолов массой 32,4г может вступить во взаимодействие с водным раствором, содержащим 128г брома. Такое же количество смеси может  нейтрализовать 16,8г едкого кали. Определите состав смес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е строение сложного  эфира α-аминокислоты, если известно, что он содержит 15,37% азот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357120" y="2143080"/>
          <a:ext cx="8501040" cy="2928960"/>
        </p:xfrm>
        <a:graphic>
          <a:graphicData uri="http://schemas.openxmlformats.org/drawingml/2006/table">
            <a:tbl>
              <a:tblPr/>
              <a:tblGrid>
                <a:gridCol w="1908360"/>
                <a:gridCol w="920520"/>
                <a:gridCol w="986040"/>
                <a:gridCol w="987480"/>
                <a:gridCol w="874440"/>
                <a:gridCol w="874800"/>
                <a:gridCol w="1030320"/>
                <a:gridCol w="919080"/>
              </a:tblGrid>
              <a:tr h="19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сятич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цент,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Индивидуальная рабо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Некоторый углеводород содержит 11,76% водорода по массе. Известно, что молекула этого углеводорода содержит один третичный атом углерода. Установлено, что этот углеводород может взаимодействовать с аммиачным раствором оксида серебра. Установите молекулярную формулу исходного органического вещества, составьте структурную формулу этого соединения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Органическое вещесво, массовая доля углерода в котором составляет 0,6206, водорода – 0,1032, кислорода – 0,2758, имеет относительную плотность паров по воздуху, равную 2. Установлено, что вещество не реагирует с гидроксидом меди (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), но вступает в реакцию с хлоридом фосфора (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). Установите молекулярную формулу исходного органического вещества, составьте структурную формулу этого соединения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Оганическое вещество содержит 40% углерода, 53,3% кислорода, 6,6% водорода. Известно, что это соединение  взаимодействует гдроксидом калия, но не реагирует с калием. Установите молекулярную формулу исходного органического вещества, составьте структурную формулу этого соединения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Массовая доля хлора в монохлоралкане 38,38%. Установите молекулярную формулу исходного органического вещества, составьте структурную формулу этого соединения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ы к задача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 – С(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С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    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О –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НСОО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Фронтальная работа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задания муниципального этапа 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сОШ по химии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кислени 1,18г смеси муравьиного и уксусного альдегидов избытком аммиачного раствора оксида серебра образовалось 8,64г осадка. Определите массовую долю альдегидов в смес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ксусный альдегид – 25,4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уравьиный альдегид-74,6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Фронтальная работа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задания муниципального этапа 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сОШ по химии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,6г смеси трех органических кислот – муравьиной, уксусной и щавелевой – разделили на две равные части. При полном сгорании первой части выделилось 20,16л газа. Для нейтрализаци второй  части смеси было израсходовано 400г 14% раствора едкого натра. Какой состав имела анализируемая смесь кисло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уравьиная кислота – 13,8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ксусная кислота – 12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Щавелевая кислота – 9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дачи для работы в группах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месь бутена-1 и бутадиена-1,2 объемом 1,12л может максимально обесцветить 400г бромной воды с массовой долей брома 3,2%. Определите объемную долю бутен-1 в исходной смес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результатет межмолекулярной дегидратации предельного одноатомного спирта образовался простой эфир, массовая доля углерода в котором равна 52,17%. Установите молекулярную формулу спир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ведите молекулярную формулу органического вещества, содержащего 38,7% углерода, 16,2% водорода и азот. Относительная плотность этого вещества по водороду равна 15,5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и действии натрия на 27,6г смеси этилового спирта и предельной одноосновной кислоты выделяется 6,72л газа, а при действии на ту  же смесь насыщенного раствора гидрокарбоната натрия – 2,24л газа. Определите состав исходной  смеси ( в % по массе) и строение органической кислот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1T17:02:41Z</dcterms:created>
  <dc:creator>1</dc:creator>
  <dc:description/>
  <dc:language>en-US</dc:language>
  <cp:lastModifiedBy>Учительская</cp:lastModifiedBy>
  <dcterms:modified xsi:type="dcterms:W3CDTF">2021-11-17T15:53:36Z</dcterms:modified>
  <cp:revision>27</cp:revision>
  <dc:subject/>
  <dc:title>Решение химических задач с математическим содержанием</dc:title>
</cp:coreProperties>
</file>