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1.gif" ContentType="image/gif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2DCF-5921-4687-BEAF-AE1907B3D1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ина Елена Александровна, учитель русского языка и литературы МОУ «СОШ № 62» г. Барнау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8397-C07E-4C49-940C-734F7743B0B6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ина Елена Александровна, учитель русского языка и литературы МОУ «СОШ № 62» г. Барнау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93F5-CCF1-41CA-A9DB-21DB57500450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B7B-F36D-406E-A162-DC1DFFBF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B805-FA0C-4339-A26A-A7766C65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DA6-E966-44F1-9C8E-836DF038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744-D5BF-483F-ACE3-39DC1934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4467-B6B1-4A12-98D7-669CAF3E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21F7-6AF9-47BD-ABF7-8CD9F2B9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0A7B-5EF3-45EF-B4D5-AE28017D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4D62-87D0-42F6-B356-BAB3D391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5DBA-9A34-4278-9019-A436E005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D5A7-41F9-4867-9432-3ACFC37F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F31A-84B3-47CB-B231-B3B1BE04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1F4-54F8-48C1-9AF6-4183F550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BBE0-D67C-4EDF-9478-50B01D20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C7E5-CFE8-493D-AFD6-CC2D738E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DC51-DD42-4E5B-B08F-6D89E386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791C-749B-46D5-A95A-9950A5AD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9760-226C-4258-9DC0-8E3C5598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1B9DA-F2C1-459A-B445-A51249EA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46D89-DA00-4992-9B25-48BF5B86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4A42A-633E-456F-BD5D-ADF02E67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29F39-5EE8-48EF-8A6A-9EA30D4F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D4F8E-7A04-43F9-BA98-7FE5E579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E49-AAFF-46AC-AF34-85640D7F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FC978-AB2F-4AD0-8B64-51D0E6F6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BAD84-3FC4-43BB-8DDB-7E0FCEF2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5DEDC-53C2-4E1E-A1E1-24617216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8C06C-9643-4ECA-94C3-5D2D9455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2E180-09E7-4694-B81B-23D49193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CEC76-1194-481A-9E2C-C1FCB9D1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9A972-238A-4890-B2D8-32FFBE63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0AE-F9BA-45A0-A980-86A0E82F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2EA-2E76-40E0-8E00-92C6B1B4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8AD-455F-4C3B-AF05-0D852EE7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BF72-289C-490F-9173-177144FA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CCD-449C-4D00-B05F-17592896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BE2-638D-4696-898D-A4F1E004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37AE-82A4-4424-9806-54F50DAF08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0442-12F0-4D8A-A765-C20EF33194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8883-A9AF-4A99-A16C-698EE33063A5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lh4.ggpht.com/litopys/SONc6Rp7eeI/AAAAAAAABcE/3cS1BBYYKf0/s400/nb_pinacoteca_bryullov_karl_portrait_of_v_a_zhukovsky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Объект 3" descr=""/>
          <p:cNvPicPr/>
          <p:nvPr/>
        </p:nvPicPr>
        <p:blipFill>
          <a:blip r:embed="rId1"/>
          <a:stretch/>
        </p:blipFill>
        <p:spPr>
          <a:xfrm>
            <a:off x="1442880" y="990720"/>
            <a:ext cx="7701120" cy="586728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2" descr=""/>
          <p:cNvPicPr/>
          <p:nvPr/>
        </p:nvPicPr>
        <p:blipFill>
          <a:blip r:embed="rId2"/>
          <a:stretch/>
        </p:blipFill>
        <p:spPr>
          <a:xfrm>
            <a:off x="-274680" y="36360"/>
            <a:ext cx="977256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" descr=""/>
          <p:cNvPicPr/>
          <p:nvPr/>
        </p:nvPicPr>
        <p:blipFill>
          <a:blip r:embed="rId1"/>
          <a:srcRect l="0" t="53751" r="21113" b="20625"/>
          <a:stretch/>
        </p:blipFill>
        <p:spPr>
          <a:xfrm>
            <a:off x="1828800" y="0"/>
            <a:ext cx="6248520" cy="23623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231" name="Picture 2" descr=""/>
          <p:cNvPicPr/>
          <p:nvPr/>
        </p:nvPicPr>
        <p:blipFill>
          <a:blip r:embed="rId2"/>
          <a:srcRect l="0" t="36877" r="2220" b="39378"/>
          <a:stretch/>
        </p:blipFill>
        <p:spPr>
          <a:xfrm>
            <a:off x="1752480" y="2666880"/>
            <a:ext cx="6705720" cy="1981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32" name="Picture 3" descr=""/>
          <p:cNvPicPr/>
          <p:nvPr/>
        </p:nvPicPr>
        <p:blipFill>
          <a:blip r:embed="rId3"/>
          <a:srcRect l="0" t="44377" r="2220" b="45000"/>
          <a:stretch/>
        </p:blipFill>
        <p:spPr>
          <a:xfrm>
            <a:off x="1676520" y="5029200"/>
            <a:ext cx="6705360" cy="1295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1447920" y="482040"/>
            <a:ext cx="7696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ОЛИЦЕТВОРЕНИЕ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Образное определение, употребляемое чаще всего в переносном значении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РАВНЕНИЕ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Скрытое сравнение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МЕТАФОРА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Приём выразительности речи, при котором неживые предметы наделены свойствами живых существ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ЭПИТЕТ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Выразительное средство языка, при котором один предмет или явление уподобляется другому 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3364560" y="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«Перепутанная цепочка»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99840" y="1142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437040" indent="-437040"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Что привлекает в стихотворении, о чём оно 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437040" indent="-437040"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Какое настроение оно выражает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437040" indent="-437040"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а основании каких образов развивается художественный смысл стихотворения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437040" indent="-437040"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Какими изобразительно- выразительными средствами пользуется автор?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437040" indent="-437040"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Чем необычно стихотворение? В чём его неповторимость?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437040" indent="-437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6" name="Номер слайда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3796-02B8-4550-86D6-D1ED32673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5" descr="http://inalchik.ru/wp-content/uploads/2015/05/%D0%90%D0%BB%D0%B8%D0%BC-%D0%9A%D0%B5%D1%88%D0%BE%D0%BA%D0%BE%D0%B2.jpg"/>
          <p:cNvPicPr/>
          <p:nvPr/>
        </p:nvPicPr>
        <p:blipFill>
          <a:blip r:embed="rId1"/>
          <a:stretch/>
        </p:blipFill>
        <p:spPr>
          <a:xfrm>
            <a:off x="4022640" y="3638520"/>
            <a:ext cx="2244960" cy="240192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14"/>
          <p:cNvSpPr/>
          <p:nvPr/>
        </p:nvSpPr>
        <p:spPr>
          <a:xfrm>
            <a:off x="1143360" y="594360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М.Пачев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 Весна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Прямоугольник 15"/>
          <p:cNvSpPr/>
          <p:nvPr/>
        </p:nvSpPr>
        <p:spPr>
          <a:xfrm>
            <a:off x="4042800" y="601992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А.П. Кешоков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 Родная земля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40" name="i-main-pic" descr="Картинка 4 из 1389"/>
          <p:cNvPicPr/>
          <p:nvPr/>
        </p:nvPicPr>
        <p:blipFill>
          <a:blip r:embed="rId2"/>
          <a:stretch/>
        </p:blipFill>
        <p:spPr>
          <a:xfrm>
            <a:off x="4413240" y="-6480"/>
            <a:ext cx="1768320" cy="2451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Бунин"/>
          <p:cNvPicPr/>
          <p:nvPr/>
        </p:nvPicPr>
        <p:blipFill>
          <a:blip r:embed="rId3"/>
          <a:stretch/>
        </p:blipFill>
        <p:spPr>
          <a:xfrm>
            <a:off x="6931080" y="-6480"/>
            <a:ext cx="1987560" cy="2603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Картинка 1 из 597"/>
          <p:cNvPicPr/>
          <p:nvPr/>
        </p:nvPicPr>
        <p:blipFill>
          <a:blip r:embed="rId4"/>
          <a:stretch/>
        </p:blipFill>
        <p:spPr>
          <a:xfrm>
            <a:off x="1444680" y="-6480"/>
            <a:ext cx="1914480" cy="253044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22"/>
          <p:cNvSpPr/>
          <p:nvPr/>
        </p:nvSpPr>
        <p:spPr>
          <a:xfrm>
            <a:off x="1375200" y="274320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00"/>
                </a:solidFill>
                <a:uFillTx/>
                <a:latin typeface="Times New Roman"/>
              </a:rPr>
              <a:t>В. А. Жуковский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00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00"/>
                </a:solidFill>
                <a:uFillTx/>
                <a:latin typeface="Times New Roman"/>
              </a:rPr>
              <a:t>«Приход весны»</a:t>
            </a: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Прямоугольник 23"/>
          <p:cNvSpPr/>
          <p:nvPr/>
        </p:nvSpPr>
        <p:spPr>
          <a:xfrm>
            <a:off x="3962520" y="2743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00"/>
                </a:solidFill>
                <a:uFillTx/>
                <a:latin typeface="Times New Roman"/>
              </a:rPr>
              <a:t>А.К.Толстой « Край ты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00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00"/>
                </a:solidFill>
                <a:uFillTx/>
                <a:latin typeface="Times New Roman"/>
              </a:rPr>
              <a:t>мой, родимый край..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Прямоугольник 24"/>
          <p:cNvSpPr/>
          <p:nvPr/>
        </p:nvSpPr>
        <p:spPr>
          <a:xfrm>
            <a:off x="6693480" y="28954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00"/>
                </a:solidFill>
                <a:uFillTx/>
                <a:latin typeface="Times New Roman"/>
              </a:rPr>
              <a:t>И. А. Бунин «Родина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Прямоугольник 25"/>
          <p:cNvSpPr/>
          <p:nvPr/>
        </p:nvSpPr>
        <p:spPr>
          <a:xfrm>
            <a:off x="6862680" y="601992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А.Шогенцуков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Родина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47" name="Picture 14" descr=""/>
          <p:cNvPicPr/>
          <p:nvPr/>
        </p:nvPicPr>
        <p:blipFill>
          <a:blip r:embed="rId5"/>
          <a:stretch/>
        </p:blipFill>
        <p:spPr>
          <a:xfrm>
            <a:off x="1365120" y="3651120"/>
            <a:ext cx="2011320" cy="229896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4" descr="http://inalchik.ru/wp-content/uploads/2015/07/Ali-SHogentsukov.jpg"/>
          <p:cNvPicPr/>
          <p:nvPr/>
        </p:nvPicPr>
        <p:blipFill>
          <a:blip r:embed="rId6"/>
          <a:stretch/>
        </p:blipFill>
        <p:spPr>
          <a:xfrm>
            <a:off x="6626160" y="3578400"/>
            <a:ext cx="2524320" cy="2371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Взаимосвязанное изучение произведений русской и кабардинской</a:t>
            </a:r>
            <a:r>
              <a:rPr b="1" lang="ru-RU" sz="29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	</a:t>
            </a:r>
            <a:r>
              <a:rPr b="1" lang="ru-RU" sz="29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                   литературы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1752480"/>
          <a:ext cx="8420040" cy="4552920"/>
        </p:xfrm>
        <a:graphic>
          <a:graphicData uri="http://schemas.openxmlformats.org/drawingml/2006/table">
            <a:tbl>
              <a:tblPr/>
              <a:tblGrid>
                <a:gridCol w="4730760"/>
                <a:gridCol w="3689280"/>
              </a:tblGrid>
              <a:tr h="455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Б.М.Пачев« Весна»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d0d0d"/>
                          </a:solidFill>
                          <a:uFillTx/>
                          <a:latin typeface="Arial"/>
                        </a:rPr>
                        <a:t>В. А. Жуковский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d0d0d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lang="ru-RU" sz="2400" spc="-1" strike="noStrike" u="sng">
                          <a:solidFill>
                            <a:srgbClr val="0d0d0d"/>
                          </a:solidFill>
                          <a:uFillTx/>
                          <a:latin typeface="Arial"/>
                        </a:rPr>
                        <a:t>«Приход весны»</a:t>
                      </a: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удалось очень лаконично, но выразительно представить образ прихода весны, оживления всего мира и передать восхищение, радость человека 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Лента лицом вниз 4"/>
          <p:cNvSpPr/>
          <p:nvPr/>
        </p:nvSpPr>
        <p:spPr>
          <a:xfrm>
            <a:off x="0" y="5638680"/>
            <a:ext cx="9144000" cy="882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4688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Половина рамки 5"/>
          <p:cNvSpPr/>
          <p:nvPr/>
        </p:nvSpPr>
        <p:spPr>
          <a:xfrm rot="8202600">
            <a:off x="3769920" y="2932200"/>
            <a:ext cx="914400" cy="914400"/>
          </a:xfrm>
          <a:prstGeom prst="pie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Лента лицом вниз 6"/>
          <p:cNvSpPr/>
          <p:nvPr/>
        </p:nvSpPr>
        <p:spPr>
          <a:xfrm>
            <a:off x="0" y="5638680"/>
            <a:ext cx="9144000" cy="882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4688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9903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8221"/>
                </a:solidFill>
                <a:latin typeface="Times New Roman"/>
              </a:rPr>
              <a:t>Взаимосвязанное изучение произведений</a:t>
            </a:r>
            <a:br>
              <a:rPr sz="2800"/>
            </a:br>
            <a:r>
              <a:rPr b="1" lang="ru-RU" sz="2800" spc="-1" strike="noStrike">
                <a:solidFill>
                  <a:srgbClr val="968221"/>
                </a:solidFill>
                <a:latin typeface="Times New Roman"/>
              </a:rPr>
              <a:t> русской и кабардинской литерат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9640" y="1415880"/>
          <a:ext cx="8001000" cy="4919760"/>
        </p:xfrm>
        <a:graphic>
          <a:graphicData uri="http://schemas.openxmlformats.org/drawingml/2006/table">
            <a:tbl>
              <a:tblPr/>
              <a:tblGrid>
                <a:gridCol w="4157640"/>
                <a:gridCol w="3843360"/>
              </a:tblGrid>
              <a:tr h="491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d0d0d"/>
                          </a:solidFill>
                          <a:uFillTx/>
                          <a:latin typeface="Arial"/>
                        </a:rPr>
                        <a:t>А.К.Толстой « Край ты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d0d0d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lang="ru-RU" sz="2400" spc="-1" strike="noStrike" u="sng">
                          <a:solidFill>
                            <a:srgbClr val="0d0d0d"/>
                          </a:solidFill>
                          <a:uFillTx/>
                          <a:latin typeface="Arial"/>
                        </a:rPr>
                        <a:t>мой, родимый край..»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d0d0d"/>
                          </a:solidFill>
                          <a:uFillTx/>
                          <a:latin typeface="Arial"/>
                        </a:rPr>
                        <a:t>А.П. Кешоков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d0d0d"/>
                          </a:solidFill>
                          <a:uFillTx/>
                          <a:latin typeface="Arial"/>
                        </a:rPr>
                        <a:t>« Родная земля»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Общие мотивы: природа и жизнь, природа и судьба, природа и любовь.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Арка 4"/>
          <p:cNvSpPr/>
          <p:nvPr/>
        </p:nvSpPr>
        <p:spPr>
          <a:xfrm rot="5400000">
            <a:off x="3657240" y="2971800"/>
            <a:ext cx="1143000" cy="838440"/>
          </a:xfrm>
          <a:prstGeom prst="pie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 advTm="8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4200" y="533160"/>
            <a:ext cx="8001000" cy="990360"/>
          </a:xfrm>
          <a:prstGeom prst="rect">
            <a:avLst/>
          </a:prstGeom>
          <a:noFill/>
          <a:ln w="57240">
            <a:solidFill>
              <a:srgbClr val="00206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</a:rPr>
              <a:t>Взаимосвязанное изучение произведений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</a:rPr>
              <a:t>русской и кабардинской литературы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1523880"/>
          <a:ext cx="9144000" cy="4992840"/>
        </p:xfrm>
        <a:graphic>
          <a:graphicData uri="http://schemas.openxmlformats.org/drawingml/2006/table">
            <a:tbl>
              <a:tblPr/>
              <a:tblGrid>
                <a:gridCol w="4789440"/>
                <a:gridCol w="4354560"/>
              </a:tblGrid>
              <a:tr h="499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И. А. Бунин «Родина»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А.Шогенцуков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«Родина»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Удаётся представить не только портрет родного края через характерный пейзаж, но и выразить черты, роднящие человека и край, где он родился.</a:t>
                      </a:r>
                      <a:endParaRPr b="0" lang="en-US" sz="2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Арка 4"/>
          <p:cNvSpPr/>
          <p:nvPr/>
        </p:nvSpPr>
        <p:spPr>
          <a:xfrm rot="5400000">
            <a:off x="3543120" y="3162240"/>
            <a:ext cx="1143000" cy="761760"/>
          </a:xfrm>
          <a:prstGeom prst="pie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 advTm="8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Картинка 1 из 597"/>
          <p:cNvPicPr/>
          <p:nvPr/>
        </p:nvPicPr>
        <p:blipFill>
          <a:blip r:embed="rId1"/>
          <a:stretch/>
        </p:blipFill>
        <p:spPr>
          <a:xfrm>
            <a:off x="1219320" y="0"/>
            <a:ext cx="2136600" cy="2895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Бунин"/>
          <p:cNvPicPr/>
          <p:nvPr/>
        </p:nvPicPr>
        <p:blipFill>
          <a:blip r:embed="rId2"/>
          <a:stretch/>
        </p:blipFill>
        <p:spPr>
          <a:xfrm>
            <a:off x="4038480" y="0"/>
            <a:ext cx="2090880" cy="2895480"/>
          </a:xfrm>
          <a:prstGeom prst="rect">
            <a:avLst/>
          </a:prstGeom>
          <a:ln w="0">
            <a:noFill/>
          </a:ln>
        </p:spPr>
      </p:pic>
      <p:pic>
        <p:nvPicPr>
          <p:cNvPr id="262" name="i-main-pic" descr="Картинка 4 из 1389"/>
          <p:cNvPicPr/>
          <p:nvPr/>
        </p:nvPicPr>
        <p:blipFill>
          <a:blip r:embed="rId3"/>
          <a:stretch/>
        </p:blipFill>
        <p:spPr>
          <a:xfrm>
            <a:off x="6934320" y="0"/>
            <a:ext cx="1855800" cy="289548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6"/>
          <p:cNvSpPr/>
          <p:nvPr/>
        </p:nvSpPr>
        <p:spPr>
          <a:xfrm>
            <a:off x="1219320" y="3200400"/>
            <a:ext cx="2057400" cy="685800"/>
          </a:xfrm>
          <a:prstGeom prst="rect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стихотворение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4" name="Блок-схема: процесс 8"/>
          <p:cNvSpPr/>
          <p:nvPr/>
        </p:nvSpPr>
        <p:spPr>
          <a:xfrm>
            <a:off x="1219320" y="5257800"/>
            <a:ext cx="2057400" cy="762120"/>
          </a:xfrm>
          <a:prstGeom prst="flowChartProcess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тема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Прямоугольник 10"/>
          <p:cNvSpPr/>
          <p:nvPr/>
        </p:nvSpPr>
        <p:spPr>
          <a:xfrm>
            <a:off x="4038480" y="3200400"/>
            <a:ext cx="2057400" cy="685800"/>
          </a:xfrm>
          <a:prstGeom prst="rect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стихотворение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Прямоугольник 11"/>
          <p:cNvSpPr/>
          <p:nvPr/>
        </p:nvSpPr>
        <p:spPr>
          <a:xfrm>
            <a:off x="1219320" y="4267080"/>
            <a:ext cx="2057400" cy="685800"/>
          </a:xfrm>
          <a:prstGeom prst="rect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«Дерево решений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Прямоугольник 13"/>
          <p:cNvSpPr/>
          <p:nvPr/>
        </p:nvSpPr>
        <p:spPr>
          <a:xfrm>
            <a:off x="4038480" y="4267080"/>
            <a:ext cx="2057400" cy="685800"/>
          </a:xfrm>
          <a:prstGeom prst="rect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«Дерево решений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Блок-схема: процесс 14"/>
          <p:cNvSpPr/>
          <p:nvPr/>
        </p:nvSpPr>
        <p:spPr>
          <a:xfrm>
            <a:off x="4038480" y="5257800"/>
            <a:ext cx="2057400" cy="762120"/>
          </a:xfrm>
          <a:prstGeom prst="flowChartProcess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тема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Прямоугольник 16"/>
          <p:cNvSpPr/>
          <p:nvPr/>
        </p:nvSpPr>
        <p:spPr>
          <a:xfrm>
            <a:off x="6858000" y="3200400"/>
            <a:ext cx="2057400" cy="685800"/>
          </a:xfrm>
          <a:prstGeom prst="rect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стихотворение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Прямоугольник 17"/>
          <p:cNvSpPr/>
          <p:nvPr/>
        </p:nvSpPr>
        <p:spPr>
          <a:xfrm>
            <a:off x="6858000" y="4267080"/>
            <a:ext cx="2057400" cy="685800"/>
          </a:xfrm>
          <a:prstGeom prst="rect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«Дерево решений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Блок-схема: процесс 18"/>
          <p:cNvSpPr/>
          <p:nvPr/>
        </p:nvSpPr>
        <p:spPr>
          <a:xfrm>
            <a:off x="6858000" y="5181480"/>
            <a:ext cx="2057400" cy="762120"/>
          </a:xfrm>
          <a:prstGeom prst="flowChartProcess">
            <a:avLst/>
          </a:prstGeom>
          <a:solidFill>
            <a:srgbClr val="e5d58a"/>
          </a:solidFill>
          <a:ln w="25560">
            <a:solidFill>
              <a:srgbClr val="a89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тема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rcRect l="0" t="37503" r="25559" b="31252"/>
          <a:stretch/>
        </p:blipFill>
        <p:spPr>
          <a:xfrm>
            <a:off x="1295280" y="-33480"/>
            <a:ext cx="784872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rcRect l="0" t="6251" r="4446" b="41253"/>
          <a:stretch/>
        </p:blipFill>
        <p:spPr>
          <a:xfrm>
            <a:off x="1828800" y="228600"/>
            <a:ext cx="6553080" cy="6400800"/>
          </a:xfrm>
          <a:prstGeom prst="rect">
            <a:avLst/>
          </a:prstGeom>
          <a:ln w="0">
            <a:noFill/>
          </a:ln>
        </p:spPr>
      </p:pic>
      <p:pic>
        <p:nvPicPr>
          <p:cNvPr id="213" name="AUD-20180302-WA001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447920" y="1843920"/>
            <a:ext cx="556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Calibri"/>
                <a:ea typeface="Times New Roman"/>
              </a:rPr>
              <a:t>ДОМАШНЕЕ ЗАДАНИ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alibri"/>
                <a:ea typeface="Times New Roman"/>
              </a:rPr>
              <a:t>-составить  синквейн – пятистрочная стихотворная форма на тему: «Родина»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alibri"/>
                <a:ea typeface="Times New Roman"/>
              </a:rPr>
              <a:t>-Написать сочинение-миниатюру на тему «Родной уголок природы»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562360" cy="472428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3" descr=""/>
          <p:cNvPicPr/>
          <p:nvPr/>
        </p:nvPicPr>
        <p:blipFill>
          <a:blip r:embed="rId2"/>
          <a:stretch/>
        </p:blipFill>
        <p:spPr>
          <a:xfrm>
            <a:off x="-463680" y="-49320"/>
            <a:ext cx="9875880" cy="1128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6553080" cy="594360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3" descr=""/>
          <p:cNvPicPr/>
          <p:nvPr/>
        </p:nvPicPr>
        <p:blipFill>
          <a:blip r:embed="rId2"/>
          <a:stretch/>
        </p:blipFill>
        <p:spPr>
          <a:xfrm>
            <a:off x="682560" y="244440"/>
            <a:ext cx="8467920" cy="932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6629400" cy="541008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2" descr=""/>
          <p:cNvPicPr/>
          <p:nvPr/>
        </p:nvPicPr>
        <p:blipFill>
          <a:blip r:embed="rId2"/>
          <a:stretch/>
        </p:blipFill>
        <p:spPr>
          <a:xfrm>
            <a:off x="1384200" y="396720"/>
            <a:ext cx="6375600" cy="932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285640" y="1143000"/>
            <a:ext cx="6553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«Край ты мой, родимый край…»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1" name="Picture 10" descr="книга1"/>
          <p:cNvPicPr/>
          <p:nvPr/>
        </p:nvPicPr>
        <p:blipFill>
          <a:blip r:embed="rId1"/>
          <a:stretch/>
        </p:blipFill>
        <p:spPr>
          <a:xfrm>
            <a:off x="6629400" y="518148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05120" y="-457200"/>
            <a:ext cx="6253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тихотворения о родной природе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Rectangle 7" descr=""/>
          <p:cNvPicPr/>
          <p:nvPr/>
        </p:nvPicPr>
        <p:blipFill>
          <a:blip r:embed="rId1"/>
          <a:stretch/>
        </p:blipFill>
        <p:spPr>
          <a:xfrm>
            <a:off x="-6480" y="695160"/>
            <a:ext cx="9156960" cy="914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Картинка 1 из 5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905120"/>
            <a:ext cx="2800080" cy="3886200"/>
          </a:xfrm>
          <a:prstGeom prst="rect">
            <a:avLst/>
          </a:prstGeom>
          <a:ln w="0">
            <a:noFill/>
          </a:ln>
        </p:spPr>
      </p:pic>
      <p:pic>
        <p:nvPicPr>
          <p:cNvPr id="225" name="i-main-pic" descr="Картинка 4 из 1389"/>
          <p:cNvPicPr/>
          <p:nvPr/>
        </p:nvPicPr>
        <p:blipFill>
          <a:blip r:embed="rId4"/>
          <a:stretch/>
        </p:blipFill>
        <p:spPr>
          <a:xfrm>
            <a:off x="6324480" y="1905120"/>
            <a:ext cx="2540160" cy="3962160"/>
          </a:xfrm>
          <a:prstGeom prst="rect">
            <a:avLst/>
          </a:prstGeom>
          <a:ln w="0">
            <a:noFill/>
          </a:ln>
        </p:spPr>
      </p:pic>
      <p:sp>
        <p:nvSpPr>
          <p:cNvPr id="226" name="Номер слайда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F563-0438-4E80-A17B-22AC907B3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7" name="Picture 7" descr="Бунин"/>
          <p:cNvPicPr/>
          <p:nvPr/>
        </p:nvPicPr>
        <p:blipFill>
          <a:blip r:embed="rId5"/>
          <a:stretch/>
        </p:blipFill>
        <p:spPr>
          <a:xfrm>
            <a:off x="3352680" y="1905120"/>
            <a:ext cx="280692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1219320" y="91440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Пейзаж</a:t>
            </a:r>
            <a:r>
              <a:rPr b="1" i="1" lang="ru-RU" sz="3200" spc="-1" strike="noStrike">
                <a:solidFill>
                  <a:srgbClr val="333300"/>
                </a:solidFill>
                <a:latin typeface="Times New Roman"/>
              </a:rPr>
              <a:t> – вид какой-либо местности и картины природы, картины природы художников. 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1219320" y="38098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Пейзажная лирика</a:t>
            </a:r>
            <a:r>
              <a:rPr b="1" i="1" lang="ru-RU" sz="3200" spc="-1" strike="noStrike">
                <a:solidFill>
                  <a:srgbClr val="333300"/>
                </a:solidFill>
                <a:latin typeface="Times New Roman"/>
              </a:rPr>
              <a:t>-стихи, посвященные изображению природы.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учитель</cp:lastModifiedBy>
  <dcterms:modified xsi:type="dcterms:W3CDTF">2018-03-05T07:24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