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15.wmf" ContentType="image/x-wmf"/>
  <Override PartName="/ppt/media/image4.gif" ContentType="image/gif"/>
  <Override PartName="/ppt/media/image8.png" ContentType="image/png"/>
  <Override PartName="/ppt/media/image11.jpeg" ContentType="image/jpeg"/>
  <Override PartName="/ppt/media/image13.png" ContentType="image/png"/>
  <Override PartName="/ppt/media/image6.wmf" ContentType="image/x-wmf"/>
  <Override PartName="/ppt/media/image12.png" ContentType="image/png"/>
  <Override PartName="/ppt/media/image7.jpeg" ContentType="image/jpe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9948-7D48-419E-9054-119422AE57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26DA-20E5-472F-A825-5F79EEE895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A678-C651-4867-AA2D-C2CC4345AE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C090-AC24-442C-A6A0-344335834C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F85A-7CC9-484A-BB1E-E0E5FEA204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6D34-CE62-4440-8D77-4632FC33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73A5-5446-4024-A912-1728E136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1DAA-E187-451C-96EC-4284AF28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1852-FD6B-4AF0-ACAA-97B72C17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066A-E53B-4595-9897-D936DC6F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7E17-A75B-4C76-A432-1A1737EE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7C9E-0D09-4D77-90B1-319CF3E4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4793-78AC-4F40-AA30-FC7F7488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C9A3-CFF6-4256-B60B-C4231D59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7E39-3D1F-442D-9B5F-B78BF43B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BFB0-D88A-4379-9663-232DF31D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0A5D-76AB-43C3-A82E-03F0AE96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0189-4C74-465E-AA93-5556654A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D50D-EF0B-4E9D-A5A7-D92813BF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43CD-E5FA-466E-9823-7FCE33A3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5CAA-9DB4-472F-BB55-96E3D20D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729E-5A9A-4D17-BC78-DE441822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03C9-8846-47C4-BAF9-744033FE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817F-46F5-4CFE-A4E1-1C6E5B14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81BF-00F9-4644-81C7-D14F9306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74BC-A285-4106-A2E8-C0E2A334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60E2-12C6-46A1-B999-57598BC7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D8C0-BEA3-4060-9FDC-FE9EAA08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A03C-74A9-4F09-89A5-C1742C57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7565-9451-44CD-81D1-FA16EBE21C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4029-2120-417F-A871-30551B3992C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hyperlink" Target="http://oz.by/data/img/10/25/202/cover/Rasskazi-malen-kogo-mal-ika-Oleg-Kurguzov_1025202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ecff"/>
                </a:solidFill>
                <a:latin typeface="Trebuchet MS"/>
              </a:rPr>
              <a:t>Система работы в парах на уроках</a:t>
            </a:r>
            <a:endParaRPr b="0" lang="en-US" sz="4800" spc="-1" strike="noStrike">
              <a:solidFill>
                <a:srgbClr val="ccecff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962160" y="3657600"/>
            <a:ext cx="4800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ccecff"/>
              </a:solidFill>
              <a:latin typeface="Trebuchet MS"/>
            </a:endParaRPr>
          </a:p>
        </p:txBody>
      </p:sp>
      <p:pic>
        <p:nvPicPr>
          <p:cNvPr id="220" name="Picture 6" descr="&amp;Kcy;&amp;acy;&amp;rcy;&amp;tcy;&amp;icy;&amp;ncy;&amp;kcy;&amp;acy; &amp;zcy;&amp;acy;&amp;gcy;&amp;rcy;&amp;ucy;&amp;zhcy;&amp;acy;&amp;iecy;&amp;tcy;&amp;scy;&amp;yacy;..."/>
          <p:cNvPicPr/>
          <p:nvPr/>
        </p:nvPicPr>
        <p:blipFill>
          <a:blip r:embed="rId1"/>
          <a:stretch/>
        </p:blipFill>
        <p:spPr>
          <a:xfrm>
            <a:off x="304920" y="4038480"/>
            <a:ext cx="289548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1523880" y="1397160"/>
          <a:ext cx="6096240" cy="54878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71640"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КА </a:t>
                      </a:r>
                      <a:r>
                        <a:rPr b="1" lang="ru-RU" sz="2400" spc="-1" strike="noStrike">
                          <a:solidFill>
                            <a:srgbClr val="ff00ff"/>
                          </a:solidFill>
                          <a:latin typeface="Arial"/>
                          <a:ea typeface="Times New Roman"/>
                        </a:rPr>
                        <a:t>НА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1640"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ff"/>
                          </a:solidFill>
                          <a:latin typeface="Arial"/>
                          <a:ea typeface="Times New Roman"/>
                        </a:rPr>
                        <a:t>ПА</a:t>
                      </a:r>
                      <a:r>
                        <a:rPr b="1" lang="ru-RU" sz="24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РУ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2120"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РЫБ</a:t>
                      </a: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2120"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ЛОД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0320"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Урок  математик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88e4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99ff99"/>
                </a:solidFill>
                <a:latin typeface="Arial"/>
              </a:rPr>
              <a:t>во 2 класс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ff99"/>
                </a:solidFill>
                <a:latin typeface="Times New Roman"/>
              </a:rPr>
              <a:t>« Царица наук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1116000" y="260280"/>
            <a:ext cx="684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684360" y="5734080"/>
            <a:ext cx="7559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8e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бота в тетрадя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rcRect l="0" t="0" r="47488" b="0"/>
          <a:stretch/>
        </p:blipFill>
        <p:spPr>
          <a:xfrm>
            <a:off x="228600" y="0"/>
            <a:ext cx="1655640" cy="2552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"/>
          <p:cNvPicPr/>
          <p:nvPr/>
        </p:nvPicPr>
        <p:blipFill>
          <a:blip r:embed="rId2"/>
          <a:srcRect l="52523" t="0" r="-491" b="0"/>
          <a:stretch/>
        </p:blipFill>
        <p:spPr>
          <a:xfrm>
            <a:off x="7451640" y="115920"/>
            <a:ext cx="1513080" cy="255276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9"/>
          <p:cNvSpPr/>
          <p:nvPr/>
        </p:nvSpPr>
        <p:spPr>
          <a:xfrm>
            <a:off x="1905120" y="30492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 гостях у Мальвины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324000" y="3284640"/>
            <a:ext cx="36716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+ 8  = 1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6 + …  = 1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+ 50 = 5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3"/>
          <p:cNvSpPr/>
          <p:nvPr/>
        </p:nvSpPr>
        <p:spPr>
          <a:xfrm>
            <a:off x="4500720" y="3284640"/>
            <a:ext cx="3600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56 - … = 5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15 - … = 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…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-7  = 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324000" y="3284640"/>
            <a:ext cx="36716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7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7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6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8"/>
          <p:cNvSpPr/>
          <p:nvPr/>
        </p:nvSpPr>
        <p:spPr>
          <a:xfrm>
            <a:off x="4500720" y="3284640"/>
            <a:ext cx="3600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6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13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19"/>
          <p:cNvSpPr/>
          <p:nvPr/>
        </p:nvSpPr>
        <p:spPr>
          <a:xfrm>
            <a:off x="3851280" y="3789360"/>
            <a:ext cx="1081080" cy="100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20"/>
          <p:cNvSpPr/>
          <p:nvPr/>
        </p:nvSpPr>
        <p:spPr>
          <a:xfrm flipH="1">
            <a:off x="3564000" y="3860640"/>
            <a:ext cx="1295280" cy="165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21"/>
          <p:cNvSpPr/>
          <p:nvPr/>
        </p:nvSpPr>
        <p:spPr>
          <a:xfrm>
            <a:off x="3780000" y="4797360"/>
            <a:ext cx="1223640" cy="1079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39152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rebuchet MS"/>
              </a:rPr>
              <a:t>Урок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Trebuchet MS"/>
              </a:rPr>
              <a:t>литературного чтения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Trebuchet MS"/>
              </a:rPr>
              <a:t>во 2 классе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Trebuchet MS"/>
            </a:endParaRPr>
          </a:p>
        </p:txBody>
      </p:sp>
      <p:pic>
        <p:nvPicPr>
          <p:cNvPr id="262" name="Picture 4" descr="H:\Documents and Settings\Aida\Рабочий стол\НОвая ГРАФИКА сборник\КАРТИНКИ СБОРНИК_ школьные\s30.gif"/>
          <p:cNvPicPr/>
          <p:nvPr/>
        </p:nvPicPr>
        <p:blipFill>
          <a:blip r:embed="rId1"/>
          <a:stretch/>
        </p:blipFill>
        <p:spPr>
          <a:xfrm>
            <a:off x="3733920" y="5181480"/>
            <a:ext cx="1428480" cy="866880"/>
          </a:xfrm>
          <a:prstGeom prst="rect">
            <a:avLst/>
          </a:prstGeom>
          <a:ln w="0">
            <a:noFill/>
          </a:ln>
        </p:spPr>
      </p:pic>
      <p:pic>
        <p:nvPicPr>
          <p:cNvPr id="263" name="Содержимое 5" descr="4.jpg"/>
          <p:cNvPicPr/>
          <p:nvPr/>
        </p:nvPicPr>
        <p:blipFill>
          <a:blip r:embed="rId2"/>
          <a:stretch/>
        </p:blipFill>
        <p:spPr>
          <a:xfrm>
            <a:off x="304920" y="3733920"/>
            <a:ext cx="2247840" cy="2943000"/>
          </a:xfrm>
          <a:prstGeom prst="rect">
            <a:avLst/>
          </a:prstGeom>
          <a:ln w="0">
            <a:noFill/>
          </a:ln>
        </p:spPr>
      </p:pic>
      <p:pic>
        <p:nvPicPr>
          <p:cNvPr id="264" name="i-main-pic" descr="Картинка 2 из 12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5880" y="3629160"/>
            <a:ext cx="2286000" cy="322884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0"/>
          <p:cNvSpPr/>
          <p:nvPr/>
        </p:nvSpPr>
        <p:spPr>
          <a:xfrm>
            <a:off x="1756440" y="2361600"/>
            <a:ext cx="58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ема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. Кургузов "Надоело летать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Trebuchet MS"/>
              </a:rPr>
              <a:t>Работа по произведению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091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Работа над содержанием текст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- От чьего имени ведётся рассказ? Докажите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- Почему, по мнению мальчика, «ползать – это интересно»?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- О чём мечтал папа, когда лежал у дивана?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-Почему глаза папы, которые отражались в старом зеркале, были грустными, а глаза мальчика – испуганными? </a:t>
            </a: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Обсудите в парах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- О чём размышляли они возле сковородки?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- Как назвала мама мальчика и папу? Почему?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6"/>
          <p:cNvSpPr/>
          <p:nvPr/>
        </p:nvSpPr>
        <p:spPr>
          <a:xfrm>
            <a:off x="3048120" y="25909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фограм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2881800" y="6008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234840" y="58561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1050840" y="457200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82160" cy="689616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5"/>
          <p:cNvSpPr/>
          <p:nvPr/>
        </p:nvSpPr>
        <p:spPr>
          <a:xfrm>
            <a:off x="0" y="18360"/>
            <a:ext cx="807732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ru-RU" sz="1800" spc="-1" strike="noStrike">
                <a:solidFill>
                  <a:srgbClr val="005c9b"/>
                </a:solidFill>
                <a:latin typeface="Times New Roman"/>
                <a:ea typeface="Times New Roman"/>
              </a:rPr>
              <a:t>«Орфограмм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c9b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1" lang="ru-RU" sz="1800" spc="-1" strike="noStrike">
                <a:solidFill>
                  <a:srgbClr val="005c9b"/>
                </a:solidFill>
                <a:latin typeface="Times New Roman"/>
                <a:ea typeface="Times New Roman"/>
              </a:rPr>
              <a:t>в корне сло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c9b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1" lang="ru-RU" sz="1800" spc="-1" strike="noStrike">
                <a:solidFill>
                  <a:srgbClr val="005c9b"/>
                </a:solidFill>
                <a:latin typeface="Times New Roman"/>
                <a:ea typeface="Times New Roman"/>
              </a:rPr>
              <a:t>Составление алгоритма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c9b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ru-RU" sz="1800" spc="-1" strike="noStrike">
                <a:solidFill>
                  <a:srgbClr val="005c9b"/>
                </a:solidFill>
                <a:latin typeface="Times New Roman"/>
                <a:ea typeface="Times New Roman"/>
              </a:rPr>
              <a:t>схемы нахож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c9b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ru-RU" sz="1800" spc="-1" strike="noStrike">
                <a:solidFill>
                  <a:srgbClr val="005c9b"/>
                </a:solidFill>
                <a:latin typeface="Times New Roman"/>
                <a:ea typeface="Times New Roman"/>
              </a:rPr>
              <a:t>орфограммы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c9b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lang="ru-RU" sz="1800" spc="-1" strike="noStrike">
                <a:solidFill>
                  <a:srgbClr val="005c9b"/>
                </a:solidFill>
                <a:latin typeface="Times New Roman"/>
                <a:ea typeface="Times New Roman"/>
              </a:rPr>
              <a:t>в корне слов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80880" y="3808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АЛГОРИТМ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нахождения </a:t>
            </a:r>
            <a:r>
              <a:rPr b="1" lang="ru-RU" sz="2800" spc="-1" strike="noStrike">
                <a:solidFill>
                  <a:srgbClr val="ff3300"/>
                </a:solidFill>
                <a:latin typeface="Trebuchet MS"/>
              </a:rPr>
              <a:t>безударной гласной</a:t>
            </a: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 в корне слова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1. Ставим </a:t>
            </a:r>
            <a:r>
              <a:rPr b="1" lang="ru-RU" sz="2400" spc="-1" strike="noStrike">
                <a:solidFill>
                  <a:srgbClr val="ff3300"/>
                </a:solidFill>
                <a:latin typeface="Trebuchet MS"/>
              </a:rPr>
              <a:t>УДАРЕНИЕ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в слове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2. Выделяем корень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3. Если гласный звук в корне </a:t>
            </a:r>
            <a:r>
              <a:rPr b="0" lang="ru-RU" sz="2400" spc="-1" strike="noStrike">
                <a:solidFill>
                  <a:srgbClr val="ff3300"/>
                </a:solidFill>
                <a:latin typeface="Trebuchet MS"/>
              </a:rPr>
              <a:t>безударный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, то его нужно проверять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4. Подбираем проверочное слово, в котором звук в корне под </a:t>
            </a:r>
            <a:r>
              <a:rPr b="1" lang="ru-RU" sz="2400" spc="-1" strike="noStrike">
                <a:solidFill>
                  <a:srgbClr val="ff3300"/>
                </a:solidFill>
                <a:latin typeface="Trebuchet MS"/>
              </a:rPr>
              <a:t>УДАРЕНИЕМ</a:t>
            </a:r>
            <a:r>
              <a:rPr b="0" lang="ru-RU" sz="2400" spc="-1" strike="noStrike">
                <a:solidFill>
                  <a:srgbClr val="ff33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АЛГОРИТМ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нахождения </a:t>
            </a:r>
            <a:r>
              <a:rPr b="1" lang="ru-RU" sz="2800" spc="-1" strike="noStrike">
                <a:solidFill>
                  <a:srgbClr val="ff3300"/>
                </a:solidFill>
                <a:latin typeface="Trebuchet MS"/>
              </a:rPr>
              <a:t>парных звонких и глухих</a:t>
            </a: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 согласных в корне слова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Выделяем корень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Если в корне согласный </a:t>
            </a:r>
            <a:r>
              <a:rPr b="0" lang="ru-RU" sz="2800" spc="-1" strike="noStrike">
                <a:solidFill>
                  <a:srgbClr val="ff3300"/>
                </a:solidFill>
                <a:latin typeface="Trebuchet MS"/>
              </a:rPr>
              <a:t> звук в слабой позиции</a:t>
            </a: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, то его нужно проверять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3.  Подбираем проверочное слово так, чтобы после согласного стоял </a:t>
            </a:r>
            <a:r>
              <a:rPr b="1" lang="ru-RU" sz="2800" spc="-1" strike="noStrike">
                <a:solidFill>
                  <a:srgbClr val="ff3300"/>
                </a:solidFill>
                <a:latin typeface="Trebuchet MS"/>
              </a:rPr>
              <a:t>гласный</a:t>
            </a: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 или 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М,Н,Р,Л</a:t>
            </a: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72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АЛГОРИТМ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нахождения </a:t>
            </a:r>
            <a:r>
              <a:rPr b="1" lang="ru-RU" sz="2800" spc="-1" strike="noStrike">
                <a:solidFill>
                  <a:srgbClr val="66ff66"/>
                </a:solidFill>
                <a:latin typeface="Trebuchet MS"/>
              </a:rPr>
              <a:t>непроизносимых согласных</a:t>
            </a:r>
            <a:r>
              <a:rPr b="0" lang="ru-RU" sz="2800" spc="-1" strike="noStrike">
                <a:solidFill>
                  <a:srgbClr val="66ff66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в корне слова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Выделяем корень в слове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Если слышим в корне слова сочетание согласных звуков 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  <a:ea typeface="Arial"/>
              </a:rPr>
              <a:t>[</a:t>
            </a:r>
            <a:r>
              <a:rPr b="1" lang="ru-RU" sz="2800" spc="-1" strike="noStrike">
                <a:solidFill>
                  <a:srgbClr val="15cf7b"/>
                </a:solidFill>
                <a:latin typeface="Trebuchet MS"/>
                <a:ea typeface="Arial"/>
              </a:rPr>
              <a:t>СН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  <a:ea typeface="Arial"/>
              </a:rPr>
              <a:t>]</a:t>
            </a:r>
            <a:r>
              <a:rPr b="1" lang="ru-RU" sz="2800" spc="-1" strike="noStrike">
                <a:solidFill>
                  <a:srgbClr val="ffffff"/>
                </a:solidFill>
                <a:latin typeface="Trebuchet MS"/>
                <a:ea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  <a:ea typeface="Arial"/>
              </a:rPr>
              <a:t>[</a:t>
            </a:r>
            <a:r>
              <a:rPr b="1" lang="ru-RU" sz="2800" spc="-1" strike="noStrike">
                <a:solidFill>
                  <a:srgbClr val="12d217"/>
                </a:solidFill>
                <a:latin typeface="Trebuchet MS"/>
                <a:ea typeface="Arial"/>
              </a:rPr>
              <a:t>ЗН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  <a:ea typeface="Arial"/>
              </a:rPr>
              <a:t>]</a:t>
            </a:r>
            <a:r>
              <a:rPr b="1" lang="ru-RU" sz="2800" spc="-1" strike="noStrike">
                <a:solidFill>
                  <a:srgbClr val="ffffff"/>
                </a:solidFill>
                <a:latin typeface="Trebuchet MS"/>
                <a:ea typeface="Arial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rebuchet MS"/>
                <a:ea typeface="Arial"/>
              </a:rPr>
              <a:t> то эти слова нужно проверять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  <a:ea typeface="Arial"/>
              </a:rPr>
              <a:t>Подбираем родственное слово,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rebuchet MS"/>
                <a:ea typeface="Arial"/>
              </a:rPr>
              <a:t>чтобы </a:t>
            </a:r>
            <a:r>
              <a:rPr b="1" lang="ru-RU" sz="2800" spc="-1" strike="noStrike">
                <a:solidFill>
                  <a:srgbClr val="66ff99"/>
                </a:solidFill>
                <a:latin typeface="Trebuchet MS"/>
                <a:ea typeface="Arial"/>
              </a:rPr>
              <a:t>согласный звук ясно слышался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"/>
          <p:cNvGrpSpPr/>
          <p:nvPr/>
        </p:nvGrpSpPr>
        <p:grpSpPr>
          <a:xfrm>
            <a:off x="838080" y="2349360"/>
            <a:ext cx="7837560" cy="1440000"/>
            <a:chOff x="838080" y="2349360"/>
            <a:chExt cx="7837560" cy="1440000"/>
          </a:xfrm>
        </p:grpSpPr>
        <p:sp>
          <p:nvSpPr>
            <p:cNvPr id="279" name="Rectangle 3"/>
            <p:cNvSpPr/>
            <p:nvPr/>
          </p:nvSpPr>
          <p:spPr>
            <a:xfrm>
              <a:off x="838080" y="2349360"/>
              <a:ext cx="7837560" cy="1440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0" name="Picture 4" descr="Рисунок1"/>
            <p:cNvPicPr/>
            <p:nvPr/>
          </p:nvPicPr>
          <p:blipFill>
            <a:blip r:embed="rId1"/>
            <a:stretch/>
          </p:blipFill>
          <p:spPr>
            <a:xfrm>
              <a:off x="934920" y="2349360"/>
              <a:ext cx="7499520" cy="6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5" descr="Рисунок1"/>
            <p:cNvPicPr/>
            <p:nvPr/>
          </p:nvPicPr>
          <p:blipFill>
            <a:blip r:embed="rId2"/>
            <a:stretch/>
          </p:blipFill>
          <p:spPr>
            <a:xfrm>
              <a:off x="934920" y="3708000"/>
              <a:ext cx="7499520" cy="6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6" descr=""/>
            <p:cNvPicPr/>
            <p:nvPr/>
          </p:nvPicPr>
          <p:blipFill>
            <a:blip r:embed="rId3"/>
            <a:srcRect l="77866" t="19220" r="17941" b="20923"/>
            <a:stretch/>
          </p:blipFill>
          <p:spPr>
            <a:xfrm>
              <a:off x="838080" y="2349360"/>
              <a:ext cx="26316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7" descr=""/>
            <p:cNvPicPr/>
            <p:nvPr/>
          </p:nvPicPr>
          <p:blipFill>
            <a:blip r:embed="rId4"/>
            <a:srcRect l="77866" t="19220" r="17941" b="20923"/>
            <a:stretch/>
          </p:blipFill>
          <p:spPr>
            <a:xfrm>
              <a:off x="8407800" y="2349360"/>
              <a:ext cx="263160" cy="144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587520" y="2669760"/>
            <a:ext cx="855648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00"/>
                </a:solidFill>
                <a:latin typeface="Trebuchet MS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5" name="Picture 9" descr="j0296329"/>
          <p:cNvPicPr/>
          <p:nvPr/>
        </p:nvPicPr>
        <p:blipFill>
          <a:blip r:embed="rId5"/>
          <a:stretch/>
        </p:blipFill>
        <p:spPr>
          <a:xfrm>
            <a:off x="3348000" y="4221000"/>
            <a:ext cx="316728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ecff"/>
                </a:solidFill>
                <a:latin typeface="Times New Roman"/>
              </a:rPr>
              <a:t>Работа в парах – форма организации деятельности учащихся на уроке, которая необходима для того, чтобы обучить учебному сотрудничеству.</a:t>
            </a:r>
            <a:endParaRPr b="0" lang="en-US" sz="2800" spc="-1" strike="noStrike">
              <a:solidFill>
                <a:srgbClr val="ccecf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457200" y="236232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«Учимся работа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ружно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1066680" y="3657600"/>
            <a:ext cx="4562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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ворите по очеред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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перебивайте друг друг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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имательно слушайте того, кто говори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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то, что говорят, не совсем понятно, надо обязательно переспросить и постараться поня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12" descr="&amp;Kcy;&amp;acy;&amp;rcy;&amp;tcy;&amp;icy;&amp;ncy;&amp;kcy;&amp;acy; 7 &amp;icy;&amp;zcy; 205582"/>
          <p:cNvPicPr/>
          <p:nvPr/>
        </p:nvPicPr>
        <p:blipFill>
          <a:blip r:embed="rId1"/>
          <a:stretch/>
        </p:blipFill>
        <p:spPr>
          <a:xfrm>
            <a:off x="5486400" y="3048120"/>
            <a:ext cx="3657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rebuchet MS"/>
              </a:rPr>
              <a:t>Коллективные способы обучения</a:t>
            </a:r>
            <a:endParaRPr b="0" lang="en-US" sz="4000" spc="-1" strike="noStrike">
              <a:solidFill>
                <a:srgbClr val="ccecf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Система заданий, предназначенных для работы в паре, способствует развитию коммуникативных навыков учащихся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8" name="Picture 4" descr="baby14_1"/>
          <p:cNvPicPr/>
          <p:nvPr/>
        </p:nvPicPr>
        <p:blipFill>
          <a:blip r:embed="rId1"/>
          <a:stretch/>
        </p:blipFill>
        <p:spPr>
          <a:xfrm>
            <a:off x="4437000" y="3733920"/>
            <a:ext cx="2606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WordArt 4"/>
          <p:cNvSpPr txBox="1"/>
          <p:nvPr/>
        </p:nvSpPr>
        <p:spPr>
          <a:xfrm>
            <a:off x="539640" y="1125360"/>
            <a:ext cx="82803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Мастерская  слов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30" name="WordArt 5"/>
          <p:cNvSpPr txBox="1"/>
          <p:nvPr/>
        </p:nvSpPr>
        <p:spPr>
          <a:xfrm>
            <a:off x="2268360" y="4797360"/>
            <a:ext cx="4400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GHeiseiMinchotaiW9"/>
              </a:rPr>
              <a:t>Урок русского язык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GHeiseiMinchotaiW9"/>
              <a:ea typeface="HGHeiseiMinchotaiW9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GHeiseiMinchotaiW9"/>
              </a:rPr>
              <a:t>      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GHeiseiMinchotaiW9"/>
              <a:ea typeface="HGHeiseiMinchotaiW9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1B13-3B69-4362-91FD-A3ADEC7CF2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2232000" y="3427560"/>
            <a:ext cx="455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«Учимся словами рисоват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2735280" y="2276640"/>
            <a:ext cx="6408720" cy="45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На что похожи облака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На что они похожи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……………………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…………</a:t>
            </a: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.............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И на оленя тоже!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WordArt 4"/>
          <p:cNvSpPr txBox="1"/>
          <p:nvPr/>
        </p:nvSpPr>
        <p:spPr>
          <a:xfrm>
            <a:off x="2627280" y="3716280"/>
            <a:ext cx="3745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крокодила,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WordArt 5"/>
          <p:cNvSpPr txBox="1"/>
          <p:nvPr/>
        </p:nvSpPr>
        <p:spPr>
          <a:xfrm>
            <a:off x="2627280" y="4365720"/>
            <a:ext cx="223200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быка,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WordArt 6"/>
          <p:cNvSpPr txBox="1"/>
          <p:nvPr/>
        </p:nvSpPr>
        <p:spPr>
          <a:xfrm>
            <a:off x="4356000" y="5950080"/>
            <a:ext cx="3768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О.Высотская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7" name="Picture 9" descr="j0088542"/>
          <p:cNvPicPr/>
          <p:nvPr/>
        </p:nvPicPr>
        <p:blipFill>
          <a:blip r:embed="rId3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238" name="Номер слайда 7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Нижний колонтитул 8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Путешествие по зимнему лесу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Дата 4"/>
          <p:cNvSpPr/>
          <p:nvPr/>
        </p:nvSpPr>
        <p:spPr>
          <a:xfrm>
            <a:off x="3124080" y="647712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D:\Мои документы\Мои рисунки\снеж.JPG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WordArt 11"/>
          <p:cNvSpPr txBox="1"/>
          <p:nvPr/>
        </p:nvSpPr>
        <p:spPr>
          <a:xfrm>
            <a:off x="1476360" y="1557360"/>
            <a:ext cx="6200640" cy="128592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тешествие по зимнему лес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1523880" y="2708280"/>
          <a:ext cx="6096240" cy="38052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761400"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КА  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1400"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ff"/>
                          </a:solidFill>
                          <a:latin typeface="Arial"/>
                          <a:ea typeface="Times New Roman"/>
                        </a:rPr>
                        <a:t>П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ff"/>
                          </a:solidFill>
                          <a:latin typeface="Arial"/>
                          <a:ea typeface="Times New Roman"/>
                        </a:rPr>
                        <a:t>НА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1400"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К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1400"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ЛОД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РУ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1400"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РЫ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3T11:38:28Z</dcterms:created>
  <dc:creator>Вещий</dc:creator>
  <dc:description/>
  <dc:language>en-US</dc:language>
  <cp:lastModifiedBy>user</cp:lastModifiedBy>
  <dcterms:modified xsi:type="dcterms:W3CDTF">2022-03-24T18:36:4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