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53D0-964B-4F26-9129-BC7748F6CC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F143-5FBE-41F8-830C-841790F5CC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F11-0046-467F-8874-7E507FAF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2C4-6071-4854-A0CE-04E5F0B7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364-8166-4935-92DF-D93A1E97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5D0-AAC0-451E-9B22-7BF87F8C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6CCD-77A5-4849-863C-8616FB45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03FA-1A74-4F00-9FA3-8F8D9902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02DC-57EB-42EC-AB9A-98179448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617D-7500-48E4-8FD9-E5D5A64E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05CE-6660-4B3A-AC9A-70D94240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DB51-DFC6-4699-A273-2CAEC4BF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C2F3-7811-4050-AEF5-01CB7416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F95-B20C-423D-88A0-C86AFC57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DEFA-F91F-4B42-8C47-04583E2C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AFE1-8A33-464C-9FA2-74D2DC27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03F8-0480-4619-8975-A0C72A6B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586B-B90D-4E9B-82FC-990E17CC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3CF1-F389-4043-98B8-E2393520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A6279-694A-47C5-AB80-8E4482FD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A2BA6-A9B1-42DD-B711-383AD292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E9438-EA58-4373-A071-BC0D453F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08B83-5BDD-4D7E-8388-77A3D3E1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7AA92-D783-4442-9D07-5CCC0158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B37-EB60-4FAE-A333-D371504A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91341-D600-4A0F-9659-8D12F0BD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F5B47-63A3-4CC4-BB56-21ABE595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71FB0-8D98-4AE3-BF35-2C3C6231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10714-AA11-4853-9298-EC65EBDF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D2300-5039-4CD9-B144-3B7C947D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BA8B6-180D-4DEE-B3A4-AEC4EC20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E891-3422-41B0-9D98-29FA28D3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C8EE5-E38E-43C8-B872-BD2EB99A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27384-D552-4F1F-964E-6962FAAE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A458C-F71A-4BB6-BD04-B6B7134C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75A-F085-46AC-94AB-510E5922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63F24-41C8-44FA-9D19-A8466BC1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0DB0D-9D5B-41A6-9355-37E3552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8CFCD-5B8A-411E-9962-07BE0A56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5CF59-51D2-47BB-89CB-4406E9A0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419C8-AAB3-4BA9-A5A1-B22F05A2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CBF8C-F24B-46E9-AAD8-F1DD4395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F7EC8-61B9-4C5C-8FF8-6A0C9AEC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189D4-47ED-44E3-A4DC-3CD20599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E0CE5-79FF-45E3-8207-1DDA3B50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7D9-71C7-4573-9F3F-36B4705C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A85-4CA6-46BD-9C5D-1264A9C5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706-688F-4C21-A090-CB65CC1C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11A-F08A-4B5A-8D5A-3AA64D97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365-C8E5-435E-89A9-F5F5CCAA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21DE-2F5F-4034-A651-F9D16E9D1E0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4819-DDF3-4F61-8FDC-4C3176CAC36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FF8A-F83A-483C-9619-5A283C50E995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503D-DEC9-4914-8149-FC2889556FC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«Современные здоровьесберегающие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технологии в детском саду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24000" y="458136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Ревнивых Ирина Олег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http://player.myshared.ru/907614/data/images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Гимнастика пальчиковая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Способствует овладению навыкам мелкой мотори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Помогает развивать реч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Повышает работоспособность коры головного моз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Развивает психические способности: мышление, память, воображ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Снимает тревож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Содержимое 5" descr="пальчики.jpg"/>
          <p:cNvPicPr/>
          <p:nvPr/>
        </p:nvPicPr>
        <p:blipFill>
          <a:blip r:embed="rId2"/>
          <a:stretch/>
        </p:blipFill>
        <p:spPr>
          <a:xfrm>
            <a:off x="457200" y="1989000"/>
            <a:ext cx="4038480" cy="3961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Дыхательная гимнастика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341000"/>
            <a:ext cx="50767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ложительно влияет на обменные процессы, играющие важную роль в кровоснабжении, в том числе и легочной тка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лучшает дренажную функцию бронхов; - восстанавливает нарушенное носовое дыхани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пособствует восстановлению нормального крово - и лимфоснабж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вышает общую сопротивляемость организм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Содержимое 5" descr="дых.jpg"/>
          <p:cNvPicPr/>
          <p:nvPr/>
        </p:nvPicPr>
        <p:blipFill>
          <a:blip r:embed="rId2"/>
          <a:stretch/>
        </p:blipFill>
        <p:spPr>
          <a:xfrm>
            <a:off x="5364000" y="1557360"/>
            <a:ext cx="3538800" cy="4464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http://www.fondolove.com/bulkupload/wall-infantles3/Infantiles/Peque%20Arcoiris_800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Су-Джок терап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980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Воздействует на биологически активные точки организ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Стимулирует речевые зоны коры головного мозг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Способствует лечению внутренних органов, нормализует работу организма в цело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Развивает мелкую моторику ру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Развивает память, внимание, связную речь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Содержимое 5" descr="су джок.jpg"/>
          <p:cNvPicPr/>
          <p:nvPr/>
        </p:nvPicPr>
        <p:blipFill>
          <a:blip r:embed="rId2"/>
          <a:stretch/>
        </p:blipFill>
        <p:spPr>
          <a:xfrm>
            <a:off x="4648320" y="1916280"/>
            <a:ext cx="4038480" cy="3727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7" descr="http://player.myshared.ru/972863/data/images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Точечный массаж и самомассаж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Содержимое 5" descr="самомассаж.jpg"/>
          <p:cNvPicPr/>
          <p:nvPr/>
        </p:nvPicPr>
        <p:blipFill>
          <a:blip r:embed="rId2"/>
          <a:stretch/>
        </p:blipFill>
        <p:spPr>
          <a:xfrm>
            <a:off x="457200" y="1844640"/>
            <a:ext cx="4038480" cy="37990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932000" y="1700280"/>
            <a:ext cx="4103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Учит детей сознательно заботиться о своём здоровь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Является профилактикой простудных заболеван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Повышает жизненный тонуса у дете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Прививает им чувство ответственности за своё здоровье, уверенность в том, что они сами могут помочь себе улучшить своё самочувстви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85988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Гимнастика для глаз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Улучшает циркуляцию крови и внутриглазной жидкости гла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Укрепляет мышцы гла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Улучшает аккомодацию (это способность глаза человека к хорошему качеству зрения на разных расстояниях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6" descr="C:\Users\user\Desktop\работа\фото подг\IMG_20170317_094444.jpg"/>
          <p:cNvPicPr/>
          <p:nvPr/>
        </p:nvPicPr>
        <p:blipFill>
          <a:blip r:embed="rId2"/>
          <a:stretch/>
        </p:blipFill>
        <p:spPr>
          <a:xfrm>
            <a:off x="324000" y="2205000"/>
            <a:ext cx="4066920" cy="3051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4716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Релаксац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24000" y="1628280"/>
            <a:ext cx="424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Учит детей расслаблятьс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Способствует концентрации внима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Помогает снять напряж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Снимает возбужд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Содержимое 5" descr="релаксация.jpg"/>
          <p:cNvPicPr/>
          <p:nvPr/>
        </p:nvPicPr>
        <p:blipFill>
          <a:blip r:embed="rId2"/>
          <a:stretch/>
        </p:blipFill>
        <p:spPr>
          <a:xfrm>
            <a:off x="4648320" y="1341360"/>
            <a:ext cx="4038480" cy="4302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0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Times New Roman"/>
              </a:rPr>
              <a:t>Музыкотерап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8920" y="1934640"/>
            <a:ext cx="3961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вышает иммунитет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нимает напряжение и раздражитель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нимает головную бол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осстанавливает спокойное дых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6" descr="C:\Users\user\Desktop\работа\фото подг\IMG_20170317_124006.jpg"/>
          <p:cNvPicPr/>
          <p:nvPr/>
        </p:nvPicPr>
        <p:blipFill>
          <a:blip r:embed="rId2"/>
          <a:stretch/>
        </p:blipFill>
        <p:spPr>
          <a:xfrm>
            <a:off x="4648320" y="1844640"/>
            <a:ext cx="4038480" cy="4464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-747720"/>
            <a:ext cx="9252000" cy="76057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642160" cy="648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</a:rPr>
              <a:t>Применение в работе ДОУ здоровьесберегающих технологий, повышает результативность воспитательно-образовательного процесса, формирует у педагогов и родителей ценностные ориентации, направленные на сохранение и укрепление здоровья воспитанников.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 advTm="2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362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Здоровье ребенка превыше всего,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Богатство земли не заменит его.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Здоровье не купишь, никто не продаст.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Его берегите, как сердце, как глаз!!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 advTm="2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75564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«Детям совершенно так же, как и взрослым, хочется быть здоровыми и сильными, только дети не знают, что для этого надо делать. Объясни им, и они будут беречься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Януш Корча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- это состояние полного физического, психическог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и социального благополучия, а не просто отсутствие болезней ил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физических дефектов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(Всемирная организация здравоохранения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Здоровьесберегающая технология -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Задачи здоровьесбережения</a:t>
            </a: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хранение здоровья детей и повышение двигательной активности и умственной работоспособност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адекватных условий для развития, обучения, оздоровления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положительного эмоционального настроя и снятие психоэмоционального напряж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6600cc"/>
                </a:solidFill>
                <a:latin typeface="Times New Roman"/>
              </a:rPr>
              <a:t>Здоровьесберегающие образовательные технологии делятся на </a:t>
            </a:r>
            <a:r>
              <a:rPr b="1" i="1" lang="ru-RU" sz="3600" spc="-1" strike="noStrike" u="sng">
                <a:solidFill>
                  <a:srgbClr val="6600cc"/>
                </a:solidFill>
                <a:uFillTx/>
                <a:latin typeface="Times New Roman"/>
              </a:rPr>
              <a:t>три группы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1. Технологии сохранения и стимулирования здоровь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2. Технологии обучения здоровому образу жизн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3. Коррекционные технологи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 сохранения и стимулирова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Динамические паузы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Подвижные и спортивные игры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Релаксаци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пальчикова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для глаз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дыхательна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Динамическая гимнастик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6435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 обучения здоровому образу жизни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11280" y="2276640"/>
            <a:ext cx="8075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Физкультурные занят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Точечный массаж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Занятия в бассейн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Проблемно – игровые и коммуникативные игр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57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00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Коррекционные </a:t>
            </a:r>
            <a:br>
              <a:rPr sz="4400"/>
            </a:b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000" y="1844640"/>
            <a:ext cx="821844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казко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Песочная 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Арт –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у-Джок 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Музыкр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84360" y="620640"/>
            <a:ext cx="742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user</cp:lastModifiedBy>
  <dcterms:modified xsi:type="dcterms:W3CDTF">2018-03-28T08:09:20Z</dcterms:modified>
  <cp:revision>50</cp:revision>
  <dc:subject/>
  <dc:title>Your Title Here…</dc:title>
</cp:coreProperties>
</file>