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52F-78A6-4E06-AC88-3982D229F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792E-0C1E-4BD3-8E24-45D8271F9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98D-3164-4EEA-B38F-D4257D5DA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34B-71BC-4399-993D-01698641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7BC-DF38-4052-A5FC-D490820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E9B-4824-4E71-972B-D9E2A745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BDF-3138-4CFD-8FCD-C8C4797E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DCEC-2CE2-4D98-A0A6-91E1C5CB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2A55-90FF-4825-806B-769B3D54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132-9441-49DD-98D6-22C0B97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B994-496B-47FE-8FD9-B96A814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773-80D8-414D-B65C-B63BB44C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925-FA9B-4671-89E2-22191F2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B1A-7D49-4F2B-80F2-EAA880C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6AF-9059-4E0F-8713-325A1607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DEC2-4DBC-4166-98C3-CBE1CDED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0890-9B1D-4B4F-B0AF-622232C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C6F2-D69F-4BC1-B1D3-E392F50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6A90-E9E7-405D-8F05-FF1CAB71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7A97-2978-4437-BE62-9F514EE4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ADC-ED33-4638-BF3C-2E059E05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D7C-3561-49E8-94CB-55F14C7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1F3-B9CD-4536-924D-5F296F11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4A7-B239-4BB9-A2A9-0EBB0D4C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ABF-834C-4929-80B6-85CE338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79B-339B-4CBF-A4FA-5FE9225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8A0-469D-468B-801B-724DB899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7215-959D-4E22-937A-7098CCD43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1822-5229-45EC-BB71-C1BA71468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image" Target="../media/image5.png"/><Relationship Id="rId14" Type="http://schemas.openxmlformats.org/officeDocument/2006/relationships/slide" Target="slide11.xml"/><Relationship Id="rId15" Type="http://schemas.openxmlformats.org/officeDocument/2006/relationships/image" Target="../media/image6.jpeg"/><Relationship Id="rId16" Type="http://schemas.openxmlformats.org/officeDocument/2006/relationships/slide" Target="slide10.xm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16.xml"/><Relationship Id="rId9" Type="http://schemas.openxmlformats.org/officeDocument/2006/relationships/image" Target="../media/image10.png"/><Relationship Id="rId10" Type="http://schemas.openxmlformats.org/officeDocument/2006/relationships/slide" Target="slide16.xml"/><Relationship Id="rId11" Type="http://schemas.openxmlformats.org/officeDocument/2006/relationships/slide" Target="slide13.xml"/><Relationship Id="rId12" Type="http://schemas.openxmlformats.org/officeDocument/2006/relationships/image" Target="../media/image11.png"/><Relationship Id="rId13" Type="http://schemas.openxmlformats.org/officeDocument/2006/relationships/slide" Target="slide12.xml"/><Relationship Id="rId14" Type="http://schemas.openxmlformats.org/officeDocument/2006/relationships/image" Target="../media/image12.png"/><Relationship Id="rId15" Type="http://schemas.openxmlformats.org/officeDocument/2006/relationships/slide" Target="slide14.xml"/><Relationship Id="rId16" Type="http://schemas.openxmlformats.org/officeDocument/2006/relationships/image" Target="../media/image13.jpeg"/><Relationship Id="rId17" Type="http://schemas.openxmlformats.org/officeDocument/2006/relationships/hyperlink" Target="https://pencup.ru/test/1590" TargetMode="External"/><Relationship Id="rId18" Type="http://schemas.openxmlformats.org/officeDocument/2006/relationships/image" Target="../media/image14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1"/>
          <p:cNvSpPr/>
          <p:nvPr/>
        </p:nvSpPr>
        <p:spPr>
          <a:xfrm>
            <a:off x="1979640" y="189000"/>
            <a:ext cx="518472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484360" y="189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ь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950600" y="8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301240" y="15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649000" y="15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15080" y="7398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кту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24000" y="112536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з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3360" y="14842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а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7640" y="2071800"/>
            <a:ext cx="19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пом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357120" y="250020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называется массой т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377400" y="785880"/>
            <a:ext cx="27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374040" y="29289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бор для измерения массы т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35712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найти объём ку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2"/>
          <p:cNvSpPr/>
          <p:nvPr/>
        </p:nvSpPr>
        <p:spPr>
          <a:xfrm>
            <a:off x="379440" y="378612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определить объём тела неправильной фор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8"/>
          <p:cNvSpPr/>
          <p:nvPr/>
        </p:nvSpPr>
        <p:spPr>
          <a:xfrm>
            <a:off x="7140600" y="11430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Задание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7113600" y="157176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Задание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5" descr="C:\Documents and Settings\Лена\Рабочий стол\Мягкая УРОК\Картинки\images.jpg"/>
          <p:cNvPicPr/>
          <p:nvPr/>
        </p:nvPicPr>
        <p:blipFill>
          <a:blip r:embed="rId11"/>
          <a:stretch/>
        </p:blipFill>
        <p:spPr>
          <a:xfrm>
            <a:off x="4429080" y="928800"/>
            <a:ext cx="1882800" cy="1214280"/>
          </a:xfrm>
          <a:prstGeom prst="rect">
            <a:avLst/>
          </a:prstGeom>
          <a:ln w="38160">
            <a:solidFill>
              <a:srgbClr val="92d050"/>
            </a:solidFill>
            <a:miter/>
          </a:ln>
        </p:spPr>
      </p:pic>
      <p:sp>
        <p:nvSpPr>
          <p:cNvPr id="106" name="Прямоугольник 19"/>
          <p:cNvSpPr/>
          <p:nvPr/>
        </p:nvSpPr>
        <p:spPr>
          <a:xfrm>
            <a:off x="357120" y="41432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ве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357120" y="4425840"/>
            <a:ext cx="25592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 г      =                  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ц          =                  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1 т       =                  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 л       =                 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 дм    =                 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930600" y="585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501280" y="585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1280" y="5500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4"/>
          <p:cNvSpPr/>
          <p:nvPr/>
        </p:nvSpPr>
        <p:spPr>
          <a:xfrm>
            <a:off x="1643040" y="4500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5"/>
          <p:cNvSpPr/>
          <p:nvPr/>
        </p:nvSpPr>
        <p:spPr>
          <a:xfrm>
            <a:off x="1643040" y="4786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6"/>
          <p:cNvSpPr/>
          <p:nvPr/>
        </p:nvSpPr>
        <p:spPr>
          <a:xfrm>
            <a:off x="1500120" y="5929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0,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7"/>
          <p:cNvSpPr/>
          <p:nvPr/>
        </p:nvSpPr>
        <p:spPr>
          <a:xfrm>
            <a:off x="1500120" y="5143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8"/>
          <p:cNvSpPr/>
          <p:nvPr/>
        </p:nvSpPr>
        <p:spPr>
          <a:xfrm>
            <a:off x="1476360" y="5589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0,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8" descr="C:\Documents and Settings\Лена\Рабочий стол\Безымянный.JPG"/>
          <p:cNvPicPr/>
          <p:nvPr/>
        </p:nvPicPr>
        <p:blipFill>
          <a:blip r:embed="rId12"/>
          <a:stretch/>
        </p:blipFill>
        <p:spPr>
          <a:xfrm>
            <a:off x="4356000" y="4365720"/>
            <a:ext cx="3944880" cy="2271600"/>
          </a:xfrm>
          <a:prstGeom prst="rect">
            <a:avLst/>
          </a:prstGeom>
          <a:ln w="38160">
            <a:solidFill>
              <a:srgbClr val="92d050"/>
            </a:solidFill>
            <a:miter/>
          </a:ln>
        </p:spPr>
      </p:pic>
      <p:sp>
        <p:nvSpPr>
          <p:cNvPr id="117" name="Rectangle 42"/>
          <p:cNvSpPr/>
          <p:nvPr/>
        </p:nvSpPr>
        <p:spPr>
          <a:xfrm>
            <a:off x="2873520" y="4898880"/>
            <a:ext cx="502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2873520" y="4538520"/>
            <a:ext cx="502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4"/>
          <p:cNvSpPr/>
          <p:nvPr/>
        </p:nvSpPr>
        <p:spPr>
          <a:xfrm>
            <a:off x="2873520" y="5259240"/>
            <a:ext cx="502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873520" y="5618160"/>
            <a:ext cx="502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2873520" y="5978520"/>
            <a:ext cx="502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Цилиндр 1"/>
          <p:cNvSpPr/>
          <p:nvPr/>
        </p:nvSpPr>
        <p:spPr>
          <a:xfrm>
            <a:off x="785880" y="1571760"/>
            <a:ext cx="1428840" cy="3929040"/>
          </a:xfrm>
          <a:prstGeom prst="can">
            <a:avLst>
              <a:gd name="adj" fmla="val 9092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Цилиндр 2"/>
          <p:cNvSpPr/>
          <p:nvPr/>
        </p:nvSpPr>
        <p:spPr>
          <a:xfrm>
            <a:off x="3000240" y="3357720"/>
            <a:ext cx="1285920" cy="2143080"/>
          </a:xfrm>
          <a:prstGeom prst="can">
            <a:avLst>
              <a:gd name="adj" fmla="val 15000"/>
            </a:avLst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Цилиндр 3"/>
          <p:cNvSpPr/>
          <p:nvPr/>
        </p:nvSpPr>
        <p:spPr>
          <a:xfrm>
            <a:off x="5357880" y="4071960"/>
            <a:ext cx="1214280" cy="1428840"/>
          </a:xfrm>
          <a:prstGeom prst="can">
            <a:avLst>
              <a:gd name="adj" fmla="val 21250"/>
            </a:avLst>
          </a:prstGeom>
          <a:solidFill>
            <a:srgbClr val="cd620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Цилиндр 4"/>
          <p:cNvSpPr/>
          <p:nvPr/>
        </p:nvSpPr>
        <p:spPr>
          <a:xfrm>
            <a:off x="7429680" y="4714920"/>
            <a:ext cx="1000080" cy="714240"/>
          </a:xfrm>
          <a:prstGeom prst="can">
            <a:avLst>
              <a:gd name="adj" fmla="val 25000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7429680" y="5715000"/>
            <a:ext cx="1143000" cy="35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5429160" y="5715000"/>
            <a:ext cx="1143000" cy="35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3071880" y="5715000"/>
            <a:ext cx="1285920" cy="35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714240" y="5715000"/>
            <a:ext cx="1500480" cy="357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юм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3203640" y="4076640"/>
            <a:ext cx="86832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0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г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5508720" y="4572000"/>
            <a:ext cx="84924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900 кг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2"/>
          <p:cNvSpPr/>
          <p:nvPr/>
        </p:nvSpPr>
        <p:spPr>
          <a:xfrm>
            <a:off x="7500960" y="4929120"/>
            <a:ext cx="85716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300 кг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1928880" y="42876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и различных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23"/>
          <p:cNvGrpSpPr/>
          <p:nvPr/>
        </p:nvGrpSpPr>
        <p:grpSpPr>
          <a:xfrm>
            <a:off x="1042920" y="3143160"/>
            <a:ext cx="1035000" cy="571680"/>
            <a:chOff x="1042920" y="3143160"/>
            <a:chExt cx="1035000" cy="571680"/>
          </a:xfrm>
        </p:grpSpPr>
        <p:sp>
          <p:nvSpPr>
            <p:cNvPr id="232" name="Прямоугольник 9"/>
            <p:cNvSpPr/>
            <p:nvPr/>
          </p:nvSpPr>
          <p:spPr>
            <a:xfrm>
              <a:off x="1042920" y="3143160"/>
              <a:ext cx="855720" cy="5716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700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г/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8"/>
            <p:cNvSpPr/>
            <p:nvPr/>
          </p:nvSpPr>
          <p:spPr>
            <a:xfrm>
              <a:off x="1641960" y="3357360"/>
              <a:ext cx="4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48"/>
          <p:cNvSpPr/>
          <p:nvPr/>
        </p:nvSpPr>
        <p:spPr>
          <a:xfrm>
            <a:off x="3786120" y="428616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8"/>
          <p:cNvSpPr/>
          <p:nvPr/>
        </p:nvSpPr>
        <p:spPr>
          <a:xfrm>
            <a:off x="6084720" y="472428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8072280" y="50720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7358040" y="6215040"/>
            <a:ext cx="1357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>
            <a:hlinkClick r:id="rId5" action="ppaction://hlinksldjump"/>
          </p:cNvPr>
          <p:cNvSpPr/>
          <p:nvPr/>
        </p:nvSpPr>
        <p:spPr>
          <a:xfrm>
            <a:off x="7524720" y="6165720"/>
            <a:ext cx="1357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928800" y="285840"/>
            <a:ext cx="7429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ь воды в различных агрегатных состоя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516720" y="4869000"/>
            <a:ext cx="1571760" cy="12855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отность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900 кг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4067280" y="4869000"/>
            <a:ext cx="1571400" cy="12855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отность воды чи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000 кг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1332000" y="4869000"/>
            <a:ext cx="1571400" cy="12855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отность водяного п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59 кг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2556000" y="5732640"/>
            <a:ext cx="3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5292720" y="558972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7667640" y="5589720"/>
            <a:ext cx="2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7596360" y="6165720"/>
            <a:ext cx="1357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0200301"/>
          <p:cNvPicPr/>
          <p:nvPr/>
        </p:nvPicPr>
        <p:blipFill>
          <a:blip r:embed="rId3"/>
          <a:stretch/>
        </p:blipFill>
        <p:spPr>
          <a:xfrm>
            <a:off x="1258920" y="1700280"/>
            <a:ext cx="6858000" cy="2857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857160" y="21420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к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го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пределение массы воздуха в комнат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одержимое 2"/>
          <p:cNvSpPr/>
          <p:nvPr/>
        </p:nvSpPr>
        <p:spPr>
          <a:xfrm>
            <a:off x="539640" y="1268280"/>
            <a:ext cx="80726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мерьте длину а, ширину 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</a:t>
            </a: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и высоту с вашей комнат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числите объём комнаты по формуле 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=a*b*c</a:t>
            </a: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числите массу воздуха в вашей комнате по формуле 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=</a:t>
            </a:r>
            <a:r>
              <a:rPr b="1" lang="el-GR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ρ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*v (</a:t>
            </a: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де </a:t>
            </a:r>
            <a:r>
              <a:rPr b="1" lang="el-GR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ρ</a:t>
            </a: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плотность воздуха, её можно принять равной 1,3 кг/м  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futura-sciences.com/uploads/tx_oxcsfutura/bulles_oxygene_layoutsparks_com.jpg"/>
          <p:cNvPicPr/>
          <p:nvPr/>
        </p:nvPicPr>
        <p:blipFill>
          <a:blip r:embed="rId1"/>
          <a:stretch/>
        </p:blipFill>
        <p:spPr>
          <a:xfrm>
            <a:off x="2000160" y="4143240"/>
            <a:ext cx="4929120" cy="2428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7524720" y="6093000"/>
            <a:ext cx="1357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3060360" y="3573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7200720" cy="4028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>
            <a:hlinkClick r:id="rId2" action="ppaction://hlinksldjump"/>
          </p:cNvPr>
          <p:cNvSpPr/>
          <p:nvPr/>
        </p:nvSpPr>
        <p:spPr>
          <a:xfrm>
            <a:off x="7500960" y="5786280"/>
            <a:ext cx="1357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000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еометр (плотноме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501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бор в виде стеклянного поплавка с делениями и грузом внизу, предназначенный для измерения плотности жид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реометр погружается в жидкость, плотность которой необходимо измерить. Принцип действия ареометра основан на законе Архим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7596360" y="6021360"/>
            <a:ext cx="1357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09480" y="6021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7" descr="C:\Users\user\Desktop\snapshot3.jpg"/>
          <p:cNvPicPr/>
          <p:nvPr/>
        </p:nvPicPr>
        <p:blipFill>
          <a:blip r:embed="rId1"/>
          <a:stretch/>
        </p:blipFill>
        <p:spPr>
          <a:xfrm>
            <a:off x="4716360" y="3429000"/>
            <a:ext cx="3419640" cy="2492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C:\Users\Елена\Desktop\BXQURW-1d44bdf0.png"/>
          <p:cNvPicPr/>
          <p:nvPr/>
        </p:nvPicPr>
        <p:blipFill>
          <a:blip r:embed="rId2"/>
          <a:stretch/>
        </p:blipFill>
        <p:spPr>
          <a:xfrm>
            <a:off x="4932360" y="5661000"/>
            <a:ext cx="612720" cy="801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11"/>
          <p:cNvSpPr/>
          <p:nvPr/>
        </p:nvSpPr>
        <p:spPr>
          <a:xfrm>
            <a:off x="468360" y="342900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8424"/>
                </a:solidFill>
                <a:latin typeface="Times New Roman"/>
                <a:ea typeface="Calibri"/>
              </a:rPr>
              <a:t>Ви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8424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568424"/>
                </a:solidFill>
                <a:latin typeface="Times New Roman"/>
                <a:ea typeface="Calibri"/>
              </a:rPr>
              <a:t>«Устройство и принцип работы ареомет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755640" y="1000080"/>
            <a:ext cx="781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мый плотный металл на Земле имеет плотность менее 30 г/см . Плотность вещества в центре Солнца около 100 г/см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438200" y="152280"/>
            <a:ext cx="70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ь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7596360" y="6021360"/>
            <a:ext cx="1357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t2.gstatic.com/images?q=tbn:ANd9GcR6ofHWnhALyDbnyd-gqSj3u3R8tBQ6rP-k9eM2ppbpj6P_ppyArQ"/>
          <p:cNvPicPr/>
          <p:nvPr/>
        </p:nvPicPr>
        <p:blipFill>
          <a:blip r:embed="rId1"/>
          <a:stretch/>
        </p:blipFill>
        <p:spPr>
          <a:xfrm>
            <a:off x="2357280" y="2571840"/>
            <a:ext cx="4591080" cy="34383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6"/>
          <p:cNvSpPr/>
          <p:nvPr/>
        </p:nvSpPr>
        <p:spPr>
          <a:xfrm>
            <a:off x="5869800" y="184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471816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7840" y="609300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105228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долж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727236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сегодня на уроке открыл для себ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хотел бы узнать больше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удовлетворён своей работой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  хотелось бы порекомендов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2" descr="21school.jpg"/>
          <p:cNvPicPr/>
          <p:nvPr/>
        </p:nvPicPr>
        <p:blipFill>
          <a:blip r:embed="rId1"/>
          <a:stretch/>
        </p:blipFill>
        <p:spPr>
          <a:xfrm>
            <a:off x="1763640" y="3716280"/>
            <a:ext cx="3853080" cy="2855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233400" y="587700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738920" y="587700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9640" y="47628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3898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7643880" y="6072120"/>
            <a:ext cx="1357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7950600" y="15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01240" y="8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8649000" y="15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30480" y="765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кту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59640" y="11001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з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33360" y="14842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а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771640" y="2997360"/>
            <a:ext cx="310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отности различн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143080" y="8571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&lt;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Формула. Единицы измерения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4000680" y="128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пишите в тетрад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0" y="11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ь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>
            <a:hlinkClick r:id="rId11" action="ppaction://hlinksldjump"/>
          </p:cNvPr>
          <p:cNvSpPr/>
          <p:nvPr/>
        </p:nvSpPr>
        <p:spPr>
          <a:xfrm>
            <a:off x="395280" y="299736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 чего зависит плотн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Похоже на строение вещества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1280" y="3860640"/>
            <a:ext cx="2251080" cy="169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4" name="Text Box 11"/>
          <p:cNvSpPr/>
          <p:nvPr/>
        </p:nvSpPr>
        <p:spPr>
          <a:xfrm>
            <a:off x="5867280" y="3068640"/>
            <a:ext cx="28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отности в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2" descr="лед-вода.jp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12000" y="3789360"/>
            <a:ext cx="2708280" cy="180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6" name="Picture 4" descr="">
            <a:hlinkClick r:id="rId16" action="ppaction://hlinksldjump"/>
          </p:cNvPr>
          <p:cNvPicPr/>
          <p:nvPr/>
        </p:nvPicPr>
        <p:blipFill>
          <a:blip r:embed="rId17"/>
          <a:srcRect l="28028" t="40701" r="31383" b="5523"/>
          <a:stretch/>
        </p:blipFill>
        <p:spPr>
          <a:xfrm>
            <a:off x="3132000" y="3789360"/>
            <a:ext cx="2475000" cy="180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7" name="Picture 26" descr="C:\Users\Елена\Desktop\BXQURW-1d44bdf0.png"/>
          <p:cNvPicPr/>
          <p:nvPr/>
        </p:nvPicPr>
        <p:blipFill>
          <a:blip r:embed="rId18"/>
          <a:stretch/>
        </p:blipFill>
        <p:spPr>
          <a:xfrm>
            <a:off x="2195640" y="5445000"/>
            <a:ext cx="610920" cy="80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C:\Users\Елена\Desktop\BXQURW-1d44bdf0.png"/>
          <p:cNvPicPr/>
          <p:nvPr/>
        </p:nvPicPr>
        <p:blipFill>
          <a:blip r:embed="rId19"/>
          <a:stretch/>
        </p:blipFill>
        <p:spPr>
          <a:xfrm>
            <a:off x="4932360" y="5445000"/>
            <a:ext cx="612720" cy="80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C:\Users\Елена\Desktop\BXQURW-1d44bdf0.png"/>
          <p:cNvPicPr/>
          <p:nvPr/>
        </p:nvPicPr>
        <p:blipFill>
          <a:blip r:embed="rId20"/>
          <a:stretch/>
        </p:blipFill>
        <p:spPr>
          <a:xfrm>
            <a:off x="8101080" y="5445000"/>
            <a:ext cx="611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7950600" y="15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301240" y="15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649000" y="8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30480" y="765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кту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7240" y="112536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з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97800" y="1459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286000" y="128592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легче – 1 кг гвоздей или 1 кг пух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484360" y="69228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82292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машнее задание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.21, Упр.7(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Text Box 22"/>
          <p:cNvGrpSpPr/>
          <p:nvPr/>
        </p:nvGrpSpPr>
        <p:grpSpPr>
          <a:xfrm>
            <a:off x="2908440" y="6267600"/>
            <a:ext cx="1461960" cy="431640"/>
            <a:chOff x="2908440" y="6267600"/>
            <a:chExt cx="1461960" cy="431640"/>
          </a:xfrm>
        </p:grpSpPr>
        <p:pic>
          <p:nvPicPr>
            <p:cNvPr id="150" name="Text Box 2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908440" y="6267600"/>
              <a:ext cx="14619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78280" y="62866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0" action="ppaction://hlinksldjump"/>
                </a:rPr>
                <a:t>Рефлек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8"/>
          <p:cNvSpPr/>
          <p:nvPr/>
        </p:nvSpPr>
        <p:spPr>
          <a:xfrm>
            <a:off x="0" y="11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ь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646000" y="836640"/>
            <a:ext cx="30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умай и отв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55120" y="3141720"/>
            <a:ext cx="24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и задач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6000" y="185724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ссы трех шаров равны. Одинаковы ли плотности веществ, из которых они изготовлен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14200" y="3571920"/>
            <a:ext cx="328608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яная глыба объёмом 30 м   имеет массу 27 т. Определите плотность ль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Картофелина массой 60г имеет  объём 50 см  . Определите плотность картофеля и выразите её в кг/м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757440" y="378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1044720" y="609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Text Box 14"/>
          <p:cNvGrpSpPr/>
          <p:nvPr/>
        </p:nvGrpSpPr>
        <p:grpSpPr>
          <a:xfrm>
            <a:off x="3804840" y="2481120"/>
            <a:ext cx="1679040" cy="401760"/>
            <a:chOff x="3804840" y="2481120"/>
            <a:chExt cx="1679040" cy="401760"/>
          </a:xfrm>
        </p:grpSpPr>
        <p:pic>
          <p:nvPicPr>
            <p:cNvPr id="160" name="Text Box 14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127400" y="2481120"/>
              <a:ext cx="10303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4840" y="2500200"/>
              <a:ext cx="16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ису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оугольник 20"/>
          <p:cNvGrpSpPr/>
          <p:nvPr/>
        </p:nvGrpSpPr>
        <p:grpSpPr>
          <a:xfrm>
            <a:off x="4913280" y="6267600"/>
            <a:ext cx="3876840" cy="431640"/>
            <a:chOff x="4913280" y="6267600"/>
            <a:chExt cx="3876840" cy="431640"/>
          </a:xfrm>
        </p:grpSpPr>
        <p:pic>
          <p:nvPicPr>
            <p:cNvPr id="163" name="Прямоугольник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4913280" y="6267600"/>
              <a:ext cx="38768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940640" y="6286680"/>
              <a:ext cx="382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олни домашний экспериме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4"/>
          <p:cNvSpPr/>
          <p:nvPr/>
        </p:nvSpPr>
        <p:spPr>
          <a:xfrm>
            <a:off x="2556000" y="3141720"/>
            <a:ext cx="48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полни онлайн-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лотность веще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reomet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643800" y="378612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6"/>
          <p:cNvSpPr/>
          <p:nvPr/>
        </p:nvSpPr>
        <p:spPr>
          <a:xfrm>
            <a:off x="2557800" y="522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25" descr="https://data.pencup.ru/uploaded-images/233-1543160883.228546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780000" y="3860640"/>
            <a:ext cx="2447640" cy="1729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6398280" y="3141720"/>
            <a:ext cx="25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6" descr="C:\Users\Елена\Desktop\BXQURW-1d44bdf0.png"/>
          <p:cNvPicPr/>
          <p:nvPr/>
        </p:nvPicPr>
        <p:blipFill>
          <a:blip r:embed="rId19"/>
          <a:stretch/>
        </p:blipFill>
        <p:spPr>
          <a:xfrm>
            <a:off x="3564000" y="5157720"/>
            <a:ext cx="611280" cy="801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C:\Users\Елена\Desktop\BXQURW-1d44bdf0.png"/>
          <p:cNvPicPr/>
          <p:nvPr/>
        </p:nvPicPr>
        <p:blipFill>
          <a:blip r:embed="rId20"/>
          <a:stretch/>
        </p:blipFill>
        <p:spPr>
          <a:xfrm>
            <a:off x="6443640" y="5157720"/>
            <a:ext cx="611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карт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ого задания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571400"/>
            <a:ext cx="84960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д вами 2 цилинд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</a:t>
            </a: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 помощью мензурки определите объем каждого цилиндр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Занесите полученные результаты в таблиц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С помощью весов измерьте массы цилиндров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несите полученные результаты в таблиц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4005360"/>
          <a:ext cx="6357960" cy="1665360"/>
        </p:xfrm>
        <a:graphic>
          <a:graphicData uri="http://schemas.openxmlformats.org/drawingml/2006/table">
            <a:tbl>
              <a:tblPr/>
              <a:tblGrid>
                <a:gridCol w="1589040"/>
                <a:gridCol w="1590840"/>
                <a:gridCol w="1589040"/>
                <a:gridCol w="158904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ъем первого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ъем второго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сса первого цилинд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сса второго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5" name="Овал 6">
            <a:hlinkClick r:id="rId1" action="ppaction://hlinksldjump"/>
          </p:cNvPr>
          <p:cNvSpPr/>
          <p:nvPr/>
        </p:nvSpPr>
        <p:spPr>
          <a:xfrm>
            <a:off x="6875640" y="5877000"/>
            <a:ext cx="2017440" cy="720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https://ru-static.z-dn.net/files/d71/f0578a992feab127c4f9422b70d34b97.jpg"/>
          <p:cNvPicPr/>
          <p:nvPr/>
        </p:nvPicPr>
        <p:blipFill>
          <a:blip r:embed="rId3"/>
          <a:stretch/>
        </p:blipFill>
        <p:spPr>
          <a:xfrm>
            <a:off x="7020000" y="2852640"/>
            <a:ext cx="187308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Лена\Рабочий стол\Мягкая УРОК\Картинки\Рисунок2.JPG"/>
          <p:cNvPicPr/>
          <p:nvPr/>
        </p:nvPicPr>
        <p:blipFill>
          <a:blip r:embed="rId1"/>
          <a:stretch/>
        </p:blipFill>
        <p:spPr>
          <a:xfrm>
            <a:off x="757080" y="561960"/>
            <a:ext cx="7702560" cy="5531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7451640" y="6165720"/>
            <a:ext cx="1357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д вами гирька и лист бумаг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авните объемы этих те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ожите на одну чашу рычажных весов гирьку, на другую – бумаг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авните массы те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делайте выводы, оформите их на дос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карт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ого задания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"/>
          <p:cNvSpPr/>
          <p:nvPr/>
        </p:nvSpPr>
        <p:spPr>
          <a:xfrm>
            <a:off x="6357960" y="4714920"/>
            <a:ext cx="2143080" cy="8571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:\Users\Елена\Desktop\a2096699acb4ed82a88079102c82d7ef_i-697.jpg"/>
          <p:cNvPicPr/>
          <p:nvPr/>
        </p:nvPicPr>
        <p:blipFill>
          <a:blip r:embed="rId2"/>
          <a:stretch/>
        </p:blipFill>
        <p:spPr>
          <a:xfrm>
            <a:off x="2195640" y="4221000"/>
            <a:ext cx="33130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Лена\Рабочий стол\Мягкая УРОК\Картинки\Рисунок1.JPG"/>
          <p:cNvPicPr/>
          <p:nvPr/>
        </p:nvPicPr>
        <p:blipFill>
          <a:blip r:embed="rId1"/>
          <a:stretch/>
        </p:blipFill>
        <p:spPr>
          <a:xfrm>
            <a:off x="1071720" y="357120"/>
            <a:ext cx="7610400" cy="5762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7572240" y="6215040"/>
            <a:ext cx="1357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Формула для расчёта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лотности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6"/>
          <p:cNvGrpSpPr/>
          <p:nvPr/>
        </p:nvGrpSpPr>
        <p:grpSpPr>
          <a:xfrm>
            <a:off x="0" y="3213000"/>
            <a:ext cx="9144000" cy="1368720"/>
            <a:chOff x="0" y="3213000"/>
            <a:chExt cx="9144000" cy="1368720"/>
          </a:xfrm>
        </p:grpSpPr>
        <p:sp>
          <p:nvSpPr>
            <p:cNvPr id="187" name="Прямоугольник 37"/>
            <p:cNvSpPr/>
            <p:nvPr/>
          </p:nvSpPr>
          <p:spPr>
            <a:xfrm>
              <a:off x="0" y="3213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</a:rPr>
                <a:t>Единицы измерения плотност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Группа 47"/>
            <p:cNvGrpSpPr/>
            <p:nvPr/>
          </p:nvGrpSpPr>
          <p:grpSpPr>
            <a:xfrm>
              <a:off x="2143080" y="3719520"/>
              <a:ext cx="5357880" cy="862200"/>
              <a:chOff x="2143080" y="3719520"/>
              <a:chExt cx="5357880" cy="862200"/>
            </a:xfrm>
          </p:grpSpPr>
          <p:sp>
            <p:nvSpPr>
              <p:cNvPr id="189" name="Text Box 48"/>
              <p:cNvSpPr/>
              <p:nvPr/>
            </p:nvSpPr>
            <p:spPr>
              <a:xfrm>
                <a:off x="6372360" y="3786480"/>
                <a:ext cx="36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Группа 41"/>
              <p:cNvGrpSpPr/>
              <p:nvPr/>
            </p:nvGrpSpPr>
            <p:grpSpPr>
              <a:xfrm>
                <a:off x="2143080" y="3719520"/>
                <a:ext cx="5357880" cy="785880"/>
                <a:chOff x="2143080" y="3719520"/>
                <a:chExt cx="5357880" cy="785880"/>
              </a:xfrm>
            </p:grpSpPr>
            <p:sp>
              <p:nvSpPr>
                <p:cNvPr id="191" name="Text Box 36"/>
                <p:cNvSpPr/>
                <p:nvPr/>
              </p:nvSpPr>
              <p:spPr>
                <a:xfrm>
                  <a:off x="2143080" y="3862800"/>
                  <a:ext cx="5357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1 г/см   =   0,001 кг/м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37"/>
                <p:cNvSpPr/>
                <p:nvPr/>
              </p:nvSpPr>
              <p:spPr>
                <a:xfrm>
                  <a:off x="3347640" y="3786480"/>
                  <a:ext cx="34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51"/>
                <p:cNvSpPr/>
                <p:nvPr/>
              </p:nvSpPr>
              <p:spPr>
                <a:xfrm>
                  <a:off x="7010640" y="39693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419640" y="3719520"/>
                  <a:ext cx="346320" cy="5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 Box 51"/>
              <p:cNvSpPr/>
              <p:nvPr/>
            </p:nvSpPr>
            <p:spPr>
              <a:xfrm>
                <a:off x="7163280" y="41220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46"/>
          <p:cNvGrpSpPr/>
          <p:nvPr/>
        </p:nvGrpSpPr>
        <p:grpSpPr>
          <a:xfrm>
            <a:off x="468360" y="4797360"/>
            <a:ext cx="8248680" cy="1434240"/>
            <a:chOff x="468360" y="4797360"/>
            <a:chExt cx="8248680" cy="1434240"/>
          </a:xfrm>
        </p:grpSpPr>
        <p:sp>
          <p:nvSpPr>
            <p:cNvPr id="197" name="Прямоугольник 42"/>
            <p:cNvSpPr/>
            <p:nvPr/>
          </p:nvSpPr>
          <p:spPr>
            <a:xfrm>
              <a:off x="468360" y="4857840"/>
              <a:ext cx="8248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Times New Roman"/>
                </a:rPr>
                <a:t>Плотность меди равна 8900 кг/м , это означает, что тело из меди объёмом 1 м  имеет массу 8900 кг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8"/>
            <p:cNvSpPr/>
            <p:nvPr/>
          </p:nvSpPr>
          <p:spPr>
            <a:xfrm>
              <a:off x="6012000" y="47973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8"/>
            <p:cNvSpPr/>
            <p:nvPr/>
          </p:nvSpPr>
          <p:spPr>
            <a:xfrm>
              <a:off x="5508000" y="52293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Times New Roman"/>
                </a:rPr>
                <a:t>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7429680" y="6072120"/>
            <a:ext cx="1357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5"/>
          <p:cNvGrpSpPr/>
          <p:nvPr/>
        </p:nvGrpSpPr>
        <p:grpSpPr>
          <a:xfrm>
            <a:off x="428760" y="1428840"/>
            <a:ext cx="8386560" cy="1609560"/>
            <a:chOff x="428760" y="1428840"/>
            <a:chExt cx="8386560" cy="1609560"/>
          </a:xfrm>
        </p:grpSpPr>
        <p:sp>
          <p:nvSpPr>
            <p:cNvPr id="202" name="Rectangle 4"/>
            <p:cNvSpPr/>
            <p:nvPr/>
          </p:nvSpPr>
          <p:spPr>
            <a:xfrm>
              <a:off x="428760" y="1428840"/>
              <a:ext cx="307152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598320" y="178596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тность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2276280" y="183204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2357280" y="163368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2274840" y="204948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ъё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4467240" y="157644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4167360" y="1576440"/>
              <a:ext cx="155700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4238640" y="1652760"/>
              <a:ext cx="55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6"/>
            <p:cNvSpPr/>
            <p:nvPr/>
          </p:nvSpPr>
          <p:spPr>
            <a:xfrm>
              <a:off x="4543560" y="16527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9"/>
            <p:cNvSpPr/>
            <p:nvPr/>
          </p:nvSpPr>
          <p:spPr>
            <a:xfrm>
              <a:off x="5000760" y="1500120"/>
              <a:ext cx="3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0"/>
            <p:cNvSpPr/>
            <p:nvPr/>
          </p:nvSpPr>
          <p:spPr>
            <a:xfrm>
              <a:off x="4912200" y="173988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__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5024520" y="2004840"/>
              <a:ext cx="3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2" descr="http://festival.1september.ru/articles/211718/img4.jpg"/>
            <p:cNvPicPr/>
            <p:nvPr/>
          </p:nvPicPr>
          <p:blipFill>
            <a:blip r:embed="rId3"/>
            <a:stretch/>
          </p:blipFill>
          <p:spPr>
            <a:xfrm>
              <a:off x="6357960" y="1428840"/>
              <a:ext cx="2457360" cy="1609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39640" y="2858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тность   вещества  завис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357120" y="1285920"/>
            <a:ext cx="3857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массы атомов, из которых оно состо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плотности упаковки ато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молекул в ве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7524720" y="5805360"/>
            <a:ext cx="1357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https://cf2.ppt-online.org/files2/slide/f/fbrZimtGhaKJFpYNs3O7W2zdykcVMTI1qPC5Rg/slide-15.jpg"/>
          <p:cNvPicPr/>
          <p:nvPr/>
        </p:nvPicPr>
        <p:blipFill>
          <a:blip r:embed="rId2"/>
          <a:stretch/>
        </p:blipFill>
        <p:spPr>
          <a:xfrm>
            <a:off x="3995640" y="1484280"/>
            <a:ext cx="4791240" cy="358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3:03:55Z</dcterms:created>
  <dc:creator>User1-5</dc:creator>
  <dc:description/>
  <dc:language>en-US</dc:language>
  <cp:lastModifiedBy>kompik</cp:lastModifiedBy>
  <dcterms:modified xsi:type="dcterms:W3CDTF">2021-08-04T07:09:20Z</dcterms:modified>
  <cp:revision>213</cp:revision>
  <dc:subject/>
  <dc:title>Слайд 1</dc:title>
</cp:coreProperties>
</file>