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6.png" ContentType="image/pn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F91-8F29-4D4E-B905-81512D5DD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3EB-947F-4FB6-83E5-DA6F88AC4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7357-4EC7-4758-8D45-7219EDD6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72F0-D1DF-451F-AC66-F6A4294D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E87B-FBB2-4C1A-8C60-A69902E8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168-2E86-4A91-8568-50963FE1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208D-07B2-44FE-B636-33F0F581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8FDA-B5C1-4A56-8070-B117C84A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AF5E-0AC7-4C74-81B5-8D069505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96FB-1E77-49A1-9646-3BFA08DB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EC92-9BED-44CF-9251-C02C1282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1299-6DCD-4B5C-96BB-64B2D25C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AA7D-FAF2-43B1-8BE3-F793758568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5840" y="764640"/>
            <a:ext cx="7634520" cy="22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ектная деятельность в детском саду по мультиплик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3564000" y="2781360"/>
            <a:ext cx="36720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1"/>
          <p:cNvSpPr/>
          <p:nvPr/>
        </p:nvSpPr>
        <p:spPr>
          <a:xfrm>
            <a:off x="3780000" y="2708280"/>
            <a:ext cx="38876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395280" y="3213000"/>
            <a:ext cx="7056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муниципальное бюджетное дошкольно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образовательное учрежд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детский сад комбинированного вид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6 «Василёк» Карасукского района Новосибирской обла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Calibri"/>
              </a:rPr>
              <a:t>(МБДОУ д/с № 6 «Василёк»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-360" y="259920"/>
            <a:ext cx="8172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74991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АПЫ    РЕАЛИЗАЦИИ  ПРОЕКТ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Первый этап – организационный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DSC01037.JPG"/>
          <p:cNvPicPr/>
          <p:nvPr/>
        </p:nvPicPr>
        <p:blipFill>
          <a:blip r:embed="rId1"/>
          <a:stretch/>
        </p:blipFill>
        <p:spPr>
          <a:xfrm>
            <a:off x="250920" y="1197000"/>
            <a:ext cx="3529080" cy="4176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IMG-20180823-WA0071.jpg"/>
          <p:cNvPicPr/>
          <p:nvPr/>
        </p:nvPicPr>
        <p:blipFill>
          <a:blip r:embed="rId2"/>
          <a:stretch/>
        </p:blipFill>
        <p:spPr>
          <a:xfrm>
            <a:off x="4356000" y="981000"/>
            <a:ext cx="3240360" cy="2376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IMG-20180823-WA0053.jpg"/>
          <p:cNvPicPr/>
          <p:nvPr/>
        </p:nvPicPr>
        <p:blipFill>
          <a:blip r:embed="rId3"/>
          <a:stretch/>
        </p:blipFill>
        <p:spPr>
          <a:xfrm>
            <a:off x="4356000" y="3429000"/>
            <a:ext cx="3240360" cy="2016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1" descr="71d1b154be9d"/>
          <p:cNvPicPr/>
          <p:nvPr/>
        </p:nvPicPr>
        <p:blipFill>
          <a:blip r:embed="rId4"/>
          <a:stretch/>
        </p:blipFill>
        <p:spPr>
          <a:xfrm>
            <a:off x="3348000" y="2637000"/>
            <a:ext cx="1584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торой этап – практический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2286000" y="1700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6" descr="IMG-20180918-WA0093.jpg"/>
          <p:cNvPicPr/>
          <p:nvPr/>
        </p:nvPicPr>
        <p:blipFill>
          <a:blip r:embed="rId1"/>
          <a:srcRect l="33335" t="16665" r="0" b="0"/>
          <a:stretch/>
        </p:blipFill>
        <p:spPr>
          <a:xfrm>
            <a:off x="250920" y="1484280"/>
            <a:ext cx="2716200" cy="44546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IMG-20180919-WA0106.jpg"/>
          <p:cNvPicPr/>
          <p:nvPr/>
        </p:nvPicPr>
        <p:blipFill>
          <a:blip r:embed="rId2"/>
          <a:stretch/>
        </p:blipFill>
        <p:spPr>
          <a:xfrm>
            <a:off x="3132000" y="1341360"/>
            <a:ext cx="2735280" cy="43005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IMG-20180918-WA0095.jpg"/>
          <p:cNvPicPr/>
          <p:nvPr/>
        </p:nvPicPr>
        <p:blipFill>
          <a:blip r:embed="rId3"/>
          <a:stretch/>
        </p:blipFill>
        <p:spPr>
          <a:xfrm>
            <a:off x="6012000" y="1197000"/>
            <a:ext cx="2911320" cy="4103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2" descr="7e797fc69e61"/>
          <p:cNvPicPr/>
          <p:nvPr/>
        </p:nvPicPr>
        <p:blipFill>
          <a:blip r:embed="rId4"/>
          <a:stretch/>
        </p:blipFill>
        <p:spPr>
          <a:xfrm>
            <a:off x="250920" y="0"/>
            <a:ext cx="14414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4" descr="IMAG2240.jpg"/>
          <p:cNvPicPr/>
          <p:nvPr/>
        </p:nvPicPr>
        <p:blipFill>
          <a:blip r:embed="rId1"/>
          <a:srcRect l="0" t="15624" r="0" b="0"/>
          <a:stretch/>
        </p:blipFill>
        <p:spPr>
          <a:xfrm>
            <a:off x="285840" y="333360"/>
            <a:ext cx="3278160" cy="5256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IMG-20180417-WA0019.jpeg"/>
          <p:cNvPicPr/>
          <p:nvPr/>
        </p:nvPicPr>
        <p:blipFill>
          <a:blip r:embed="rId2"/>
          <a:srcRect l="0" t="0" r="0" b="37508"/>
          <a:stretch/>
        </p:blipFill>
        <p:spPr>
          <a:xfrm>
            <a:off x="3924360" y="404640"/>
            <a:ext cx="3311640" cy="24609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IMG-20180410-WA0001.jpeg"/>
          <p:cNvPicPr/>
          <p:nvPr/>
        </p:nvPicPr>
        <p:blipFill>
          <a:blip r:embed="rId3"/>
          <a:stretch/>
        </p:blipFill>
        <p:spPr>
          <a:xfrm>
            <a:off x="3851280" y="3141720"/>
            <a:ext cx="3384720" cy="2490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4" descr="71e08e7725df"/>
          <p:cNvPicPr/>
          <p:nvPr/>
        </p:nvPicPr>
        <p:blipFill>
          <a:blip r:embed="rId4"/>
          <a:stretch/>
        </p:blipFill>
        <p:spPr>
          <a:xfrm>
            <a:off x="0" y="4581360"/>
            <a:ext cx="15843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6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IMG-20180823-WA0048.jpg"/>
          <p:cNvPicPr/>
          <p:nvPr/>
        </p:nvPicPr>
        <p:blipFill>
          <a:blip r:embed="rId1"/>
          <a:stretch/>
        </p:blipFill>
        <p:spPr>
          <a:xfrm>
            <a:off x="4356000" y="260280"/>
            <a:ext cx="3394080" cy="27370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IMG-20180823-WA0051.jpg"/>
          <p:cNvPicPr/>
          <p:nvPr/>
        </p:nvPicPr>
        <p:blipFill>
          <a:blip r:embed="rId2"/>
          <a:stretch/>
        </p:blipFill>
        <p:spPr>
          <a:xfrm>
            <a:off x="179280" y="260280"/>
            <a:ext cx="3667320" cy="275112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4" descr="IMG-20180823-WA0039.jpg"/>
          <p:cNvPicPr/>
          <p:nvPr/>
        </p:nvPicPr>
        <p:blipFill>
          <a:blip r:embed="rId3"/>
          <a:stretch/>
        </p:blipFill>
        <p:spPr>
          <a:xfrm>
            <a:off x="250920" y="3213000"/>
            <a:ext cx="3611520" cy="25196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8" descr="IMG-20180823-WA0058.jpg"/>
          <p:cNvPicPr/>
          <p:nvPr/>
        </p:nvPicPr>
        <p:blipFill>
          <a:blip r:embed="rId4"/>
          <a:stretch/>
        </p:blipFill>
        <p:spPr>
          <a:xfrm>
            <a:off x="4356000" y="3141720"/>
            <a:ext cx="3311640" cy="2590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28b27ae42a45"/>
          <p:cNvPicPr/>
          <p:nvPr/>
        </p:nvPicPr>
        <p:blipFill>
          <a:blip r:embed="rId5"/>
          <a:stretch/>
        </p:blipFill>
        <p:spPr>
          <a:xfrm>
            <a:off x="3059280" y="1844640"/>
            <a:ext cx="21412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ретий этап – заключительный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3311640" cy="25192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DSC03097.JPG"/>
          <p:cNvPicPr/>
          <p:nvPr/>
        </p:nvPicPr>
        <p:blipFill>
          <a:blip r:embed="rId2"/>
          <a:stretch/>
        </p:blipFill>
        <p:spPr>
          <a:xfrm>
            <a:off x="4140360" y="1773360"/>
            <a:ext cx="3527280" cy="29509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"/>
          <p:cNvPicPr/>
          <p:nvPr/>
        </p:nvPicPr>
        <p:blipFill>
          <a:blip r:embed="rId3"/>
          <a:stretch/>
        </p:blipFill>
        <p:spPr>
          <a:xfrm>
            <a:off x="539640" y="3645000"/>
            <a:ext cx="33116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62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4" descr="E:\Users\user\Desktop\МУЛЬТИ\ПУЛЬТИ\1 - Walt Disney.jpg"/>
          <p:cNvPicPr/>
          <p:nvPr/>
        </p:nvPicPr>
        <p:blipFill>
          <a:blip r:embed="rId1"/>
          <a:stretch/>
        </p:blipFill>
        <p:spPr>
          <a:xfrm>
            <a:off x="635040" y="476280"/>
            <a:ext cx="71056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А мы бросаем скуке вызов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ому что, потом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ть на свете без мультфильмов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возможно никому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сть удачи, неудач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сть полеты вверх и вниз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лько так, а не инач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 здравствует мультфильм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ультфильм, мультфиль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 здравствует мультфильм!»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нтин 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23640" y="2276640"/>
            <a:ext cx="73436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уг областей, в которые вторгается мультипликация, постоянно расширяется, она все активнее помогает человеку познавать окружающий мир и самого себ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7499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очему мультипликац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360" y="1196640"/>
            <a:ext cx="81723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           </a:t>
            </a: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Анимация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- один из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ффективных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инструментов развития 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спитания  ребенка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-360" y="764640"/>
            <a:ext cx="817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Мультфильмы способны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● 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Развивать речь.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Развивать мышление и память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 rot="10800000">
            <a:off x="250200" y="571320"/>
            <a:ext cx="7499160" cy="48960"/>
          </a:xfrm>
          <a:prstGeom prst="rect">
            <a:avLst/>
          </a:prstGeom>
          <a:noFill/>
          <a:ln w="0">
            <a:noFill/>
          </a:ln>
        </p:spPr>
        <p:txBody>
          <a:bodyPr tIns="3240" bIns="3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89855583_large_75335.png"/>
          <p:cNvPicPr/>
          <p:nvPr/>
        </p:nvPicPr>
        <p:blipFill>
          <a:blip r:embed="rId1"/>
          <a:stretch/>
        </p:blipFill>
        <p:spPr>
          <a:xfrm>
            <a:off x="2987640" y="3573360"/>
            <a:ext cx="3024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360" y="980640"/>
            <a:ext cx="8172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Мультфильмы способн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●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Обучать.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●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Развивать творческие способности,  воображение.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749916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50039.gif"/>
          <p:cNvPicPr/>
          <p:nvPr/>
        </p:nvPicPr>
        <p:blipFill>
          <a:blip r:embed="rId1"/>
          <a:stretch/>
        </p:blipFill>
        <p:spPr>
          <a:xfrm>
            <a:off x="539640" y="3789360"/>
            <a:ext cx="2887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-360" y="764640"/>
            <a:ext cx="817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Мультфильмы способн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●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Воспитывать.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 rot="10800000">
            <a:off x="250200" y="574200"/>
            <a:ext cx="749916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2" descr="post-44042-1258396928"/>
          <p:cNvPicPr/>
          <p:nvPr/>
        </p:nvPicPr>
        <p:blipFill>
          <a:blip r:embed="rId1"/>
          <a:stretch/>
        </p:blipFill>
        <p:spPr>
          <a:xfrm>
            <a:off x="1116000" y="3213000"/>
            <a:ext cx="489600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-360" y="764640"/>
            <a:ext cx="817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Итак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•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Анимация – сильное средство влияния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его необходимо использовать в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педагогически оправданных целях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•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Анимационная деятельность с детьми –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необходимое условие организаци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образовательной деятельности в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современном детском саду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640" y="620640"/>
            <a:ext cx="749916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-360" y="764640"/>
            <a:ext cx="817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НФОРМАЦИЯ о ПРОЕК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Вид проекта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– информационно-творческий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b050"/>
                </a:solidFill>
                <a:latin typeface="Times New Roman"/>
              </a:rPr>
              <a:t>    </a:t>
            </a:r>
            <a:r>
              <a:rPr b="1" lang="ru-RU" sz="2900" spc="-1" strike="noStrike">
                <a:solidFill>
                  <a:srgbClr val="00b050"/>
                </a:solidFill>
                <a:latin typeface="Times New Roman"/>
              </a:rPr>
              <a:t>Продолжительность проекта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– долгосрочный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1" lang="ru-RU" sz="2900" spc="-1" strike="noStrike">
                <a:solidFill>
                  <a:srgbClr val="0070c0"/>
                </a:solidFill>
                <a:latin typeface="Times New Roman"/>
              </a:rPr>
              <a:t>Участники проекта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– педагоги, родители, воспитанники  старших дошкольных групп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ff0000"/>
                </a:solidFill>
                <a:uFillTx/>
                <a:latin typeface="Times New Roman"/>
              </a:rPr>
              <a:t>Цель проекта</a:t>
            </a:r>
            <a:r>
              <a:rPr b="1" lang="ru-RU" sz="29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- создание условий для всестороннего развития дошкольников средствами мультипликации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7499160" cy="1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6:56:03Z</dcterms:created>
  <dc:creator>User</dc:creator>
  <dc:description/>
  <dc:language>en-US</dc:language>
  <cp:lastModifiedBy>Ольга Тарабан</cp:lastModifiedBy>
  <dcterms:modified xsi:type="dcterms:W3CDTF">2022-03-15T12:21:59Z</dcterms:modified>
  <cp:revision>123</cp:revision>
  <dc:subject/>
  <dc:title>Слайд 1</dc:title>
</cp:coreProperties>
</file>