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gif" ContentType="image/gif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A62B-CB4C-4A11-A914-A1CF40D6B9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62B8-B920-4F2E-A682-AC100C9BF2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BC9C-055B-4C5C-BB9B-729BAAA0B0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ить на несколько слайд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ртинки н7е отдельных слайд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7104-2D50-4895-9E48-5A301A5B0E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A98E-C969-4788-B7D9-69CEEFE9B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7819-D471-43F1-92A0-EEFBC590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E314-6984-4A83-AB0B-5EEBE5D66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8CC7-30DE-404F-9615-3EDC92375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900C-2D77-40AE-A962-050B03D0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B16D-BA7F-45D7-A0A2-C2AA73F1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83BB-AFCC-4831-BBFB-35B1AB8F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A6A0-489B-4FCA-BCE8-B48574ED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B90E-F54E-4B2A-8C7D-BA91CF40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3C9E-DCE4-432F-BC91-7B8ED1D2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2D43-0411-4DE8-9946-09A06497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5095-C570-4F78-B780-CD76E808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2A74-47EE-4781-A57E-7774BEB2474D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hyperlink" Target="http://ru.wikipedia.org/wiki/&#1052;&#1077;&#1090;&#1072;&#1083;&#1083;" TargetMode="External"/><Relationship Id="rId3" Type="http://schemas.openxmlformats.org/officeDocument/2006/relationships/hyperlink" Target="http://ru.wikipedia.org/wiki/&#1052;&#1077;&#1090;&#1072;&#1083;&#1083;" TargetMode="External"/><Relationship Id="rId4" Type="http://schemas.openxmlformats.org/officeDocument/2006/relationships/hyperlink" Target="http://ru.wikipedia.org/wiki/&#1050;&#1077;&#1088;&#1072;&#1084;&#1080;&#1082;&#1072;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5"/>
          <p:cNvSpPr/>
          <p:nvPr/>
        </p:nvSpPr>
        <p:spPr>
          <a:xfrm>
            <a:off x="179280" y="1028880"/>
            <a:ext cx="864072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аучно-практическая работа на тему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«Изучение влияния среды на степень коррозии металлов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ыполнили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учающиеся объединения «Наука не скука!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уководитель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едагог дополнительного образов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лковая Екатерина Иванов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. Новая Чигла, 2022г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Практическая часть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11280" y="1341000"/>
            <a:ext cx="8532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учение зависимости скорости коррозии от присутствия кислоро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1" descr=""/>
          <p:cNvPicPr/>
          <p:nvPr/>
        </p:nvPicPr>
        <p:blipFill>
          <a:blip r:embed="rId1"/>
          <a:stretch/>
        </p:blipFill>
        <p:spPr>
          <a:xfrm>
            <a:off x="1692360" y="2441520"/>
            <a:ext cx="551808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Практическая часть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11280" y="1341000"/>
            <a:ext cx="8532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учение влияния электролитов на процесс коррозии желе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2" descr=""/>
          <p:cNvPicPr/>
          <p:nvPr/>
        </p:nvPicPr>
        <p:blipFill>
          <a:blip r:embed="rId1"/>
          <a:stretch/>
        </p:blipFill>
        <p:spPr>
          <a:xfrm>
            <a:off x="2124000" y="2433600"/>
            <a:ext cx="546264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Практическая часть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11280" y="1341000"/>
            <a:ext cx="8532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учение влияния ингибиторов на процесс корроз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Рисунок 1" descr=""/>
          <p:cNvPicPr/>
          <p:nvPr/>
        </p:nvPicPr>
        <p:blipFill>
          <a:blip r:embed="rId1"/>
          <a:stretch/>
        </p:blipFill>
        <p:spPr>
          <a:xfrm>
            <a:off x="1908000" y="2425680"/>
            <a:ext cx="554040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ипотеза подтвержден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Железо не всегда ржавеет первым!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розия железа ослабевает, если оно соприкасается с более активным металлом, и усиливается, если железо соприкасается с менее активным металл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розия железа резко усиливается в присутствии кислор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корость коррозии зависит от состава омывающей металл среды, хлорид ионы усиливают коррозию желез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розия железа ослабляется в присутствии гидроксид-, фосфат-, хромат -ион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813096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Ы ЗАЩИТЫ ОТ КОРРОЗ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несение защитных покрытий        (лаки, краски, эмали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крытие другим металлом (позолота, серебрение, хромирование, цинкование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здание и использование антикоррозионных сплав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ведение в среду ингибиторов, снижающих агрессивность сред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текторная защи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book"/>
          <p:cNvPicPr/>
          <p:nvPr/>
        </p:nvPicPr>
        <p:blipFill>
          <a:blip r:embed="rId1"/>
          <a:stretch/>
        </p:blipFill>
        <p:spPr>
          <a:xfrm>
            <a:off x="0" y="-171360"/>
            <a:ext cx="15843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писок использованной литератур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. Сюгаев А.В., Ломаева С.Ф., Шуравин А.С. и др. // Коррозия: защита, материалы. 2007. № 1. С.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2. Шевченко А.А.- Химическое сопротивление неметаллических материалов и защита от коррозии. Учебное пособие. Химия, КОЛОСС; 2004 г.; 248 стр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3. Семенова И.В., Флорианович Г.М., Хорошилов А.В. Коррозия и защита от коррозии. 2002 год. 335 стр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4. В.В. Экилик. Электрохимические методы защиты металлов. Методическое пособие по спецкурсу. 2004 год. 50 стр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5. Кофанова. Коррозия и защита металлов. Уч. пособие. 2003 год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6. Мезенин Н.   Занимательно о железе.  М., 1985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"/>
          <p:cNvPicPr/>
          <p:nvPr/>
        </p:nvPicPr>
        <p:blipFill>
          <a:blip r:embed="rId2"/>
          <a:stretch/>
        </p:blipFill>
        <p:spPr>
          <a:xfrm>
            <a:off x="0" y="1014480"/>
            <a:ext cx="91440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ь проекта </a:t>
            </a: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8000" y="1268280"/>
            <a:ext cx="8928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следовать действие факторов окружающей среды на степень коррозии железа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2877803280413c4c1489ofc.jpg"/>
          <p:cNvPicPr/>
          <p:nvPr/>
        </p:nvPicPr>
        <p:blipFill>
          <a:blip r:embed="rId1"/>
          <a:stretch/>
        </p:blipFill>
        <p:spPr>
          <a:xfrm>
            <a:off x="928800" y="2143080"/>
            <a:ext cx="671508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6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. Изучить сущность коррозии, её виды и способы защиты от коррози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2.Исследовать зависимость скорости коррозии от присутствия кислорода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3.Исследовать влияние электролитов на процесс коррози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4.Исследовать влияние ингибиторов на процесс коррози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5. Изготовить «шиферный» гвоздь, устойчивый к коррози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нятие корроз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9280" y="907560"/>
            <a:ext cx="85075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рроз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т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лат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corrosio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— разъедание) — это самопроизвольное разрушение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металл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результате химического или физико-химического взаимодействия с окружающей средой. В общем случае это разрушение любого материала, будь то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метал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керамик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дерево ил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олимер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Причиной коррозии служит термодинамическая неустойчивость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онструкционных материал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 воздействию веществ, находящихся в контактирующей с ними среде. Пример — кислородная коррозия железа в водной сред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Fe + 6Н2О + ЗО2 = 4Fe(OH)3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идратированный оксид железа Fe(OН)3 и является тем, что называют ржавчин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1" descr="Файл:Shukhov Tower photo by Maxim Fedorov (3).JPG"/>
          <p:cNvPicPr/>
          <p:nvPr/>
        </p:nvPicPr>
        <p:blipFill>
          <a:blip r:embed="rId5"/>
          <a:stretch/>
        </p:blipFill>
        <p:spPr>
          <a:xfrm>
            <a:off x="6084720" y="4819680"/>
            <a:ext cx="3059280" cy="20383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6"/>
          <p:cNvSpPr/>
          <p:nvPr/>
        </p:nvSpPr>
        <p:spPr>
          <a:xfrm>
            <a:off x="3643200" y="53578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ррозия конструкц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Объект 4" descr=""/>
          <p:cNvPicPr/>
          <p:nvPr/>
        </p:nvPicPr>
        <p:blipFill>
          <a:blip r:embed="rId1"/>
          <a:stretch/>
        </p:blipFill>
        <p:spPr>
          <a:xfrm>
            <a:off x="52560" y="-39600"/>
            <a:ext cx="905004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Organization Chart 2"/>
          <p:cNvGrpSpPr/>
          <p:nvPr/>
        </p:nvGrpSpPr>
        <p:grpSpPr>
          <a:xfrm>
            <a:off x="357120" y="500040"/>
            <a:ext cx="8244720" cy="3599280"/>
            <a:chOff x="357120" y="500040"/>
            <a:chExt cx="8244720" cy="3599280"/>
          </a:xfrm>
        </p:grpSpPr>
        <p:cxnSp>
          <p:nvCxnSpPr>
            <p:cNvPr id="64" name="_s1028"/>
            <p:cNvCxnSpPr>
              <a:stCxn id="65" idx="0"/>
              <a:endCxn id="66" idx="2"/>
            </p:cNvCxnSpPr>
            <p:nvPr/>
          </p:nvCxnSpPr>
          <p:spPr>
            <a:xfrm flipV="1" rot="16200000">
              <a:off x="5562360" y="856080"/>
              <a:ext cx="720360" cy="2886120"/>
            </a:xfrm>
            <a:prstGeom prst="bentConnector3">
              <a:avLst>
                <a:gd name="adj1" fmla="val 155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029"/>
            <p:cNvCxnSpPr>
              <a:stCxn id="68" idx="0"/>
              <a:endCxn id="66" idx="2"/>
            </p:cNvCxnSpPr>
            <p:nvPr/>
          </p:nvCxnSpPr>
          <p:spPr>
            <a:xfrm flipV="1">
              <a:off x="4479120" y="1938960"/>
              <a:ext cx="3960" cy="720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1030"/>
            <p:cNvCxnSpPr>
              <a:stCxn id="70" idx="0"/>
              <a:endCxn id="66" idx="2"/>
            </p:cNvCxnSpPr>
            <p:nvPr/>
          </p:nvCxnSpPr>
          <p:spPr>
            <a:xfrm flipH="1" flipV="1" rot="5400000">
              <a:off x="2676600" y="856080"/>
              <a:ext cx="720360" cy="2886120"/>
            </a:xfrm>
            <a:prstGeom prst="bentConnector3">
              <a:avLst>
                <a:gd name="adj1" fmla="val 155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6" name="_s1031"/>
            <p:cNvSpPr/>
            <p:nvPr/>
          </p:nvSpPr>
          <p:spPr>
            <a:xfrm>
              <a:off x="3242880" y="500040"/>
              <a:ext cx="2473200" cy="1439640"/>
            </a:xfrm>
            <a:prstGeom prst="roundRect">
              <a:avLst>
                <a:gd name="adj" fmla="val 16667"/>
              </a:avLst>
            </a:prstGeom>
            <a:solidFill>
              <a:srgbClr val="c0504d"/>
            </a:solidFill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ahoma"/>
                </a:rPr>
                <a:t>Коррозия </a:t>
              </a:r>
              <a:endParaRPr b="0" lang="en-US" sz="3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ahoma"/>
                </a:rPr>
                <a:t>металлов</a:t>
              </a:r>
              <a:endParaRPr b="0" lang="en-US" sz="3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_s1032"/>
            <p:cNvSpPr/>
            <p:nvPr/>
          </p:nvSpPr>
          <p:spPr>
            <a:xfrm>
              <a:off x="357120" y="2659680"/>
              <a:ext cx="2473200" cy="14396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Tahoma"/>
                </a:rPr>
                <a:t>По виду </a:t>
              </a:r>
              <a:endParaRPr b="0" lang="en-US" sz="29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Tahoma"/>
                </a:rPr>
                <a:t>коррозион-</a:t>
              </a:r>
              <a:endParaRPr b="0" lang="en-US" sz="29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Tahoma"/>
                </a:rPr>
                <a:t>ной среды</a:t>
              </a:r>
              <a:endParaRPr b="0" lang="en-US" sz="2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_s1033"/>
            <p:cNvSpPr/>
            <p:nvPr/>
          </p:nvSpPr>
          <p:spPr>
            <a:xfrm>
              <a:off x="3242880" y="2659680"/>
              <a:ext cx="2473200" cy="14396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ahoma"/>
                </a:rPr>
                <a:t>По </a:t>
              </a:r>
              <a:endParaRPr b="0" lang="en-US" sz="29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ahoma"/>
                </a:rPr>
                <a:t>процессам</a:t>
              </a:r>
              <a:endParaRPr b="0" lang="en-US" sz="2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_s1034"/>
            <p:cNvSpPr/>
            <p:nvPr/>
          </p:nvSpPr>
          <p:spPr>
            <a:xfrm>
              <a:off x="6128640" y="2659680"/>
              <a:ext cx="2473200" cy="14396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ahoma"/>
                </a:rPr>
                <a:t>По </a:t>
              </a:r>
              <a:endParaRPr b="0" lang="en-US" sz="29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ahoma"/>
                </a:rPr>
                <a:t>характеру </a:t>
              </a:r>
              <a:endParaRPr b="0" lang="en-US" sz="29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ahoma"/>
                </a:rPr>
                <a:t>разрушения</a:t>
              </a:r>
              <a:endParaRPr b="0" lang="en-US" sz="29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1" name="Line 11"/>
          <p:cNvSpPr/>
          <p:nvPr/>
        </p:nvSpPr>
        <p:spPr>
          <a:xfrm>
            <a:off x="684360" y="414972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Line 12"/>
          <p:cNvSpPr/>
          <p:nvPr/>
        </p:nvSpPr>
        <p:spPr>
          <a:xfrm>
            <a:off x="68436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Line 13"/>
          <p:cNvSpPr/>
          <p:nvPr/>
        </p:nvSpPr>
        <p:spPr>
          <a:xfrm>
            <a:off x="682560" y="4941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Line 14"/>
          <p:cNvSpPr/>
          <p:nvPr/>
        </p:nvSpPr>
        <p:spPr>
          <a:xfrm>
            <a:off x="684360" y="544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Line 15"/>
          <p:cNvSpPr/>
          <p:nvPr/>
        </p:nvSpPr>
        <p:spPr>
          <a:xfrm>
            <a:off x="684360" y="5950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971640" y="4221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азов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971640" y="4653000"/>
            <a:ext cx="24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тмосфер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971640" y="52038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вен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971640" y="5661000"/>
            <a:ext cx="30956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дкостна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кислотная,     солевая, щелочная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Line 20"/>
          <p:cNvSpPr/>
          <p:nvPr/>
        </p:nvSpPr>
        <p:spPr>
          <a:xfrm>
            <a:off x="3635280" y="4149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Line 21"/>
          <p:cNvSpPr/>
          <p:nvPr/>
        </p:nvSpPr>
        <p:spPr>
          <a:xfrm>
            <a:off x="3635280" y="465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Line 22"/>
          <p:cNvSpPr/>
          <p:nvPr/>
        </p:nvSpPr>
        <p:spPr>
          <a:xfrm>
            <a:off x="3635280" y="544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3924360" y="44118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имическ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Text Box 24"/>
          <p:cNvSpPr/>
          <p:nvPr/>
        </p:nvSpPr>
        <p:spPr>
          <a:xfrm>
            <a:off x="3924360" y="520380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ктрохимическ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Line 25"/>
          <p:cNvSpPr/>
          <p:nvPr/>
        </p:nvSpPr>
        <p:spPr>
          <a:xfrm>
            <a:off x="6516720" y="4149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Line 26"/>
          <p:cNvSpPr/>
          <p:nvPr/>
        </p:nvSpPr>
        <p:spPr>
          <a:xfrm>
            <a:off x="6516720" y="465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Line 27"/>
          <p:cNvSpPr/>
          <p:nvPr/>
        </p:nvSpPr>
        <p:spPr>
          <a:xfrm>
            <a:off x="6516720" y="544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Text Box 28"/>
          <p:cNvSpPr/>
          <p:nvPr/>
        </p:nvSpPr>
        <p:spPr>
          <a:xfrm>
            <a:off x="6842160" y="436572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вномер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Text Box 29"/>
          <p:cNvSpPr/>
          <p:nvPr/>
        </p:nvSpPr>
        <p:spPr>
          <a:xfrm>
            <a:off x="6804000" y="5157720"/>
            <a:ext cx="22669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равномер- ная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бирательная или местная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Picture 30" descr="book"/>
          <p:cNvPicPr/>
          <p:nvPr/>
        </p:nvPicPr>
        <p:blipFill>
          <a:blip r:embed="rId1"/>
          <a:stretch/>
        </p:blipFill>
        <p:spPr>
          <a:xfrm>
            <a:off x="324000" y="260280"/>
            <a:ext cx="23032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0" descr="800px-Rust_Bolt"/>
          <p:cNvPicPr/>
          <p:nvPr/>
        </p:nvPicPr>
        <p:blipFill>
          <a:blip r:embed="rId1"/>
          <a:stretch/>
        </p:blipFill>
        <p:spPr>
          <a:xfrm>
            <a:off x="0" y="1484280"/>
            <a:ext cx="4535640" cy="5113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759px-Rust_and_dirt"/>
          <p:cNvPicPr/>
          <p:nvPr/>
        </p:nvPicPr>
        <p:blipFill>
          <a:blip r:embed="rId2"/>
          <a:stretch/>
        </p:blipFill>
        <p:spPr>
          <a:xfrm>
            <a:off x="4740120" y="2338560"/>
            <a:ext cx="3854520" cy="30477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4"/>
          <p:cNvSpPr/>
          <p:nvPr/>
        </p:nvSpPr>
        <p:spPr>
          <a:xfrm>
            <a:off x="87480" y="765000"/>
            <a:ext cx="44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4911840" y="995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Text Box 18"/>
          <p:cNvSpPr/>
          <p:nvPr/>
        </p:nvSpPr>
        <p:spPr>
          <a:xfrm>
            <a:off x="324000" y="981000"/>
            <a:ext cx="331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ррозия металл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4788000" y="836640"/>
            <a:ext cx="43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жавчина, самый распространенный вид корроз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блема коррозии металла сопровождает человека с того самого момента, как человек научился изготавливать из металла предметы и орудия труда. Каждая шестая домн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ботает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лишь для того, чтобы восполнить потери металлов, «съеденных» ржавчин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282600" y="2060640"/>
            <a:ext cx="8435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ипотеза: железо не всегда ржавеет первы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овизна: в ходе проведения эксперимента выяснили, что железо в контакте с алюминием, как более активным металлом, коррозии практически не подвергается. Это позволило нам изготовить «шиферный гвоздь» гвоздь, более устойчивый к коррозии во внешней сред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ъект исследования: железные скрепки и гвозд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едмет исследования: влияние условий на степень коррозии желез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лощадка проведения эксперимента: лаборатория МКОУ Чигольской СОШ им. П.А. Черенков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15:45:39Z</dcterms:created>
  <dc:creator>Tun</dc:creator>
  <dc:description/>
  <dc:language>en-US</dc:language>
  <cp:lastModifiedBy>Волковой Павлович</cp:lastModifiedBy>
  <dcterms:modified xsi:type="dcterms:W3CDTF">2022-03-14T10:29:15Z</dcterms:modified>
  <cp:revision>32</cp:revision>
  <dc:subject/>
  <dc:title>Коррозия железа в разных условиях…</dc:title>
</cp:coreProperties>
</file>