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D9C-8A1D-4AE3-801A-0247141B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4FE-13A1-4BF2-9A30-2430608F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091-29A4-4860-A06E-B90D9657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A7A-DCB9-4978-B7B3-904E7626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804B-6197-4DE8-89D6-6D607CAA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55BC-866B-4EAF-8B91-1639A51F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2E03-64DC-4B33-BBAA-6E9F7342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27C8-F4CB-4585-BEDA-5724A90F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E98A-CF82-4563-B04C-9F1538E0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D939-639A-45A1-94A1-AD3F8B89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1E86-588F-44E0-9CCF-0E8BCBD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D1D-D08F-4DF6-BA36-8C81E091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A928-7433-43E6-903E-958C3BC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A0D-C31E-48E3-B37A-2A443180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ABB6-0C36-4A68-8AE1-2C2C013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FA7F-7279-496E-9DD1-0BF241AC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4E98-92F6-4355-AC53-5D16F280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E32-EAAD-4E42-889F-04FA78E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B76-E8DB-4045-983D-AE25DAC0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638-3CF5-4C8A-88E6-8FE50472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3BF-A7F4-4149-986D-279524B2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DFE-24DC-4353-B642-D8627D1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F56-952F-4323-8AE1-C653818A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4FB-4B1F-493B-9228-55D1DFA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AA2A-70B7-4C42-931D-6F2DB9834C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FC26-5CC8-4DC8-A7C8-6093009EBC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гресси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560" y="21337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бота педагогов и психолога по снижению агрессивности и развитию коммуникативных навыков у детей дошкольников. Самооценка у агрессивных дет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ДОУ «ЦРР – д/с №132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-психолог Овсянникова С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ути профилактики и преодоления агрессивного поведения до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овая терапия – метод воздействия на детей с использованием игры. В игре заложен большой потенциал влияния на личность. Игровая деятельность предоставляет особые возможность для изучения и перестройки эмоциональной сферы детей с агрессивным поведением. Как ведущая деятельность, определяющая психическое развитие дошкольника, игра является адекватным средством для перестройки различных отклонений в эмоциональном разви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яют психологические механизмы коррекционного воздействия иг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особых игровых условиях ребёнок имеет возможность моделировать систему социальных отношений в наглядно-действенной форме, развивать ориентировку в н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рамках игры происходит постепенное преодоление познавательного и личностного эгоцентризма, благодаря чему развивается сознание ребёнка, он становится социально компетентным, приобретает опыт разрешения проблемных ситуа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ряду с игровыми партнерскими отношениями в игре существуют условия для позитивного личностного развит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лагодаря двуплановости игры у ребёнка снижается боязнь ошибиться, ему легче выполнить игровые действия за персонажа и пережить радость успеха, тем самым снижается уровень агрессивных проявлений в поведен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игре происходит поэтапное освоение, отработка, интериоризация и усвоение адекватных способов разрешения проблемных ситуа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чинение правилам в игре стимулирует формирование элементов произвольной регуляции поведения и деятельности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етоды используемые в работе с детьми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едения детских писателей и поэтов, фолькл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гимна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лакс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ивное рис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клотерап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08"/>
          <p:cNvPicPr/>
          <p:nvPr/>
        </p:nvPicPr>
        <p:blipFill>
          <a:blip r:embed="rId6"/>
          <a:stretch/>
        </p:blipFill>
        <p:spPr>
          <a:xfrm>
            <a:off x="4419720" y="251460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руктивные способы выражения ребёнком гнева и агрессии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омко спеть любимую песенк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етать дротики в мишен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я «стаканчик для крика», высказывать все свои отрицательные эмо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кать мыльные пузыр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роить бой с боксёрской груш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ить цв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роить соревнования «Кто громче крикнет», «Кто выше прыгнет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мкать и выбросить несколько листов бума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ыми движениями руки нарисовать обидчика, а затем заштриховать е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пить из пластилина что-либ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совать свой гн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емы контроля словесной агрессии детей: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(это способы речевого воздействия и эффективного реагирования в конкретных ситуаци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ямое пориц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гнориров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ключение вним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од проецирования положительных личностных качеств и поведенческих реак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еленаправленное использование положительных оценочных высказыв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ем смены рол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мор, шу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асноречивое молч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Выпустить джина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не можешь чему-то противостоять – возглавь это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астичное согласие (метод «Да, но…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влечение союзни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елляция к жал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монаказ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бежд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чины агрессивности детей и методы их корре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676520"/>
          <a:ext cx="8229600" cy="4300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 корре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43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к двигательной активности, недостаток физической нагруз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фицит родительского внимания, неудовлетворенная потребность в родительской любви и принят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ивные эстаф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минутки радости» между занятия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седа с родител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равление к психоло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ение за поведением ребё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местное включение в сюжетно-ролев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аживание эмоционального контакта с ребёнк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ение табл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295280"/>
          <a:ext cx="8229600" cy="508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 корре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Усвоение эталонов агрессивного поведения в семь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Косвенно стимулируемая агрессивность (СМИ, игрушк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седа с родителями, направление к психоло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ятствовать появлению в группе таких игрушек или направлять их агрессивный потенциал в положительное ру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грывать и оговаривать сюжеты положительных мультфильмов и сказ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вать способы и образцы миролюбивых способов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вод драк в конструктивное русло ( игры в пиратов, похитителей сокровищ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ение табл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229600" cy="3992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чин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 корре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Низкий уровень развития игровых и коммуникативных навык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ные, сюжетно-ролевые игры, игры на понимание эмоционального состоя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сихогимна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ы на мимическое и пантомимическое самовыра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 приемам саморасслаб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аботка программ обучения коммуникативным навык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муникативные игры для развития доброжелательного отношения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гра «Газет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ол кладется газетный лист. На него должны встать четверо детей. Далее газета складывается пополам, и дети должны опять поместиться на ней. Газета складывается и уменьшается до тех пор, пока на ней могут уместиться четверо детей (для этого надо обняться, уменьшив таким образом физическую дистанцию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пражнение «То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 встают в круг, держась за руки, и передают по кругу «ток»: по цепочке, друг за другом, пожимают руку стоящего спр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гра «Инсцениров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 по очереди инсценируют фразы, которые произносит ведущий. Возможные фразы: «Я съел шоколадку», «У меня болит зуб», «Мне купили велосипед», «Я поссорился с другом»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ссия это мотивированное деструктивное поведение, противоречащее нормам и правилам сосуществования людей в обществе, наносящее вред объектам нападения (одушевленным и неодушевленным), приносящее физический ущерб людям (отрицательные переживания, состояние напряженности, страха, подавленности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06440" y="457200"/>
            <a:ext cx="828036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70ff"/>
                </a:solidFill>
                <a:latin typeface="Arial"/>
              </a:rPr>
              <a:t>Игры на повышение самооц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70ff"/>
                </a:solidFill>
                <a:latin typeface="Arial"/>
              </a:rPr>
              <a:t>«Я!»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ль: повышение самооценки ребен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ирается «именинник» (по очереди). Ему задается вопрос от группы: «Какие в тебе есть хорошие качества? Ответы ребенка записываются. Далее именинник залезает на стул. Его просят каждый раз, когда он услышит свое хорошее качество, громко выкрикнуть: «Я!». Ведущий зачитывает записанные качества. А группа хором повторя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70ff"/>
                </a:solidFill>
                <a:latin typeface="Arial"/>
              </a:rPr>
              <a:t>Рисование на тему «Я победитель!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ль: повышение самооценки ребен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тям дается все необходимое для рисования и предлагается нарисовать себя в роли победите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70ff"/>
                </a:solidFill>
                <a:latin typeface="Arial"/>
              </a:rPr>
              <a:t>«Пожел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ль: повышение самооценки ребен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ждый из участников высказывает, что бы он пожелал другим от чистого сердц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 как средство развития самооценки детей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а помогает детям ощутить единение с другими, дать понять, что ребенок не од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игры можно помочь ребенку понять, что он сам может быть успеш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гре закладывается основа уважения к себе как к личности и понятие, что право на уважение имеет кажд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оцессе игры дети научаются правилам хорошего тона, в них культивируется культура об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а способствует формированию адекватной самооценки, развитию умения принимать самостоятельные реш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ы учат заботиться о других, при этом забота не проявляется непосредствен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а учит уважать, любить, сочувствовать, сопереживать, развивает рефлексию, формирует чувство собственного достои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Lovely_illustration_of_Happy_family_with_love_wallcoo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ibbon2Sharp"/>
          <p:cNvSpPr/>
          <p:nvPr/>
        </p:nvSpPr>
        <p:spPr>
          <a:xfrm>
            <a:off x="838080" y="762120"/>
            <a:ext cx="7543800" cy="4190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b46d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6d1ec"/>
                </a:solidFill>
                <a:latin typeface="Arial"/>
              </a:rPr>
              <a:t>П</a:t>
            </a:r>
            <a:r>
              <a:rPr b="1" lang="ru-RU" sz="4000" spc="-1" strike="noStrike">
                <a:solidFill>
                  <a:srgbClr val="86d1ec"/>
                </a:solidFill>
                <a:latin typeface="Arial"/>
              </a:rPr>
              <a:t>ризнак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6d1ec"/>
                </a:solidFill>
                <a:latin typeface="Arial"/>
              </a:rPr>
              <a:t>агрессив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не может промолчать, когда чем-то недово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кто-то причиняет ему зло, он пытается отплатить ему тем ж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огда ему без всякой причины хочется выруга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онимает чувств и переживаний других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кладывает вину на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не прочь подразнить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дачи вызывают у него сильное раздражение, поиски виноват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гко ссориться, вступает в дра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вает, что он с удовольствием ломает игру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может адекватно оценить свое пове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 и беспокойно сп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агрессия является осознанным, контролируемым актом со стороны ребёнка , то для взрослого важно не поддаться на эту манипуляцию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можно достаточно жестко пресечь агрессивные действия или игнорировать эти действия, не попадаясь на улов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агрессия выступает как проявление садомазохистских наклонностей , то необходима помощь не только психолога, но и психотерапевта и психиа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чины и факторы</a:t>
            </a:r>
            <a:br>
              <a:rPr sz="4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щие на проявление агрессии у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ледственно-характереологические факторы: психоподобное, эпилептоидное поведение родителей и родстве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ологические факторы: биохимические, гормональные механ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е соматические заболевания, а также органические поражения головного моз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-бытовые факторы: реакция на фрустрацию, интенсивные, длительные эмоционально негативные состоя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туационные факторы: ответная агрессия, введение жестких ограничений, новые незнакомые условия, нарастание утомления, шум, теснота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социального окружения (модели поведения, стиль отношений), окружающих детей, средств массовой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70ff"/>
                </a:solidFill>
                <a:latin typeface="Arial"/>
              </a:rPr>
              <a:t>Психологические особенности, провоцирующие агрессивное поведение дет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ое развитие интеллекта и коммуникативных навы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ный уровень саморегуля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звитость игров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ная самооц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ушения во взаимоотношениях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6-03-08T19:2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