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658F-0D88-4977-A3DC-860DB9AE02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DD21-3DE7-456D-9D09-1E03E1A06D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D1F4-543F-4670-8C3D-BE970304D0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50A5-BAC0-417C-AD5B-5D370F74C6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C4E8-F138-4B9B-9825-972AB68634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D1C8-786A-41A9-8E82-6282055B4C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082F-0AEC-47CB-B916-FAD6CB6BD7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6D96-B5FA-43A0-9E09-4AA6936FFA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7A77-DBF4-46EB-BBBE-AE86F882BE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FCB1-5B4B-460E-BDC5-14189E8666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4142-31CE-4D39-BFF6-2A77E6F326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A033-E8D8-4C85-B897-F3D46E7620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3706-0550-4423-95C4-64979EA133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44A7-B3EC-4B12-8727-D8D6E360C0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011A-2FF2-4A75-9D5F-0AF68BCC5A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26A6-BBFF-4ED2-BBDD-301E2DCEDD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700-FBEB-40C3-A25D-C5212A2F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2F2-34C9-4C07-987D-BE0329CC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C417A-830E-458B-ADF7-47122BA9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3871A-215D-465F-8DD6-860E0FFF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74D71-8D05-4E2B-AD84-0A2E8748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A03E7-7026-4374-AE4F-2CC61D87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39E47-9B63-43D4-BEF0-FBD80DFB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E4666-70BF-43E8-ABDF-5581D182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9574F-7EC3-4455-9849-8D5D9338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38203-3176-4241-BD1B-28F85F48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E03F0-FBE8-41EA-9B1D-D29B197F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45D64-0D96-4396-9F7F-B49078B9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F05-0BC4-4FB5-8DA9-67C10820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807D3-9C12-4CBB-A967-7C73086D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5C226-3790-4C50-8308-91BA47F9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1E48F-69F4-4880-898A-162D756A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1995C-358C-41EF-B0E4-8740E8EC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2E2B5-F7BF-40C0-8D83-32E9CE17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1509D-7855-4308-BE1A-80A34069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B6BA2-BBD6-4C39-A127-D129F061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B0162-6830-4857-B4EB-4FE4F3DC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27D0D-6263-4D99-A7B1-8DDCB96E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0089E-F530-46C1-8902-DA3E5D45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3E72-EF8B-4576-AF9E-D95AA463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CDAD3-5775-4795-8655-904ACD2A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16E4C-E4FE-4C9B-8865-A227D08A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C5467-72EA-460B-B41B-1E24906E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D42DD-0A4F-4DA4-96F4-3B1D4F8A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5E4E2-4375-4B2D-9BEA-092D19D7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9C45D-C277-4155-A60B-6794C052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6C3FB-3BB5-4F24-875E-12DDE58D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BFA96-DB13-40EA-8E91-BC03EA3E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F5CAB-3EE6-4210-A580-BC7FDA71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5B3C6-A9A5-4914-B742-44A7EB1D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846E-2DB3-427C-B224-C0382E9A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851B5-F520-42AF-BD93-04681DF1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1DA81-3560-40BD-BD94-FBAE3BDD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C6BD5-74C1-4F4F-9E3A-8CD7E4C8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858D2-3ABA-4E6E-9CBC-1E6E3B62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E5E70-4534-4BCE-AC42-461FBD59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732A2-A39C-4F27-986B-2C0992A7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29C63-0BA8-43B1-B55D-DB4010EF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987CE-8C49-4E30-B4B6-27FB9EAD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F1C8B-3566-49C9-9404-D6814C9C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51EF3-18F8-4E76-A2ED-4BF16299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86B2-44DF-4D20-88CB-828AB813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A2116-3EDC-4B60-9A49-4568DCF6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2554C-F028-4D59-A1DC-9C6B6F99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89DF8-562F-4AB1-BBBB-CEA9853B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27A4B-ACD8-4AEE-9234-FA1123E4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B6C4E-2B3C-41FF-BA01-348E1FBD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43D65-D5BD-4C5E-9A4E-87260709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33ABF-41B6-4AB7-81F0-90BFB35D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157E7-536B-4744-A360-0D1B1058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686C9-2649-4E8D-B7B5-49F767C1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71044-FB0A-458C-907E-4E1C9FDF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AF6D-8F58-414B-B53C-68DC7499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A5A7B-06BE-422D-8F2A-1DF90425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6E4BC-7FB7-4191-8AC9-B75DF065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1CD9A-0439-42A9-A4E3-3E04B132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2A7A7-5A82-4FD6-ABB4-CC06F6A8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02862-FA06-43B7-B564-4F4711D8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E2D8F-2272-45D1-B4F8-732EED03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3E93F-1C55-4128-971D-E5522A2B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01C60-FC89-45DC-97E7-34F5B8C2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1DBC1-058D-4EF7-8FDA-417DB006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EDA05-C5AF-4DFF-8FCC-3047E0AC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CFAC-9D13-48CF-BE20-5C11E73E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307B0-C189-45EA-A865-1F4AA2FE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C0AA8-CF23-4BA9-8E74-52FA916E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11BEB-94FA-4AF5-A357-58391339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45ACA-D2A8-47F0-9012-0DAF813D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57C2C-0DDB-4751-AE1D-1B1DFA82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84E67B-185A-49FE-AB87-52B92437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7A0DC-2994-4806-BDF1-25CC74D8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B06516-DEA1-492D-8C96-A4709E51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B25C5-05EE-4F33-A127-DBD5DA07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2B92AD-C696-4187-B43D-2849ABBB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7D6C-31DB-4FA9-82A2-8C6C9379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A8579-039A-4202-9F80-AE42B341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30AA5-0778-4C00-B826-3CAA93C0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D87A6-F753-4B07-A120-7FA03D5F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B8780-DC52-484E-95CE-555513A0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3AEAAC-991C-41D5-A193-E093E412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3C27B-AD61-4D33-A10B-477EC006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C7342-9535-4207-B50C-D8569681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31E19-7C28-4210-81EC-496E3DCA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91BE32-C58F-4521-AE0A-8CBE7D42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FE5E1-8E57-4F78-9304-C140382D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2C67-4129-4B4F-BB15-6D48A35F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69501-6E6A-4E87-83AD-49D57F90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546D9-ACC4-41B0-9EDD-8AC2EB98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6D0C6-A971-4D15-A116-21917EE9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1583C-4C98-4DFA-BED5-59BF2D5A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B019C-8573-456C-9343-D9FB260F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B5A7C-BB2C-428A-8553-F9165F9F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74DF31-6581-42CA-975E-C0405FEB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43A008-8C95-47DE-8612-56DA324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A9F40-318F-44D5-A50B-0C7B6534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F6DAF-C4D4-4BF6-AAE8-8F72D768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5332-0602-45C5-B377-B5A701E8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3D42A5-C11C-440B-B185-5D6D3F0D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2BEAC-23D4-467B-A3EC-5C7675D2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0891A-8E06-4B9A-8644-FB08F82D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51B08F-F9F7-4E0B-A9F5-C353F1E5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1390C-9AB3-492F-B377-DD05810C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ED7BC9-ACD4-4E03-9B42-550C7997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0CF6E-D3CC-4B57-A76B-FB73F524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9C45C-AAEC-48A3-AFC1-AE25019B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27F72-EA58-422F-AB99-E8B49CB5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85D95-973B-4B7B-964F-A4CC957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F8D-2CDF-4121-8A25-C9B9FE86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8D01-41D4-41BF-8E57-3C88EDE2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C7535-99E2-47B3-BC3F-A7C6AC62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89E25-D70B-4FC0-9CF9-4ABE2C51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E93F0-7CA9-4612-8186-ECF91A0C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DBB87-72D3-44A7-A2BC-83DB2917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00F136-7E2C-4989-AEEF-915A570E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4115-8487-4663-A5B2-81ACA739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5024-51B8-46FD-B214-39CA5F61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64F4-1DD8-4698-B205-4073FD8A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34C9-88B3-4C0F-A4B3-CCDA1F18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6786-11BB-4A8B-8ACD-102FC72A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80A5-F52D-47BD-9CA7-4E7E0A0C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85B8-87AD-4EEA-B85F-94B66A98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23A4B-8627-4066-9DD8-1C542289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9741-E427-4376-AD27-49BDA8DD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F13-6C27-4ADC-9325-3C0EDF2E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9853-101B-4855-867A-6D3FFFA5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B80B-4891-49EC-8632-8CB0C391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D55F-52BC-4054-8498-1631F91E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9B35-B972-45ED-9A16-9FA172CC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534F-CE82-4584-8E56-5C5D7EA2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EB25-3A5A-4848-B6A8-63065FF3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41216-6A31-4098-AD9F-AEDAF5CF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82F70-482C-4F85-9CA0-52B794DB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B2A8B-D053-4DA2-B022-F6DDDEEA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B974-67FD-439C-BFDD-2D0B8B68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AF3-A0C4-4DAC-8637-CF37A3F9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E99C-EA7F-449C-91BD-7131FC8C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1A547-F50E-4CA1-A494-9B41F189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C9A9-C284-49E3-B747-4C8A3B97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FF22-1E38-4B13-A236-9196C46F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B258-4098-4420-B840-6C2101C5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C9A99-9899-4058-9F01-6FF8ED82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CB87B-E7FA-495E-BA4D-6DF5B106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00712-901A-4A70-BA57-F98CA137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74EB-BB8F-451B-A52D-5B1EEF29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2A5FE-C8B6-407B-A7D7-D6C95215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593-B9F5-46A4-AFBB-4F0579A5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B6C68-72B0-4CFD-8E06-6FE8F12B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D5A33-FA48-4330-A8FA-B9762A11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87225-DA6A-402B-842E-BC0FAFC4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49419-0BA6-455F-8F13-86092110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E22E5-89B3-466F-94B8-AD05F959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6457D-315C-43D6-B0E4-B99B3BA1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FBDF2-EE65-4813-BF09-42F4DCBB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8CDB-D83B-406B-8C51-0786563B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9BAAF-69F7-4603-8471-B2BBB2EF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773F7-4D97-4670-ACCD-62080EAE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2FC-4A6D-49EB-8E6E-FA99241D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06448-9F55-44C9-B0FD-C038C117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50241-0FD4-4645-BC1E-14E0F49E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7ACD8-59D9-4737-AB4E-FC299F4E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3573C-1354-4885-9550-42D37BED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85D4D-F7D1-403F-BB3A-436A8066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7645B-457D-4CF0-A2D1-B5481B24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2F93D-BE4D-4556-AC4E-2E6F4BC9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E4335-4558-4559-A1B9-B0432E0C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1FD76-9559-4D51-A513-8FC59CEA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774E0-1A2D-4150-B5FE-801E8BB2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B37-FC11-479E-8E09-3E392448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EE13-D8FD-4726-8E1C-1E1B1388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79495-BF90-4AC0-9933-93BEDBCA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D9842-0B8C-407B-80B1-22BED6BD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91B37-5681-4A4E-AEF7-D814FF35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72F2A-90EB-45F6-A916-893A9505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9BE40-AD4C-419E-95BA-1FD9734F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3C985-7672-4267-B782-1FADE0FE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2D782-8F74-41AB-8471-3C889751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12778-B9C2-4DF0-B5D2-C9DE9302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CAE07-564E-47B6-BE8E-6AABDFBD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081-2FF4-4250-957F-4405C24A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38DCB-75F2-4500-81CD-71DE40CF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3BFAB-D5D7-4B4F-B663-B6098C03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7B1BC-9614-4D8C-BF4E-55319C56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0C636-B696-4FF3-A5D8-4E340042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D85AB-67FA-4F77-85A1-5D41D097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81B25-7D47-4EA2-B2AF-B0014D37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56F39-61A2-43ED-BDB5-C461B1BC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8ECAB-6CDC-4B42-81EB-0AF03618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07E7E-A433-46CA-A7F5-C165AF39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8F7AA-D56D-43AA-8C68-5DF8D8F0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CC3-5191-4946-8124-B4D1796A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7A023-054C-44F7-BCFC-E7560C9C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C2FA2-1E0E-409D-8470-F19E44B9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F2A9C-32D6-4920-85D6-0BF93338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4BF22-E876-466C-962D-1511DDB6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CACB0-64CC-4789-AD0E-A2317B0E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B22CD-2DA0-4F89-A177-2F84E626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E6CA8-6017-4459-B069-1AC9BF82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B7FD5-0168-43A0-9770-1D155D78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38037-8F55-4255-8B65-5520AE45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3A8DF-BF1E-4F6D-8567-DD36A99F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B719-73BA-42E9-88E7-1CF4F9447A1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41CA-92B3-42D4-86FE-20917523F38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C3BA-1E46-43CB-8644-3A5B647E0FB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A2BA-9950-4B7E-B503-20956204F3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1E08-71F2-4CA9-9187-F2B78B4003E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AEA1-8D02-438C-BF2A-9003BD19AEB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4B93-FD9A-4901-9F8D-8BF3FE32D6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E6EC-4799-475E-ACBE-D50BC397048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E523-3EB4-4147-86A6-45C06DAD363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59AF-C163-4F94-B9B9-4A889362A6F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5C7D-817E-4F09-9D5B-DC01F7926FA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B385-DD15-4907-96E9-B0A6F12F615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A2C3-3C20-48F1-A77A-9E0B04D487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3415-EDA0-48FF-83C7-1E483A21A71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665C-D838-4C8F-B98F-19F470577C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8256-16DE-46B9-9311-433A53131A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6259-4AEE-4393-81AE-37D356303EF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ranamasterov.ru/technics/trefoi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-88920" y="-603360"/>
            <a:ext cx="9036000" cy="24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1581aa"/>
                </a:solidFill>
                <a:latin typeface="DS SonOf"/>
              </a:rPr>
              <a:t>Подснежники</a:t>
            </a:r>
            <a:endParaRPr b="0" lang="en-US" sz="72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4" name="Прямоугольник 3"/>
          <p:cNvSpPr/>
          <p:nvPr/>
        </p:nvSpPr>
        <p:spPr>
          <a:xfrm>
            <a:off x="87480" y="278136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9ad6"/>
                </a:solidFill>
                <a:latin typeface="a_Albionic"/>
                <a:ea typeface="Arial"/>
              </a:rPr>
              <a:t>Презентация мастер – класса по ориг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Прямоугольник 4"/>
          <p:cNvSpPr/>
          <p:nvPr/>
        </p:nvSpPr>
        <p:spPr>
          <a:xfrm>
            <a:off x="3772080" y="5516640"/>
            <a:ext cx="534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9ad6"/>
                </a:solidFill>
                <a:latin typeface="a_Albionic"/>
              </a:rPr>
              <a:t>Меркулова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9ad6"/>
                </a:solidFill>
                <a:latin typeface="a_Albionic"/>
              </a:rPr>
              <a:t>Воспитатель ГБДОУ детский сад №31. Красногвардейского рай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25000" y="1412640"/>
            <a:ext cx="8929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entury Gothic"/>
              </a:rPr>
              <a:t>Загните свободный конец проволоки.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201" name="Picture 2" descr="http://stranamasterov.ru/files/imagecache/orig_with_logo2/images/techno/paper/snowdrop/PICT7696.jpg"/>
          <p:cNvPicPr/>
          <p:nvPr/>
        </p:nvPicPr>
        <p:blipFill>
          <a:blip r:embed="rId1"/>
          <a:stretch/>
        </p:blipFill>
        <p:spPr>
          <a:xfrm>
            <a:off x="684360" y="3357720"/>
            <a:ext cx="7662600" cy="2714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9298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entury Gothic"/>
              </a:rPr>
              <a:t>Намотайте полоску, сделав утолщение на конце. Продолжайте наматывать полоску до конца проволоки..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203" name="Picture 2" descr="http://stranamasterov.ru/files/imagecache/orig_with_logo2/images/techno/paper/snowdrop/PICT7697.jpg"/>
          <p:cNvPicPr/>
          <p:nvPr/>
        </p:nvPicPr>
        <p:blipFill>
          <a:blip r:embed="rId1"/>
          <a:stretch/>
        </p:blipFill>
        <p:spPr>
          <a:xfrm>
            <a:off x="971640" y="4437000"/>
            <a:ext cx="7172280" cy="1925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137440" cy="62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entury Gothic"/>
              </a:rPr>
              <a:t>Наденьте цветок, вставив проволоку тонким концом внутрь цветка и пропустив через него. Сделайте у основания цветка утолщение, намотав полоску зелёной бумаги. Полоску размером 0,5х15 см лучше вырезать поперёк линий гофрирования бумаги. Так она лучше растягивается. Приклейте небольшой листочек, вырезанный из полоски 1х6 см, и изогни стебель</a:t>
            </a:r>
            <a:endParaRPr b="0" lang="en-US" sz="32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p:transition>
    <p:diamond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Picture 2" descr="http://stranamasterov.ru/files/imagecache/orig_with_logo2/images/techno/paper/snowdrop/PICT7698.jpg"/>
          <p:cNvPicPr/>
          <p:nvPr/>
        </p:nvPicPr>
        <p:blipFill>
          <a:blip r:embed="rId1"/>
          <a:stretch/>
        </p:blipFill>
        <p:spPr>
          <a:xfrm>
            <a:off x="1835280" y="2133720"/>
            <a:ext cx="5898960" cy="237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5978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entury Gothic"/>
              </a:rPr>
              <a:t>Вырежите листья. Чтобы они были более жёсткими и держали форму, гофрированную бумагу лучше сложить вдвое, проклеив клеящим карандашом, после чего вырезать листья желаемой формы.</a:t>
            </a:r>
            <a:endParaRPr b="0" lang="en-US" sz="32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207" name="Picture 2" descr="http://stranamasterov.ru/files/imagecache/orig_with_logo2/images/techno/paper/snowdrop/PICT7699.jpg"/>
          <p:cNvPicPr/>
          <p:nvPr/>
        </p:nvPicPr>
        <p:blipFill>
          <a:blip r:embed="rId1"/>
          <a:stretch/>
        </p:blipFill>
        <p:spPr>
          <a:xfrm>
            <a:off x="2340000" y="4941720"/>
            <a:ext cx="4468680" cy="1800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13840" y="1125000"/>
            <a:ext cx="89298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entury Gothic"/>
              </a:rPr>
              <a:t>Букетик лучше сначала закрепить резинкой, затем обвязать ленточкой или поставить в вазу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209" name="Picture 2" descr="http://stranamasterov.ru/files/imagecache/orig_with_logo2/images/techno/paper/snowdrop/PICT7700.jpg"/>
          <p:cNvPicPr/>
          <p:nvPr/>
        </p:nvPicPr>
        <p:blipFill>
          <a:blip r:embed="rId1"/>
          <a:stretch/>
        </p:blipFill>
        <p:spPr>
          <a:xfrm>
            <a:off x="5364000" y="2278080"/>
            <a:ext cx="3311640" cy="4579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Picture 2" descr="http://stranamasterov.ru/files/imagecache/orig_with_logo2/images/techno/paper/snowdrop/PICT7700.jpg"/>
          <p:cNvPicPr/>
          <p:nvPr/>
        </p:nvPicPr>
        <p:blipFill>
          <a:blip r:embed="rId1"/>
          <a:stretch/>
        </p:blipFill>
        <p:spPr>
          <a:xfrm>
            <a:off x="2050920" y="177840"/>
            <a:ext cx="4681800" cy="6472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99680" y="907920"/>
            <a:ext cx="864396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d0d0d"/>
                </a:solidFill>
                <a:latin typeface="Century Gothic"/>
              </a:rPr>
              <a:t>Техника выполнения таких цветов также относится к модульному оригами, ведь каждый цветочек состоит из трёх одинаковых модулей. Выполняются они из белой офисной бумаги или из квадратиков от блоков для записей. Также понадобится тонкая гибкая проволока и зелёная гофрированная бумага.</a:t>
            </a:r>
            <a:endParaRPr b="0" lang="en-US" sz="29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p:transition>
    <p:diamond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24000" y="2003040"/>
            <a:ext cx="9144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entury Gothic"/>
              </a:rPr>
              <a:t>Возьмите три квадратика белой бумаги со стороной 4 см и сложите из них </a:t>
            </a:r>
            <a:r>
              <a:rPr b="0" lang="ru-RU" sz="3600" spc="-1" strike="noStrike" u="sng">
                <a:solidFill>
                  <a:srgbClr val="2da0f1"/>
                </a:solidFill>
                <a:uFillTx/>
                <a:latin typeface="Century Gothic"/>
                <a:hlinkClick r:id="rId1"/>
              </a:rPr>
              <a:t>модули Трилистник</a:t>
            </a:r>
            <a:r>
              <a:rPr b="0" lang="ru-RU" sz="3600" spc="-1" strike="noStrike">
                <a:solidFill>
                  <a:srgbClr val="0d0d0d"/>
                </a:solidFill>
                <a:latin typeface="Century Gothic"/>
              </a:rPr>
              <a:t>. 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189" name="Picture 2" descr="http://stranamasterov.ru/files/imagecache/orig_with_logo2/images/techno/paper/snowdrop/PICT7684.jpg"/>
          <p:cNvPicPr/>
          <p:nvPr/>
        </p:nvPicPr>
        <p:blipFill>
          <a:blip r:embed="rId2"/>
          <a:stretch/>
        </p:blipFill>
        <p:spPr>
          <a:xfrm>
            <a:off x="2124000" y="4149720"/>
            <a:ext cx="4751640" cy="21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929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entury Gothic"/>
              </a:rPr>
              <a:t>Смажь клеем левый маленький лепесток одного модуля.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191" name="Picture 2" descr="http://stranamasterov.ru/files/imagecache/orig_with_logo2/images/techno/paper/snowdrop/PICT7686.jpg"/>
          <p:cNvPicPr/>
          <p:nvPr/>
        </p:nvPicPr>
        <p:blipFill>
          <a:blip r:embed="rId1"/>
          <a:stretch/>
        </p:blipFill>
        <p:spPr>
          <a:xfrm>
            <a:off x="3276720" y="3141720"/>
            <a:ext cx="2663640" cy="3416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89000" y="1233360"/>
            <a:ext cx="8929440" cy="27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entury Gothic"/>
              </a:rPr>
              <a:t>Вставьте его в карман под правым лепестком второго модуля.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193" name="Picture 2" descr="http://stranamasterov.ru/files/imagecache/orig_with_logo2/images/techno/paper/snowdrop/PICT7687.jpg"/>
          <p:cNvPicPr/>
          <p:nvPr/>
        </p:nvPicPr>
        <p:blipFill>
          <a:blip r:embed="rId1"/>
          <a:stretch/>
        </p:blipFill>
        <p:spPr>
          <a:xfrm>
            <a:off x="2411280" y="2997360"/>
            <a:ext cx="4354560" cy="3447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8929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entury Gothic"/>
              </a:rPr>
              <a:t>Точно также подклейте третий модуль.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195" name="Picture 2" descr="http://stranamasterov.ru/files/imagecache/orig_with_logo2/images/techno/paper/snowdrop/PICT7688.jpg"/>
          <p:cNvPicPr/>
          <p:nvPr/>
        </p:nvPicPr>
        <p:blipFill>
          <a:blip r:embed="rId1"/>
          <a:stretch/>
        </p:blipFill>
        <p:spPr>
          <a:xfrm>
            <a:off x="1692360" y="2781360"/>
            <a:ext cx="4978440" cy="3743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13840" y="1233360"/>
            <a:ext cx="8929800" cy="27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entury Gothic"/>
              </a:rPr>
              <a:t>Замкните модули в кольцо точно так же, вклеив крайний лепесток в карман напротив. Между модулями сверху должно остаться небольшое отверстие.</a:t>
            </a:r>
            <a:endParaRPr b="0" lang="en-US" sz="32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197" name="Picture 2" descr="http://stranamasterov.ru/files/imagecache/orig_with_logo2/images/techno/paper/snowdrop/PICT7690.jpg"/>
          <p:cNvPicPr/>
          <p:nvPr/>
        </p:nvPicPr>
        <p:blipFill>
          <a:blip r:embed="rId1"/>
          <a:stretch/>
        </p:blipFill>
        <p:spPr>
          <a:xfrm>
            <a:off x="2340000" y="3429000"/>
            <a:ext cx="3414600" cy="3313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19240" y="1341000"/>
            <a:ext cx="8929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entury Gothic"/>
              </a:rPr>
              <a:t>Возьмите проволочку длиной 23 см и полоску гофрированной бумаги шириной 1 см. Отступив 1 см от края проволоки, намотай небольшой валик из бумаги.</a:t>
            </a:r>
            <a:endParaRPr b="0" lang="en-US" sz="32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199" name="Picture 2" descr="http://stranamasterov.ru/files/imagecache/orig_with_logo2/images/techno/paper/snowdrop/PICT7693.jpg"/>
          <p:cNvPicPr/>
          <p:nvPr/>
        </p:nvPicPr>
        <p:blipFill>
          <a:blip r:embed="rId1"/>
          <a:stretch/>
        </p:blipFill>
        <p:spPr>
          <a:xfrm>
            <a:off x="1258920" y="4581360"/>
            <a:ext cx="6276960" cy="2008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9:11:48Z</dcterms:created>
  <dc:creator>Лещенко</dc:creator>
  <dc:description/>
  <dc:language>en-US</dc:language>
  <cp:lastModifiedBy>DASHA</cp:lastModifiedBy>
  <dcterms:modified xsi:type="dcterms:W3CDTF">2021-01-08T13:58:02Z</dcterms:modified>
  <cp:revision>16</cp:revision>
  <dc:subject/>
  <dc:title>Цветы из фантиков.</dc:title>
</cp:coreProperties>
</file>