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B61-AE72-4A07-A690-62C9D5C5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B53-A9A4-4942-A0B0-14705023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2D1-CE00-4812-8670-E4171B11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B3B-174E-4147-ADBD-C150CCB4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608E-C6FD-4646-A644-5085F2AB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EA39-3423-4DFC-A9E3-3CD64B96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52E0-6C0B-4ADE-A87A-2DA3F74C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D218-502D-4B83-B99B-47C7C2FA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6257-7547-4261-9ACE-AFECC82B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0310-3396-4F1A-9B6D-01FE5B2E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3155-6A6F-4174-946C-BD5E49B3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1CC-97CF-4496-89DF-A46FCF30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BF4D-E1AE-47B7-92AD-B6A5ECE7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89F4-C0CA-4AA6-B834-1CEDD412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C635-AA73-4DF9-8156-B9F7A306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D597-C32C-4A70-94B0-D258A6FA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2E7E-93CE-4944-A058-0C2DEBB9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1DB-B7DA-49D5-A01E-078EEF7F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E1F-4945-44FF-863E-9755A9C6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6F7-5FE7-4E0F-9FF9-D1C11169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CF4-AA25-475D-95DE-B1F9EFB4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CCC-8C8C-4008-8EDE-66A44D4B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35B-C9FC-488E-972C-08D5942E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B81-37AA-4A94-856E-36FB582D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25E6-3D02-4F61-A9DE-0AD46507F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CEC-1034-4CE9-B8C6-AE9455679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029040" y="1547640"/>
            <a:ext cx="54324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34880" y="226800"/>
            <a:ext cx="6399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ь о защитниках отечества -это наш нравственный долг. Каждый год Артём с родителями участвует в шествии бесмертного полка, возложении цветов к вечному огню. Посещает мемориалы, музеи, выставки, посвящённые Великой Отечественной Войне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1257480" y="1668600"/>
            <a:ext cx="3565440" cy="4752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4822920" y="4149720"/>
            <a:ext cx="4273560" cy="24033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8" name="Рисунок 7" descr=""/>
          <p:cNvPicPr/>
          <p:nvPr/>
        </p:nvPicPr>
        <p:blipFill>
          <a:blip r:embed="rId3"/>
          <a:stretch/>
        </p:blipFill>
        <p:spPr>
          <a:xfrm>
            <a:off x="4822920" y="1498680"/>
            <a:ext cx="4224240" cy="23763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3448080" y="76320"/>
            <a:ext cx="5564160" cy="31287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10" name="Рисунок 2" descr=""/>
          <p:cNvPicPr/>
          <p:nvPr/>
        </p:nvPicPr>
        <p:blipFill>
          <a:blip r:embed="rId2"/>
          <a:stretch/>
        </p:blipFill>
        <p:spPr>
          <a:xfrm>
            <a:off x="2820960" y="3422520"/>
            <a:ext cx="5842080" cy="32846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2" descr=""/>
          <p:cNvPicPr/>
          <p:nvPr/>
        </p:nvPicPr>
        <p:blipFill>
          <a:blip r:embed="rId1"/>
          <a:stretch/>
        </p:blipFill>
        <p:spPr>
          <a:xfrm>
            <a:off x="3195720" y="76320"/>
            <a:ext cx="5825880" cy="32763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12" name="Рисунок 3" descr=""/>
          <p:cNvPicPr/>
          <p:nvPr/>
        </p:nvPicPr>
        <p:blipFill>
          <a:blip r:embed="rId2"/>
          <a:stretch/>
        </p:blipFill>
        <p:spPr>
          <a:xfrm>
            <a:off x="2903400" y="3567240"/>
            <a:ext cx="5685120" cy="31971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3335400" y="112680"/>
            <a:ext cx="5657760" cy="31831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14" name="Рисунок 3" descr=""/>
          <p:cNvPicPr/>
          <p:nvPr/>
        </p:nvPicPr>
        <p:blipFill>
          <a:blip r:embed="rId2"/>
          <a:stretch/>
        </p:blipFill>
        <p:spPr>
          <a:xfrm>
            <a:off x="2733840" y="3421080"/>
            <a:ext cx="5891040" cy="33145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814920" y="100080"/>
            <a:ext cx="4938480" cy="3703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16" name="Рисунок 2" descr=""/>
          <p:cNvPicPr/>
          <p:nvPr/>
        </p:nvPicPr>
        <p:blipFill>
          <a:blip r:embed="rId2"/>
          <a:stretch/>
        </p:blipFill>
        <p:spPr>
          <a:xfrm>
            <a:off x="3147840" y="3500280"/>
            <a:ext cx="4599000" cy="34498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34880" y="102960"/>
            <a:ext cx="6280200" cy="12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то не забыт, и ничто не забыто, и в сердце надежда живет. Что мир тот, что дедами был отвоеван, нами будет сохранен!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8" name="Объект 3" descr=""/>
          <p:cNvPicPr/>
          <p:nvPr/>
        </p:nvPicPr>
        <p:blipFill>
          <a:blip r:embed="rId1"/>
          <a:stretch/>
        </p:blipFill>
        <p:spPr>
          <a:xfrm>
            <a:off x="1941480" y="1352520"/>
            <a:ext cx="7121520" cy="53402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04720" y="364680"/>
            <a:ext cx="5310360" cy="457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34880" y="364680"/>
            <a:ext cx="6280200" cy="606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22 июня 1941 года началась Великая Отечественная война.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 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 этого момента начался отсчет дней войны, каждый из которых – это кровь и смерть, боль, горечь утрат, гибель лучших сыновей и дочерей России. 1418 дней, 2 600 километров и 27 миллионов унесенных жизней. 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27 миллионов — это значит каждый восьмой житель нашей страны погиб во время Великой Отечественной войны. 14 тысяч убитых ежедневно, 600 человек в час, 10 человек в каждую минуту. 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71200" y="998640"/>
            <a:ext cx="7155000" cy="51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 ещё исчезнуть не готова.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 годы – миллионы личных драм.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потому, давайте вспомним снова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х тех, кто подарил Победу нам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4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ой прадедушка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334120" y="1698480"/>
            <a:ext cx="3544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бров Семён Владимирович родился 15.02.1919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сто призыва: Казахская ССР, Восточно –Казахстанская область, Серебрянский р-он, с. Беляков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инское звание: красноормее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2" descr=""/>
          <p:cNvPicPr/>
          <p:nvPr/>
        </p:nvPicPr>
        <p:blipFill>
          <a:blip r:embed="rId1"/>
          <a:stretch/>
        </p:blipFill>
        <p:spPr>
          <a:xfrm>
            <a:off x="1706400" y="1488960"/>
            <a:ext cx="3551400" cy="47340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98320" y="364680"/>
            <a:ext cx="55724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ён Фёдорович был награждён медалью за отвагу; орденом Отечественной войны 2 степени. Вернулся с фронта; восстанавливал разрушенные города, сёла. Умер в 2008г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1"/>
          <a:stretch/>
        </p:blipFill>
        <p:spPr>
          <a:xfrm>
            <a:off x="2055960" y="1562040"/>
            <a:ext cx="3759120" cy="5013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"/>
          <p:cNvPicPr/>
          <p:nvPr/>
        </p:nvPicPr>
        <p:blipFill>
          <a:blip r:embed="rId2"/>
          <a:srcRect l="0" t="26118" r="1757" b="30036"/>
          <a:stretch/>
        </p:blipFill>
        <p:spPr>
          <a:xfrm>
            <a:off x="5986440" y="1779480"/>
            <a:ext cx="2629080" cy="25416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1" name="Рисунок 4" descr=""/>
          <p:cNvPicPr/>
          <p:nvPr/>
        </p:nvPicPr>
        <p:blipFill>
          <a:blip r:embed="rId3"/>
          <a:srcRect l="21711" t="17044" r="21711" b="59727"/>
          <a:stretch/>
        </p:blipFill>
        <p:spPr>
          <a:xfrm>
            <a:off x="5986440" y="4486320"/>
            <a:ext cx="2517840" cy="22399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4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ой прадедушка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334120" y="1698480"/>
            <a:ext cx="35449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оус Тихон Антонович родился в 1905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сто призыва: Ружинский РВК, Украинская ССР, Житомирская обл. с. Топ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инское звание: серж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Объект 3" descr=""/>
          <p:cNvPicPr/>
          <p:nvPr/>
        </p:nvPicPr>
        <p:blipFill>
          <a:blip r:embed="rId1"/>
          <a:srcRect l="0" t="13175" r="1244" b="0"/>
          <a:stretch/>
        </p:blipFill>
        <p:spPr>
          <a:xfrm>
            <a:off x="1284120" y="1698480"/>
            <a:ext cx="3875400" cy="4910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хон Антонович был награждён орденом Красной Звезды; медалью за отвагу. Вернулся с фронта; восстанавливал своё село. Умер 27.09.1967г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tretch/>
        </p:blipFill>
        <p:spPr>
          <a:xfrm>
            <a:off x="1660680" y="1395360"/>
            <a:ext cx="3433680" cy="4576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rcRect l="5921" t="33402" r="25581" b="41168"/>
          <a:stretch/>
        </p:blipFill>
        <p:spPr>
          <a:xfrm>
            <a:off x="5126040" y="2082960"/>
            <a:ext cx="3890880" cy="31305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4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ой прадедушка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5753160" y="1698480"/>
            <a:ext cx="326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рёмченко Пётр Петрович родился на Украине 24.06.1916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rcRect l="0" t="22706" r="4709" b="0"/>
          <a:stretch/>
        </p:blipFill>
        <p:spPr>
          <a:xfrm>
            <a:off x="1512720" y="1454040"/>
            <a:ext cx="4240440" cy="50878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35240" y="365040"/>
            <a:ext cx="645624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ётр Петрович участник боёв под Ленинградом; награждён медалью за боевые заслуги; был тяжело ранен; комиссован; работал в Кочковской автороте, в должности автомеханик. Умер 13.09.1982г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1698480" y="1500120"/>
            <a:ext cx="3241800" cy="43228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3" name="Рисунок 4" descr=""/>
          <p:cNvPicPr/>
          <p:nvPr/>
        </p:nvPicPr>
        <p:blipFill>
          <a:blip r:embed="rId2"/>
          <a:srcRect l="5566" t="0" r="4226" b="32812"/>
          <a:stretch/>
        </p:blipFill>
        <p:spPr>
          <a:xfrm>
            <a:off x="716040" y="5927760"/>
            <a:ext cx="8248680" cy="930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s://avatars.mds.yandex.net/get-pdb/1881806/e1359012-ed2f-4e7d-85c8-63fc234b8a00/s1200"/>
          <p:cNvPicPr/>
          <p:nvPr/>
        </p:nvPicPr>
        <p:blipFill>
          <a:blip r:embed="rId3"/>
          <a:srcRect l="32057" t="10965" r="35121" b="16796"/>
          <a:stretch/>
        </p:blipFill>
        <p:spPr>
          <a:xfrm>
            <a:off x="5788080" y="1828800"/>
            <a:ext cx="2178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4T18:37:04Z</dcterms:created>
  <dc:creator>pptforschool.ru</dc:creator>
  <dc:description/>
  <dc:language>en-US</dc:language>
  <cp:lastModifiedBy>wer fyy</cp:lastModifiedBy>
  <dcterms:modified xsi:type="dcterms:W3CDTF">2021-03-21T02:30:08Z</dcterms:modified>
  <cp:revision>32</cp:revision>
  <dc:subject/>
  <dc:title>PowerPoint Presentation</dc:title>
</cp:coreProperties>
</file>