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4752-58E6-436A-ABC5-532BBB6E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3945-1E26-47C4-B2D8-D6E7E6D9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2FC7-9EBB-4AA9-B325-FAC97445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19FF-8B3A-4C1A-8A53-B9D615B3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B928-BA76-4234-9619-722E8C24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D112-26B3-4B48-88BD-3889D28C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E7B-BFD3-4A23-90BB-92EBB68C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7A9C-DACE-460B-9034-58DCDD1D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5BCD-31AC-46AB-991F-FFFC1AF1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436-DCD6-49B2-8300-A468DFC4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AB8-9E08-42FD-A5AB-B39B3419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B2BA-ED83-4C83-9594-9D96031B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122D-41D9-457A-9485-29DDB2C8782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0803-5E76-4A8C-A6A8-57BE4A3E8F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бро пожаловать к ненца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: Бахлул Амина Бинт-Мустафа,      воспитатель старшей группы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СОШ№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расскажем о жизни и быте этого кочующего народ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2678-2EA0-47A8-9739-0B5C93EB87E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4B06-2B7A-4C7E-AE31-B783F672E4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KMO_131733_00210_1_t218_205238"/>
          <p:cNvPicPr/>
          <p:nvPr/>
        </p:nvPicPr>
        <p:blipFill>
          <a:blip r:embed="rId1"/>
          <a:stretch/>
        </p:blipFill>
        <p:spPr>
          <a:xfrm>
            <a:off x="544680" y="1413000"/>
            <a:ext cx="8053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ум – это разборное жилище ненцев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FFF3-F042-423D-86ED-9CB1EAFA7E6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F27A-6AB2-4889-8657-F4946F4EA3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_162"/>
          <p:cNvPicPr/>
          <p:nvPr/>
        </p:nvPicPr>
        <p:blipFill>
          <a:blip r:embed="rId1"/>
          <a:stretch/>
        </p:blipFill>
        <p:spPr>
          <a:xfrm>
            <a:off x="0" y="1341360"/>
            <a:ext cx="5111640" cy="383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24"/>
          <p:cNvPicPr/>
          <p:nvPr/>
        </p:nvPicPr>
        <p:blipFill>
          <a:blip r:embed="rId2"/>
          <a:stretch/>
        </p:blipFill>
        <p:spPr>
          <a:xfrm>
            <a:off x="4572000" y="2924280"/>
            <a:ext cx="45720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ты – самое необходимое средство передвижения в тунд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FD0C-D980-4229-BF87-CD75FBC849F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FF48-5656-4E6C-97B9-A920FA4E74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sovremennye_nency_v_fotografiyah"/>
          <p:cNvPicPr/>
          <p:nvPr/>
        </p:nvPicPr>
        <p:blipFill>
          <a:blip r:embed="rId1"/>
          <a:stretch/>
        </p:blipFill>
        <p:spPr>
          <a:xfrm>
            <a:off x="-108000" y="1844640"/>
            <a:ext cx="5040360" cy="338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36"/>
          <p:cNvPicPr/>
          <p:nvPr/>
        </p:nvPicPr>
        <p:blipFill>
          <a:blip r:embed="rId2"/>
          <a:stretch/>
        </p:blipFill>
        <p:spPr>
          <a:xfrm>
            <a:off x="4788000" y="3487680"/>
            <a:ext cx="45511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нцы – язычники, верили в духов реки, озера, ветра, солнца, радуги, грозы, молни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4257-5141-48F4-899D-81D4D3FAE90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BED2-E7BF-4BAA-BA11-91284285FC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vwxjdbzjlm2"/>
          <p:cNvPicPr/>
          <p:nvPr/>
        </p:nvPicPr>
        <p:blipFill>
          <a:blip r:embed="rId1"/>
          <a:stretch/>
        </p:blipFill>
        <p:spPr>
          <a:xfrm>
            <a:off x="1763640" y="1844640"/>
            <a:ext cx="52992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ные условия на Ямале суровы. Поэтому для ненцев хорошая одежда очень важ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3CBC-9470-4ED7-83CA-18C25771133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75C6-4578-4A5D-B7CB-3BBDCEBAFE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ANd9GcQucQEXtX1e4e1nTeamzqWUfOX5PjyBqqpHinABBwXSt8gxf-qH"/>
          <p:cNvPicPr/>
          <p:nvPr/>
        </p:nvPicPr>
        <p:blipFill>
          <a:blip r:embed="rId1"/>
          <a:stretch/>
        </p:blipFill>
        <p:spPr>
          <a:xfrm>
            <a:off x="0" y="1844640"/>
            <a:ext cx="4643280" cy="417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nency"/>
          <p:cNvPicPr/>
          <p:nvPr/>
        </p:nvPicPr>
        <p:blipFill>
          <a:blip r:embed="rId2"/>
          <a:stretch/>
        </p:blipFill>
        <p:spPr>
          <a:xfrm>
            <a:off x="4211640" y="2959200"/>
            <a:ext cx="493236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ят ненцы проводить спортивные состязания – соревнования – игры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B166-5072-464C-9902-6E79AD60F1B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FA78-15F1-4FB2-8BB4-F4B5570CFA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YAMAL_018"/>
          <p:cNvPicPr/>
          <p:nvPr/>
        </p:nvPicPr>
        <p:blipFill>
          <a:blip r:embed="rId1"/>
          <a:stretch/>
        </p:blipFill>
        <p:spPr>
          <a:xfrm>
            <a:off x="1763640" y="1844640"/>
            <a:ext cx="5759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02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десь свежий воздух…который чувствуешь на вкус! Здесь бескрайний простор… который ощущаешь, но не можешь объять своим воображением! Здесь сохраняются вековые традиции предков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679F-E64B-49DE-8345-BC46F97C225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D14F-590C-479D-835E-9D9827FE39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nency"/>
          <p:cNvPicPr/>
          <p:nvPr/>
        </p:nvPicPr>
        <p:blipFill>
          <a:blip r:embed="rId1"/>
          <a:stretch/>
        </p:blipFill>
        <p:spPr>
          <a:xfrm>
            <a:off x="0" y="1773360"/>
            <a:ext cx="3743280" cy="250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170"/>
          <p:cNvPicPr/>
          <p:nvPr/>
        </p:nvPicPr>
        <p:blipFill>
          <a:blip r:embed="rId2"/>
          <a:stretch/>
        </p:blipFill>
        <p:spPr>
          <a:xfrm>
            <a:off x="2556000" y="3940200"/>
            <a:ext cx="4222800" cy="2917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35"/>
          <p:cNvPicPr/>
          <p:nvPr/>
        </p:nvPicPr>
        <p:blipFill>
          <a:blip r:embed="rId3"/>
          <a:stretch/>
        </p:blipFill>
        <p:spPr>
          <a:xfrm>
            <a:off x="4932360" y="1628640"/>
            <a:ext cx="421164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бро пожаловать в тундр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16"/>
          <p:cNvPicPr/>
          <p:nvPr/>
        </p:nvPicPr>
        <p:blipFill>
          <a:blip r:embed="rId1"/>
          <a:stretch/>
        </p:blipFill>
        <p:spPr>
          <a:xfrm>
            <a:off x="0" y="1197000"/>
            <a:ext cx="6716880" cy="5111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08"/>
          <p:cNvPicPr/>
          <p:nvPr/>
        </p:nvPicPr>
        <p:blipFill>
          <a:blip r:embed="rId2"/>
          <a:stretch/>
        </p:blipFill>
        <p:spPr>
          <a:xfrm>
            <a:off x="5364000" y="1341360"/>
            <a:ext cx="3780000" cy="237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05"/>
          <p:cNvPicPr/>
          <p:nvPr/>
        </p:nvPicPr>
        <p:blipFill>
          <a:blip r:embed="rId3"/>
          <a:stretch/>
        </p:blipFill>
        <p:spPr>
          <a:xfrm>
            <a:off x="5364000" y="3933720"/>
            <a:ext cx="37800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0T17:48:38Z</dcterms:created>
  <dc:creator>Admin</dc:creator>
  <dc:description>http://aida.ucoz.ru</dc:description>
  <dc:language>en-US</dc:language>
  <cp:lastModifiedBy>ДетскийСад</cp:lastModifiedBy>
  <dcterms:modified xsi:type="dcterms:W3CDTF">2022-03-03T02:24:21Z</dcterms:modified>
  <cp:revision>20</cp:revision>
  <dc:subject/>
  <dc:title>Добро пожаловать к ненцам!</dc:title>
</cp:coreProperties>
</file>