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EA2-15ED-44F1-B3A5-ED6822A2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E02-5220-474C-B9DF-AF163A37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D624-D313-4F94-96C8-8D6BD6D8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0BC-72CB-4509-A27D-7DA120E3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808-5716-4E44-8ECA-C1E5B412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1F7-83A7-46A8-AE22-ED0BDB70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BB5-179F-492E-925B-D2C21F37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CB5-A75D-4B8F-A903-E09EB793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BC2-318E-4A24-B995-3CA42ED0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9C0F-93ED-42F9-B517-AAA45E14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7A7-5C28-4464-975A-C64702B3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CDB-A87F-4114-9B3C-690632E7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A30E-B641-42EA-9BFC-2FC2A838AD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rustrahovka.ru/upload/iblock/b8c/.png" TargetMode="External"/><Relationship Id="rId2" Type="http://schemas.openxmlformats.org/officeDocument/2006/relationships/hyperlink" Target="http://www.rustrahovka.ru/upload/iblock/b8c/.png" TargetMode="External"/><Relationship Id="rId3" Type="http://schemas.openxmlformats.org/officeDocument/2006/relationships/hyperlink" Target="http://www.rustrahovka.ru/upload/iblock/b8c/.png" TargetMode="External"/><Relationship Id="rId4" Type="http://schemas.openxmlformats.org/officeDocument/2006/relationships/hyperlink" Target="http://www.rustrahovka.ru/upload/iblock/b8c/.png" TargetMode="External"/><Relationship Id="rId5" Type="http://schemas.openxmlformats.org/officeDocument/2006/relationships/hyperlink" Target="http://www.rustrahovka.ru/upload/iblock/b8c/.png" TargetMode="External"/><Relationship Id="rId6" Type="http://schemas.openxmlformats.org/officeDocument/2006/relationships/hyperlink" Target="http://www.rustrahovka.ru/upload/iblock/b8c/.png" TargetMode="External"/><Relationship Id="rId7" Type="http://schemas.openxmlformats.org/officeDocument/2006/relationships/hyperlink" Target="http://www.rustrahovka.ru/upload/iblock/b8c/.png" TargetMode="External"/><Relationship Id="rId8" Type="http://schemas.openxmlformats.org/officeDocument/2006/relationships/hyperlink" Target="http://www.rustrahovka.ru/upload/iblock/b8c/.png" TargetMode="External"/><Relationship Id="rId9" Type="http://schemas.openxmlformats.org/officeDocument/2006/relationships/hyperlink" Target="http://www.rustrahovka.ru/upload/iblock/b8c/.png" TargetMode="External"/><Relationship Id="rId10" Type="http://schemas.openxmlformats.org/officeDocument/2006/relationships/hyperlink" Target="http://www.rustrahovka.ru/upload/iblock/b8c/.png" TargetMode="External"/><Relationship Id="rId11" Type="http://schemas.openxmlformats.org/officeDocument/2006/relationships/hyperlink" Target="http://www.rustrahovka.ru/upload/iblock/b8c/.png" TargetMode="External"/><Relationship Id="rId12" Type="http://schemas.openxmlformats.org/officeDocument/2006/relationships/hyperlink" Target="http://www.rustrahovka.ru/upload/iblock/b8c/.png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с одним вырезанным углом 9"/>
          <p:cNvSpPr/>
          <p:nvPr/>
        </p:nvSpPr>
        <p:spPr>
          <a:xfrm rot="16200000">
            <a:off x="2915280" y="-2691720"/>
            <a:ext cx="3313080" cy="8928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D:\Лидия\шаблоны\для работы\devchushka.jpg"/>
          <p:cNvPicPr/>
          <p:nvPr/>
        </p:nvPicPr>
        <p:blipFill>
          <a:blip r:embed="rId1"/>
          <a:stretch/>
        </p:blipFill>
        <p:spPr>
          <a:xfrm>
            <a:off x="0" y="115920"/>
            <a:ext cx="1187280" cy="116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Users\Компас\Pictures\png.png"/>
          <p:cNvPicPr/>
          <p:nvPr/>
        </p:nvPicPr>
        <p:blipFill>
          <a:blip r:embed="rId2"/>
          <a:stretch/>
        </p:blipFill>
        <p:spPr>
          <a:xfrm>
            <a:off x="0" y="2852640"/>
            <a:ext cx="720720" cy="549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-84600" y="189000"/>
            <a:ext cx="10096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ff0000"/>
                </a:solidFill>
                <a:latin typeface="Monotype Corsiva"/>
              </a:rPr>
              <a:t>У</a:t>
            </a:r>
            <a:r>
              <a:rPr b="1" lang="ru-RU" sz="20000" spc="-1" strike="noStrike">
                <a:solidFill>
                  <a:srgbClr val="00b0f0"/>
                </a:solidFill>
                <a:latin typeface="Monotype Corsiva"/>
              </a:rPr>
              <a:t>г</a:t>
            </a:r>
            <a:r>
              <a:rPr b="1" lang="ru-RU" sz="20000" spc="-1" strike="noStrike">
                <a:solidFill>
                  <a:srgbClr val="ffff00"/>
                </a:solidFill>
                <a:latin typeface="Monotype Corsiva"/>
              </a:rPr>
              <a:t>о</a:t>
            </a:r>
            <a:r>
              <a:rPr b="1" lang="ru-RU" sz="20000" spc="-1" strike="noStrike">
                <a:solidFill>
                  <a:srgbClr val="00b050"/>
                </a:solidFill>
                <a:latin typeface="Monotype Corsiva"/>
              </a:rPr>
              <a:t>л</a:t>
            </a:r>
            <a:r>
              <a:rPr b="1" lang="ru-RU" sz="200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1" lang="ru-RU" sz="20000" spc="-1" strike="noStrike">
                <a:solidFill>
                  <a:srgbClr val="00b0f0"/>
                </a:solidFill>
                <a:latin typeface="Monotype Corsiva"/>
              </a:rPr>
              <a:t>к</a:t>
            </a:r>
            <a:r>
              <a:rPr b="1" lang="ru-RU" sz="200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900000" y="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Monotype Corsiva"/>
              </a:rPr>
              <a:t>Памя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Monotype Corsiva"/>
              </a:rPr>
              <a:t>«Работа над рассказом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одержимое 2"/>
          <p:cNvSpPr/>
          <p:nvPr/>
        </p:nvSpPr>
        <p:spPr>
          <a:xfrm>
            <a:off x="457200" y="2276640"/>
            <a:ext cx="829152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457200" y="2060640"/>
            <a:ext cx="843588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одержимое 2"/>
          <p:cNvSpPr/>
          <p:nvPr/>
        </p:nvSpPr>
        <p:spPr>
          <a:xfrm>
            <a:off x="457200" y="1989000"/>
            <a:ext cx="843588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называется рассказ? Кто его написа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читай рассказ. Когда происходит действие, которое в нём описываетс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ови действующих лиц. Что ты о них узнаёш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случилось с героями? Как они вели себя? Кто из действующих лиц понравился тебе и чем именн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 чём ты думал, читая рассказ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900000" y="0"/>
            <a:ext cx="7559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04a7b"/>
                </a:solidFill>
                <a:latin typeface="Monotype Corsiva"/>
              </a:rPr>
              <a:t>Памят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«Работа над статьёй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одержимое 2"/>
          <p:cNvSpPr/>
          <p:nvPr/>
        </p:nvSpPr>
        <p:spPr>
          <a:xfrm>
            <a:off x="457200" y="2276640"/>
            <a:ext cx="829152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одержимое 2"/>
          <p:cNvSpPr/>
          <p:nvPr/>
        </p:nvSpPr>
        <p:spPr>
          <a:xfrm>
            <a:off x="457200" y="2060640"/>
            <a:ext cx="843588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одержимое 2"/>
          <p:cNvSpPr/>
          <p:nvPr/>
        </p:nvSpPr>
        <p:spPr>
          <a:xfrm>
            <a:off x="457200" y="1989000"/>
            <a:ext cx="843588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помни, как называется статья и кто её авто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читай статью. Какие слова и выражения ты не поня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 ком эта стать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 каких явлениях природы или событиях рассказывается в стать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дели статью на части. Как озаглавить части? Составь пла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ова главная мысль всей статьи? Найди в тексте отрывок или предложение, где автор говорит о самом главн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нового ты узнал из прочитанног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ты раньше об этом чита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1187280" y="0"/>
            <a:ext cx="7023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Советуем прочита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одержимое 3"/>
          <p:cNvSpPr/>
          <p:nvPr/>
        </p:nvSpPr>
        <p:spPr>
          <a:xfrm>
            <a:off x="4284720" y="1052640"/>
            <a:ext cx="4608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. С. Аксаков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Облак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. Г. Гарин-Михайловский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Тёма и Жуч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. В. Григоревич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Гуттаперчевый мальчи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. А. Бунин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Цифра», «О дураке Емеле, который вышел всех умнее», «Письмо девочке Ол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.Погорельский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Чёрная кур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.Н.Мамин-Сибиряк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Сказка про Комара Комаровича», «Серая шей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. М. Гаршин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ка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. Ф. Одоевский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Игоша», «Необйдённый дом», «Серебряный рубл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. Ф. Вагнер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Кот Мурлыка», «Курил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. А. Чарска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Сказки голубой фе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. А. Некрасов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Мужичок с ногот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. Д. Бальмонт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Фейные сказки», «Колыбельная песн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. Л. Пастернак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Рождественская звез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одержимое 4"/>
          <p:cNvSpPr/>
          <p:nvPr/>
        </p:nvSpPr>
        <p:spPr>
          <a:xfrm>
            <a:off x="250920" y="1125360"/>
            <a:ext cx="418284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сские народные песни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Сон ходит по терему», «Пошёл котик во лесок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кучные сказки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Жили-были два брата», «Жил-был старичок», «Был себе царь Додон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сские народные сказки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Хаврошечка», «Зимовьё», «Мальчик с пальчик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казки с хитрин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ремена года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ихотворения русских поэ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. И. Тютчев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ервый лис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. С. Пушкин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Сказка о попе и работнике его Балд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. А. Крылов. Басни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Волк и журавль», «Кварте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. Н. Толстой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Как боролся русский богатырь», «Как вор сам себя выдал», «Старая лошадь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4" descr="devchushka.jpg"/>
          <p:cNvPicPr/>
          <p:nvPr/>
        </p:nvPicPr>
        <p:blipFill>
          <a:blip r:embed="rId1"/>
          <a:srcRect l="0" t="0" r="0" b="6740"/>
          <a:stretch/>
        </p:blipFill>
        <p:spPr>
          <a:xfrm>
            <a:off x="0" y="260280"/>
            <a:ext cx="5237280" cy="511344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5" descr="1572323-9a0093e628fc8900.png"/>
          <p:cNvPicPr/>
          <p:nvPr/>
        </p:nvPicPr>
        <p:blipFill>
          <a:blip r:embed="rId2"/>
          <a:stretch/>
        </p:blipFill>
        <p:spPr>
          <a:xfrm>
            <a:off x="4788000" y="2662200"/>
            <a:ext cx="41958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4" descr="devchushka.jpg"/>
          <p:cNvPicPr/>
          <p:nvPr/>
        </p:nvPicPr>
        <p:blipFill>
          <a:blip r:embed="rId1"/>
          <a:srcRect l="0" t="0" r="0" b="6740"/>
          <a:stretch/>
        </p:blipFill>
        <p:spPr>
          <a:xfrm>
            <a:off x="1042920" y="260280"/>
            <a:ext cx="644544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5" descr="1572323-9a0093e628fc8900.png"/>
          <p:cNvPicPr/>
          <p:nvPr/>
        </p:nvPicPr>
        <p:blipFill>
          <a:blip r:embed="rId1"/>
          <a:stretch/>
        </p:blipFill>
        <p:spPr>
          <a:xfrm>
            <a:off x="826920" y="0"/>
            <a:ext cx="68612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спользуемые 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ндзенкова А., Степанченко Н. Справочник для младших школьников. Екатеринбург: АРД ЛТД, 19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нопка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onotype Corsiva"/>
                <a:ea typeface="Arial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Monotype Corsiva"/>
                <a:ea typeface="Arial"/>
                <a:hlinkClick r:id="rId2"/>
              </a:rPr>
              <a:t>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onotype Corsiva"/>
                <a:ea typeface="Arial"/>
                <a:hlinkClick r:id="rId3"/>
              </a:rPr>
              <a:t>www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Monotype Corsiva"/>
                <a:ea typeface="Arial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onotype Corsiva"/>
                <a:ea typeface="Arial"/>
                <a:hlinkClick r:id="rId5"/>
              </a:rPr>
              <a:t>rustrahovka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Monotype Corsiva"/>
                <a:ea typeface="Arial"/>
                <a:hlinkClick r:id="rId6"/>
              </a:rPr>
              <a:t>.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onotype Corsiva"/>
                <a:ea typeface="Arial"/>
                <a:hlinkClick r:id="rId7"/>
              </a:rPr>
              <a:t>ru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Monotype Corsiva"/>
                <a:ea typeface="Arial"/>
                <a:hlinkClick r:id="rId8"/>
              </a:rPr>
              <a:t>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onotype Corsiva"/>
                <a:ea typeface="Arial"/>
                <a:hlinkClick r:id="rId9"/>
              </a:rPr>
              <a:t>upload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Monotype Corsiva"/>
                <a:ea typeface="Arial"/>
                <a:hlinkClick r:id="rId10"/>
              </a:rPr>
              <a:t>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onotype Corsiva"/>
                <a:ea typeface="Arial"/>
                <a:hlinkClick r:id="rId11"/>
              </a:rPr>
              <a:t>iblock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Monotype Corsiva"/>
                <a:ea typeface="Arial"/>
                <a:hlinkClick r:id="rId12"/>
              </a:rPr>
              <a:t>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onotype Corsiva"/>
                <a:ea typeface="Arial"/>
              </a:rPr>
              <a:t>b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Monotype Corsiva"/>
                <a:ea typeface="Arial"/>
              </a:rPr>
              <a:t>8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onotype Corsiva"/>
                <a:ea typeface="Arial"/>
              </a:rPr>
              <a:t>c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Monotype Corsiva"/>
                <a:ea typeface="Arial"/>
              </a:rPr>
              <a:t>/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onotype Corsiva"/>
                <a:ea typeface="Arial"/>
              </a:rPr>
              <a:t>p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Часть материала из личного арх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с одним вырезанным углом 9"/>
          <p:cNvSpPr/>
          <p:nvPr/>
        </p:nvSpPr>
        <p:spPr>
          <a:xfrm rot="16200000">
            <a:off x="2915280" y="-2691720"/>
            <a:ext cx="3313080" cy="8928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Users\Компас\Pictures\png.png"/>
          <p:cNvPicPr/>
          <p:nvPr/>
        </p:nvPicPr>
        <p:blipFill>
          <a:blip r:embed="rId1"/>
          <a:stretch/>
        </p:blipFill>
        <p:spPr>
          <a:xfrm>
            <a:off x="8244000" y="189000"/>
            <a:ext cx="720720" cy="549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D:\Лидия\шаблоны\для работы\1572323-9a0093e628fc8900.png"/>
          <p:cNvPicPr/>
          <p:nvPr/>
        </p:nvPicPr>
        <p:blipFill>
          <a:blip r:embed="rId2"/>
          <a:stretch/>
        </p:blipFill>
        <p:spPr>
          <a:xfrm>
            <a:off x="7812000" y="2276640"/>
            <a:ext cx="1160640" cy="1160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755640" y="115920"/>
            <a:ext cx="7848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ffff00"/>
                </a:solidFill>
                <a:latin typeface="Monotype Corsiva"/>
              </a:rPr>
              <a:t>ч</a:t>
            </a:r>
            <a:r>
              <a:rPr b="1" lang="ru-RU" sz="20000" spc="-1" strike="noStrike">
                <a:solidFill>
                  <a:srgbClr val="00b050"/>
                </a:solidFill>
                <a:latin typeface="Monotype Corsiva"/>
              </a:rPr>
              <a:t>т</a:t>
            </a:r>
            <a:r>
              <a:rPr b="1" lang="ru-RU" sz="20000" spc="-1" strike="noStrike">
                <a:solidFill>
                  <a:srgbClr val="ff0000"/>
                </a:solidFill>
                <a:latin typeface="Monotype Corsiva"/>
              </a:rPr>
              <a:t>е</a:t>
            </a:r>
            <a:r>
              <a:rPr b="1" lang="ru-RU" sz="20000" spc="-1" strike="noStrike">
                <a:solidFill>
                  <a:srgbClr val="00b0f0"/>
                </a:solidFill>
                <a:latin typeface="Monotype Corsiva"/>
              </a:rPr>
              <a:t>н</a:t>
            </a:r>
            <a:r>
              <a:rPr b="1" lang="ru-RU" sz="20000" spc="-1" strike="noStrike">
                <a:solidFill>
                  <a:srgbClr val="ffff00"/>
                </a:solidFill>
                <a:latin typeface="Monotype Corsiva"/>
              </a:rPr>
              <a:t>и</a:t>
            </a:r>
            <a:r>
              <a:rPr b="1" lang="ru-RU" sz="20000" spc="-1" strike="noStrike">
                <a:solidFill>
                  <a:srgbClr val="00b050"/>
                </a:solidFill>
                <a:latin typeface="Monotype Corsiva"/>
              </a:rPr>
              <a:t>я</a:t>
            </a:r>
            <a:r>
              <a:rPr b="1" lang="ru-RU" sz="200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1476360" y="0"/>
            <a:ext cx="6419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З</a:t>
            </a: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а</a:t>
            </a: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п</a:t>
            </a:r>
            <a:r>
              <a:rPr b="0" lang="ru-RU" sz="6600" spc="-1" strike="noStrike">
                <a:solidFill>
                  <a:srgbClr val="00b050"/>
                </a:solidFill>
                <a:latin typeface="Monotype Corsiva"/>
              </a:rPr>
              <a:t>о</a:t>
            </a: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в</a:t>
            </a: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е</a:t>
            </a: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д</a:t>
            </a:r>
            <a:r>
              <a:rPr b="0" lang="ru-RU" sz="6600" spc="-1" strike="noStrike">
                <a:solidFill>
                  <a:srgbClr val="00b050"/>
                </a:solidFill>
                <a:latin typeface="Monotype Corsiva"/>
              </a:rPr>
              <a:t>и</a:t>
            </a: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ч</a:t>
            </a: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и</a:t>
            </a: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т</a:t>
            </a:r>
            <a:r>
              <a:rPr b="0" lang="ru-RU" sz="6600" spc="-1" strike="noStrike">
                <a:solidFill>
                  <a:srgbClr val="00b050"/>
                </a:solidFill>
                <a:latin typeface="Monotype Corsiva"/>
              </a:rPr>
              <a:t>а</a:t>
            </a: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т</a:t>
            </a: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е</a:t>
            </a: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л</a:t>
            </a:r>
            <a:r>
              <a:rPr b="0" lang="ru-RU" sz="6600" spc="-1" strike="noStrike">
                <a:solidFill>
                  <a:srgbClr val="00b050"/>
                </a:solidFill>
                <a:latin typeface="Monotype Corsiva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611280" y="1254960"/>
            <a:ext cx="7777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Прежде чем читать, определи, о каком времени (эпохе) рассказывает книга, а закончив чтение, установи, как долго длились описанные в книге со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Обращай внимание, где (в каком месте, в какой стране) и с кем происходит всё, о чём рассказа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Используй книги-справочники и иллюстрации, постарайся представить себе героев и обстановку как можно более нагляд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Сразу же выделяй всё непонятное, формулируй вопросы и старайся, прежде всего, найти на них ответ самостоятельно, без посторонней помощ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Если книга объёмная, читай её по част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Закрывая книгу, всякий раз (даже прочитав только часть её) обдумывай, что запомнилось, что взволновало (заставило затаить дыхание, испугало, обрадовало, рассердило, поразило) при чт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Сравнивай свои впечатления от прочитанного сегодня с тем, что испытал при чтении вч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Возвращайся к прочитанному, перечитывай отдельные интересные места, отмечай их закладкой, выписыв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Дочитав книгу, ещё раз подумай над её содержанием в целом, воспроизведи образы героев книги и постарайся определить, хороша ли книга и чем именно хорош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900000" y="0"/>
            <a:ext cx="755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П</a:t>
            </a:r>
            <a:r>
              <a:rPr b="0" lang="ru-RU" sz="6600" spc="-1" strike="noStrike">
                <a:solidFill>
                  <a:srgbClr val="00b050"/>
                </a:solidFill>
                <a:latin typeface="Monotype Corsiva"/>
              </a:rPr>
              <a:t>р</a:t>
            </a: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а</a:t>
            </a: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в</a:t>
            </a: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0" lang="ru-RU" sz="6600" spc="-1" strike="noStrike">
                <a:solidFill>
                  <a:srgbClr val="00b050"/>
                </a:solidFill>
                <a:latin typeface="Monotype Corsiva"/>
              </a:rPr>
              <a:t>л</a:t>
            </a: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а</a:t>
            </a: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 ч</a:t>
            </a: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т</a:t>
            </a:r>
            <a:r>
              <a:rPr b="0" lang="ru-RU" sz="6600" spc="-1" strike="noStrike">
                <a:solidFill>
                  <a:srgbClr val="00b050"/>
                </a:solidFill>
                <a:latin typeface="Monotype Corsiva"/>
              </a:rPr>
              <a:t>е</a:t>
            </a: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н</a:t>
            </a: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и</a:t>
            </a: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одержимое 2"/>
          <p:cNvSpPr/>
          <p:nvPr/>
        </p:nvSpPr>
        <p:spPr>
          <a:xfrm>
            <a:off x="457200" y="2276640"/>
            <a:ext cx="829152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одержимое 2"/>
          <p:cNvSpPr/>
          <p:nvPr/>
        </p:nvSpPr>
        <p:spPr>
          <a:xfrm>
            <a:off x="457200" y="2060640"/>
            <a:ext cx="843588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одержимое 2"/>
          <p:cNvSpPr/>
          <p:nvPr/>
        </p:nvSpPr>
        <p:spPr>
          <a:xfrm>
            <a:off x="457200" y="1989000"/>
            <a:ext cx="843588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одержимое 4"/>
          <p:cNvSpPr/>
          <p:nvPr/>
        </p:nvSpPr>
        <p:spPr>
          <a:xfrm>
            <a:off x="611280" y="1268280"/>
            <a:ext cx="813744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ржи книгу 30-40 см от глаз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итай, сидя за стол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читай до устал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читай во время ед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читай перед сн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еди за тем, чтобы освещение при чтении падало с левой сторон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итай так, как говоришь, при этом не забывай, что и говорить нужно раздельно с выражением мысли и чувств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блюдай при чтении знаки препин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гда читаешь чужие слова, старайся говорить голосом того человека, за которого читаеш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итай всегда громким голос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900000" y="0"/>
            <a:ext cx="7559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П</a:t>
            </a:r>
            <a:r>
              <a:rPr b="0" lang="ru-RU" sz="6600" spc="-1" strike="noStrike">
                <a:solidFill>
                  <a:srgbClr val="00b050"/>
                </a:solidFill>
                <a:latin typeface="Monotype Corsiva"/>
              </a:rPr>
              <a:t>р</a:t>
            </a: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а</a:t>
            </a: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в</a:t>
            </a: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0" lang="ru-RU" sz="6600" spc="-1" strike="noStrike">
                <a:solidFill>
                  <a:srgbClr val="00b050"/>
                </a:solidFill>
                <a:latin typeface="Monotype Corsiva"/>
              </a:rPr>
              <a:t>л</a:t>
            </a: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а</a:t>
            </a: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п</a:t>
            </a: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0" lang="ru-RU" sz="6600" spc="-1" strike="noStrike">
                <a:solidFill>
                  <a:srgbClr val="00b050"/>
                </a:solidFill>
                <a:latin typeface="Monotype Corsiva"/>
              </a:rPr>
              <a:t>л</a:t>
            </a: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ь</a:t>
            </a: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з</a:t>
            </a: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0" lang="ru-RU" sz="6600" spc="-1" strike="noStrike">
                <a:solidFill>
                  <a:srgbClr val="00b050"/>
                </a:solidFill>
                <a:latin typeface="Monotype Corsiva"/>
              </a:rPr>
              <a:t>в</a:t>
            </a: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а</a:t>
            </a: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н</a:t>
            </a: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0" lang="ru-RU" sz="6600" spc="-1" strike="noStrike">
                <a:solidFill>
                  <a:srgbClr val="00b050"/>
                </a:solidFill>
                <a:latin typeface="Monotype Corsiva"/>
              </a:rPr>
              <a:t>я</a:t>
            </a: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 </a:t>
            </a: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к</a:t>
            </a: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н</a:t>
            </a: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0" lang="ru-RU" sz="6600" spc="-1" strike="noStrike">
                <a:solidFill>
                  <a:srgbClr val="00b050"/>
                </a:solidFill>
                <a:latin typeface="Monotype Corsiva"/>
              </a:rPr>
              <a:t>г</a:t>
            </a: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о</a:t>
            </a: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одержимое 2"/>
          <p:cNvSpPr/>
          <p:nvPr/>
        </p:nvSpPr>
        <p:spPr>
          <a:xfrm>
            <a:off x="457200" y="2276640"/>
            <a:ext cx="829152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457200" y="2060640"/>
            <a:ext cx="843588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одержимое 2"/>
          <p:cNvSpPr/>
          <p:nvPr/>
        </p:nvSpPr>
        <p:spPr>
          <a:xfrm>
            <a:off x="457200" y="1989000"/>
            <a:ext cx="843588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одержимое 2"/>
          <p:cNvSpPr/>
          <p:nvPr/>
        </p:nvSpPr>
        <p:spPr>
          <a:xfrm>
            <a:off x="1116000" y="2205000"/>
            <a:ext cx="755964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чтении пользуйся заклад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перегибай страницы кни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делай помет на полях страни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мочи палец, когда переворачиваешь страниц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ьзуйся книгой   аккурат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116000" y="0"/>
            <a:ext cx="724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К</a:t>
            </a: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а</a:t>
            </a: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к</a:t>
            </a: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6600" spc="-1" strike="noStrike">
                <a:solidFill>
                  <a:srgbClr val="00b050"/>
                </a:solidFill>
                <a:latin typeface="Monotype Corsiva"/>
              </a:rPr>
              <a:t>п</a:t>
            </a: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с</a:t>
            </a: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т</a:t>
            </a:r>
            <a:r>
              <a:rPr b="0" lang="ru-RU" sz="6600" spc="-1" strike="noStrike">
                <a:solidFill>
                  <a:srgbClr val="00b050"/>
                </a:solidFill>
                <a:latin typeface="Monotype Corsiva"/>
              </a:rPr>
              <a:t>р</a:t>
            </a: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е</a:t>
            </a: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н</a:t>
            </a:r>
            <a:r>
              <a:rPr b="0" lang="ru-RU" sz="6600" spc="-1" strike="noStrike">
                <a:solidFill>
                  <a:srgbClr val="00b050"/>
                </a:solidFill>
                <a:latin typeface="Monotype Corsiva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к</a:t>
            </a: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н</a:t>
            </a: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и</a:t>
            </a:r>
            <a:r>
              <a:rPr b="0" lang="ru-RU" sz="6600" spc="-1" strike="noStrike">
                <a:solidFill>
                  <a:srgbClr val="00b050"/>
                </a:solidFill>
                <a:latin typeface="Monotype Corsiva"/>
              </a:rPr>
              <a:t>г</a:t>
            </a: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а</a:t>
            </a:r>
            <a:r>
              <a:rPr b="0" lang="ru-RU" sz="6600" spc="-1" strike="noStrike">
                <a:solidFill>
                  <a:srgbClr val="00b0f0"/>
                </a:solidFill>
                <a:latin typeface="Monotype Corsiva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324000" y="1125360"/>
            <a:ext cx="856908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держишь в руках книгу. О чем 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ный читатель, полистав книгу, сразу поймет, интересно ли ему будет ее чит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стать умелым читателем, надо знать, как построена книга, на что нужно обратить  внимание. Тогда, даже не начав читать, ты узнаешь, о чем 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Обложка (или переплет)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ет книгу от повреждений и придает ей нарядный вид. Она подскажет тебе, кто автор книги, как она называется. А если на обложке есть картинка, то можно примерно догадаться, о чем эта кни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Титульный лист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первая страница книги. На нем обычно написано то же, что на обложке, но более подроб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книга с рисунками, то указана фамилия худож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книга родилась в другой стране или в любой из советских республик, ты прочитаешь, с какого языка она переведена. Например, «перевод с туркменского...», а потом — фамилия переводч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самом низу напечатано, в каком городе книга вышла в свет, в каком году, и какое издательство над ней работа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Предисловие.</a:t>
            </a: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евности всякий рассказ, историю называли «словом», например, древняя русская повесть «Слово о полку Игореве». Это значение до наших дней сохранилось в слове «предиСЛОВие», то, что перед «словом», рассказом или иначе — перед текстом. Из предисловия можно узнать, кто написал книгу, когда и в какой стране происходят события, и многое друг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предисловие бывает коротким, его можно прочитать прямо здесь, у полки. И ты сразу поймешь, нужно тебе читать эту книгу или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Иллюстрация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исунок, фотография, чертеж, если книга про то, как сделать что-нибудь своими руками, или про то, как устроена машина, прибор. Книгу с иллюстрациями читать интереснее, потому что легче представить себе то, о чем рассказывает авт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одержание (или оглавление).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книги состоят из отдельных стихов, рассказов, сказок. Чтобы быстро найти в книге нужное стихотворение или узнать, какие сказки помещены в ней, надо заглянуть в «Содержание». Оно бывает в начале или в конце книги. Здесь перечислены все произведения, вошедшие в книгу, в том порядке, в каком они напечатаны. Рядом указана стран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матривая книгу возле библиотечной полки, по одним только названиям глав или рассказов можно догадаться, о чем она напис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900000" y="0"/>
            <a:ext cx="7559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66"/>
                </a:solidFill>
                <a:latin typeface="Monotype Corsiva"/>
              </a:rPr>
              <a:t>Памят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Monotype Corsiva"/>
              </a:rPr>
              <a:t>«Заучивание наизусть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457200" y="2276640"/>
            <a:ext cx="829152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читайте стихотворение и подумайте, о чём в нём говорить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читайте каждое четверостишие и определите, о чём говорится в каждом из н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читайте первое четверостишие и пометьте в нём главные для себя слова, которые несут основные мыс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читайте четверостишия,   выделяя важные сл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вторите медленно четверостишие (книгу держите закрытой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рьте себя по книге (удалось ли передать те мысли и чувства героев, о которых говорилось в тексте стихотворени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900000" y="0"/>
            <a:ext cx="7559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9933"/>
                </a:solidFill>
                <a:latin typeface="Monotype Corsiva"/>
              </a:rPr>
              <a:t>Памят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0033"/>
                </a:solidFill>
                <a:latin typeface="Monotype Corsiva"/>
              </a:rPr>
              <a:t>«Работа над басней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одержимое 2"/>
          <p:cNvSpPr/>
          <p:nvPr/>
        </p:nvSpPr>
        <p:spPr>
          <a:xfrm>
            <a:off x="457200" y="2276640"/>
            <a:ext cx="829152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одержимое 2"/>
          <p:cNvSpPr/>
          <p:nvPr/>
        </p:nvSpPr>
        <p:spPr>
          <a:xfrm>
            <a:off x="457200" y="2060640"/>
            <a:ext cx="843588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к  называется басня? Кто её автор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читайте басню. Какие события в ней описываются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то действует в басне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кими показаны герои басни? Прочитайте, как описывает их авто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то осуждается в басне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читайте, как автор относится к событиям, описанным в басне? Как он относится к действующим лицам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то должен понять читатель из этой басни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кое выражение басни стало крылатым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900000" y="0"/>
            <a:ext cx="7559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Monotype Corsiva"/>
              </a:rPr>
              <a:t>Памят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«Работа над сказкой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одержимое 2"/>
          <p:cNvSpPr/>
          <p:nvPr/>
        </p:nvSpPr>
        <p:spPr>
          <a:xfrm>
            <a:off x="457200" y="2276640"/>
            <a:ext cx="829152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одержимое 2"/>
          <p:cNvSpPr/>
          <p:nvPr/>
        </p:nvSpPr>
        <p:spPr>
          <a:xfrm>
            <a:off x="457200" y="2060640"/>
            <a:ext cx="843588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457200" y="1989000"/>
            <a:ext cx="843588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к  называется сказка? Кто её сочинил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читайте сказку. Как вы думаете, какая она: волшебная, бытовая или о животных? Поучительная, героическая или юмористическая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то в ней действует? Какие это герои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кие события описываются в сказке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то побеждает в сказке и почему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йдите в сказке слова и выражения, которые хочется запомнить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к относится автор сказки к своим героям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то из этой сказки запомнилось вам больше всего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15:52:47Z</dcterms:created>
  <dc:creator>Компас</dc:creator>
  <dc:description/>
  <dc:language>en-US</dc:language>
  <cp:lastModifiedBy>1</cp:lastModifiedBy>
  <dcterms:modified xsi:type="dcterms:W3CDTF">2015-07-01T15:30:26Z</dcterms:modified>
  <cp:revision>19</cp:revision>
  <dc:subject/>
  <dc:title>Слайд 1</dc:title>
</cp:coreProperties>
</file>