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7A5-26EE-45F3-8288-E21E404D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A16-C289-4448-9929-CBBCFE0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407-10F7-4005-A7CE-CC8564C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B72-C80E-4AC2-9B2B-7DC0C8F9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ED6-6B48-471A-AB2D-C2319B0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E2D-5DCE-45EB-944E-EF786FB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18D-75BB-475C-BFC5-A215B806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882-BDEF-4EDE-B4EF-13A31CE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9FB-0D28-4962-BC1A-9453AD4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0BC-09DF-4296-BC9C-627D1BC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84D-5387-4363-8B28-D55E29F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33E-EE13-473C-B65E-EF53360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FC3B-E06B-4935-BE02-B9106405F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c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914400" y="401760"/>
            <a:ext cx="15621120" cy="9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Казенное общеобразовательное учреждение Ханты-Мансийского автономного округа - Юг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«Солнечная школа-интернат для обучающихся с ограниченными возможностями здоровь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Примене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г</a:t>
            </a:r>
            <a:r>
              <a:rPr b="0" lang="en-US" sz="4800" spc="-1" strike="noStrike">
                <a:solidFill>
                  <a:srgbClr val="191769"/>
                </a:solidFill>
                <a:latin typeface="HK Grotesk Bold Bold"/>
              </a:rPr>
              <a:t>рафическ</a:t>
            </a: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ого редактора</a:t>
            </a:r>
            <a:r>
              <a:rPr b="0" lang="en-US" sz="4800" spc="-1" strike="noStrike">
                <a:solidFill>
                  <a:srgbClr val="191769"/>
                </a:solidFill>
                <a:latin typeface="HK Grotesk Bold Bold"/>
              </a:rPr>
              <a:t> Canva</a:t>
            </a: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при подготовке и проведении урок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Учитель математи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Айнушева Э.Э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769"/>
                </a:solidFill>
                <a:latin typeface="HK Grotesk Bold Bold"/>
              </a:rPr>
              <a:t>П. Солнечный, 2022г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1523880" y="4686480"/>
            <a:ext cx="8572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9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17520" y="398520"/>
            <a:ext cx="17568720" cy="2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2111a"/>
                </a:solidFill>
                <a:latin typeface="Open Sans Light Bold"/>
              </a:rPr>
              <a:t>Canva.com – это один из самых популярных графических сервисов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838080" y="2781360"/>
            <a:ext cx="1586556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a2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8120" y="1066680"/>
            <a:ext cx="14859000" cy="86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ические возможност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резент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лайн-фоторедактор изображ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граф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дактирование виде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2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c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0" y="169920"/>
            <a:ext cx="18288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2111a"/>
                </a:solidFill>
                <a:latin typeface="Open Sans Light Bold"/>
              </a:rPr>
              <a:t>Преимуществ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914400" y="1658880"/>
            <a:ext cx="7029360" cy="7302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8839080" y="1682640"/>
            <a:ext cx="8386920" cy="70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та использован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ширный бесплатный функциона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имость со всеми устройствам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ная локализация на 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иблиотека шаблонов в любых стилях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винутый инструмент для презент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1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950760" y="1562040"/>
            <a:ext cx="163864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 Light Bold"/>
              </a:rPr>
              <a:t>Примеры </a:t>
            </a:r>
            <a:r>
              <a:rPr b="0" lang="ru-RU" sz="3200" spc="-1" strike="noStrike">
                <a:solidFill>
                  <a:srgbClr val="000000"/>
                </a:solidFill>
                <a:latin typeface="Open Sans Light Bold"/>
              </a:rPr>
              <a:t>визуальных схем в </a:t>
            </a:r>
            <a:r>
              <a:rPr b="0" lang="en-US" sz="3200" spc="-1" strike="noStrike">
                <a:solidFill>
                  <a:srgbClr val="000000"/>
                </a:solidFill>
                <a:latin typeface="Open Sans Light Bold"/>
              </a:rPr>
              <a:t>Canva, которые были сделаны для дистанционного об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1"/>
          <a:stretch/>
        </p:blipFill>
        <p:spPr>
          <a:xfrm>
            <a:off x="485640" y="4737240"/>
            <a:ext cx="5099040" cy="5051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12703320" y="4695840"/>
            <a:ext cx="5279760" cy="5272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5819760" y="5676840"/>
            <a:ext cx="67788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a2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42800" y="403200"/>
            <a:ext cx="172278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7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Open Sans Light Bold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Дизайн без названия (1)" descr=""/>
          <p:cNvPicPr/>
          <p:nvPr/>
        </p:nvPicPr>
        <p:blipFill>
          <a:blip r:embed="rId1"/>
          <a:stretch/>
        </p:blipFill>
        <p:spPr>
          <a:xfrm>
            <a:off x="98280" y="98280"/>
            <a:ext cx="18113400" cy="10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1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978200" y="-7920"/>
            <a:ext cx="14331600" cy="101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c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-02-05-e6ee8cc7a71b77f53a97f11e531de73491f237a4a72e70ea4369ffd9a6516880_5de3d4a27b4a366d" descr=""/>
          <p:cNvPicPr/>
          <p:nvPr/>
        </p:nvPicPr>
        <p:blipFill>
          <a:blip r:embed="rId1"/>
          <a:stretch/>
        </p:blipFill>
        <p:spPr>
          <a:xfrm>
            <a:off x="685800" y="31680"/>
            <a:ext cx="16944840" cy="953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c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4"/>
          <p:cNvSpPr/>
          <p:nvPr/>
        </p:nvSpPr>
        <p:spPr>
          <a:xfrm>
            <a:off x="1447920" y="3114720"/>
            <a:ext cx="1505412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2800" indent="-237960"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442800" indent="-237960"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nata</dc:creator>
  <dc:description/>
  <dc:language>en-US</dc:language>
  <cp:lastModifiedBy>Convertio</cp:lastModifiedBy>
  <dcterms:modified xsi:type="dcterms:W3CDTF">2022-02-21T17:47:14Z</dcterms:modified>
  <cp:revision>14</cp:revision>
  <dc:subject/>
  <dc:title>Белая Синяя Зеленая и Желтая Фотоколлаж Современная Ресурсы для Нового Сотрудника Компания Презентация</dc:title>
</cp:coreProperties>
</file>