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12.png" ContentType="image/png"/>
  <Override PartName="/ppt/media/image13.png" ContentType="image/png"/>
  <Override PartName="/ppt/media/image8.png" ContentType="image/png"/>
  <Override PartName="/ppt/media/image45.gif" ContentType="image/gif"/>
  <Override PartName="/ppt/media/image39.jpeg" ContentType="image/jpeg"/>
  <Override PartName="/ppt/media/image41.jpeg" ContentType="image/jpeg"/>
  <Override PartName="/ppt/media/image9.png" ContentType="image/png"/>
  <Override PartName="/ppt/media/image44.png" ContentType="image/png"/>
  <Override PartName="/ppt/media/image4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8.jpeg" ContentType="image/jpeg"/>
  <Override PartName="/ppt/media/image28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C5D1-71C9-4D1C-8252-8C1793A6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F54-E717-4BCB-9C1D-56F51F24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162-31F5-41B2-B9AA-CD043F65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3EE1-9346-49D0-8512-E724BF26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6711-F153-421A-9375-AA6ACD2B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EE7F-3823-4E33-B41F-AD8AB2CF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8B1B-648A-4AD2-880C-75805B77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2CBD-0560-42AE-91B6-E9755553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64C9-2E97-4D4A-A435-14D5F238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A0AD-AE07-4734-8996-F3AD9B09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28F3-6258-46D1-8BA9-F6C7AF36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3A5-AF61-41ED-BAF1-92ACCDF0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71AD-F608-4701-A610-3B7B21A3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4A90-3643-44A3-9359-E8F91DDC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4005-1068-4A1B-9060-8F2187A3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33AC-00F3-4995-979F-34183FB1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11CC-8510-471B-A576-CF8B89F1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4B7F-07CA-498F-B4DA-81B2793F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A5B-F0C8-4917-9472-BF30701B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40C-9A32-4A74-87AF-10883934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B065-4041-40EF-AD4A-152C8D49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F51E-4274-4591-8392-9086C5A2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AFC9-767C-488F-B779-EFEC288A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E75-E5FB-4AE0-9CF5-5BD93601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57E3-A2FB-43C4-A436-CEB1C05D31B6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85BC-1C13-486F-AB8D-74DFDB171FA3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064720" cy="28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ма семинара:</a:t>
            </a:r>
            <a:br>
              <a:rPr sz="4400"/>
            </a:br>
            <a:br>
              <a:rPr sz="4400"/>
            </a:br>
            <a:r>
              <a:rPr b="1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РИЗ (теория решения изобретательских задач) как средство развития творческих способностей младших школьников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971640" y="4149360"/>
            <a:ext cx="7488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 начальных классов: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анцова Татьяна Ивановна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2484360" y="602136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СОШ №2 г. Бели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I:\DCIM\100PHOTO\SAM_2150.JPG"/>
          <p:cNvPicPr/>
          <p:nvPr/>
        </p:nvPicPr>
        <p:blipFill>
          <a:blip r:embed="rId1"/>
          <a:stretch/>
        </p:blipFill>
        <p:spPr>
          <a:xfrm>
            <a:off x="2411280" y="189000"/>
            <a:ext cx="4248360" cy="3186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I:\DCIM\100PHOTO\SAM_2147.JPG"/>
          <p:cNvPicPr/>
          <p:nvPr/>
        </p:nvPicPr>
        <p:blipFill>
          <a:blip r:embed="rId2"/>
          <a:stretch/>
        </p:blipFill>
        <p:spPr>
          <a:xfrm>
            <a:off x="468360" y="34732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I:\DCIM\100PHOTO\SAM_2148.JPG"/>
          <p:cNvPicPr/>
          <p:nvPr/>
        </p:nvPicPr>
        <p:blipFill>
          <a:blip r:embed="rId3"/>
          <a:stretch/>
        </p:blipFill>
        <p:spPr>
          <a:xfrm>
            <a:off x="4716360" y="3473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лгоритм </a:t>
            </a:r>
            <a:br>
              <a:rPr sz="3200"/>
            </a:b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чинения ассоциативных загадок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6" name="TextBox 2"/>
          <p:cNvSpPr/>
          <p:nvPr/>
        </p:nvSpPr>
        <p:spPr>
          <a:xfrm>
            <a:off x="3635280" y="2708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ё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1476360" y="3429000"/>
            <a:ext cx="28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то похож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4859280" y="3432240"/>
            <a:ext cx="302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тлича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ерелез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ил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ст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6"/>
          <p:cNvSpPr/>
          <p:nvPr/>
        </p:nvSpPr>
        <p:spPr>
          <a:xfrm>
            <a:off x="1403280" y="3952800"/>
            <a:ext cx="648180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7"/>
          <p:cNvSpPr/>
          <p:nvPr/>
        </p:nvSpPr>
        <p:spPr>
          <a:xfrm flipV="1">
            <a:off x="4500720" y="3428640"/>
            <a:ext cx="0" cy="181620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вал 11"/>
          <p:cNvSpPr/>
          <p:nvPr/>
        </p:nvSpPr>
        <p:spPr>
          <a:xfrm>
            <a:off x="1403280" y="5608800"/>
            <a:ext cx="2016360" cy="628560"/>
          </a:xfrm>
          <a:prstGeom prst="ellipse">
            <a:avLst/>
          </a:prstGeom>
          <a:solidFill>
            <a:srgbClr val="c1ec76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вал 12"/>
          <p:cNvSpPr/>
          <p:nvPr/>
        </p:nvSpPr>
        <p:spPr>
          <a:xfrm>
            <a:off x="5364000" y="5608800"/>
            <a:ext cx="2016360" cy="628560"/>
          </a:xfrm>
          <a:prstGeom prst="ellipse">
            <a:avLst/>
          </a:prstGeom>
          <a:solidFill>
            <a:srgbClr val="c1ec76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13"/>
          <p:cNvSpPr/>
          <p:nvPr/>
        </p:nvSpPr>
        <p:spPr>
          <a:xfrm>
            <a:off x="3564000" y="1727280"/>
            <a:ext cx="2016000" cy="909720"/>
          </a:xfrm>
          <a:prstGeom prst="ellipse">
            <a:avLst/>
          </a:prstGeom>
          <a:solidFill>
            <a:srgbClr val="c1ec76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объ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09800" y="333000"/>
            <a:ext cx="71244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нение принципа наглядности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5" name="Picture 2" descr="Изображение"/>
          <p:cNvPicPr/>
          <p:nvPr/>
        </p:nvPicPr>
        <p:blipFill>
          <a:blip r:embed="rId1"/>
          <a:stretch/>
        </p:blipFill>
        <p:spPr>
          <a:xfrm>
            <a:off x="3132000" y="1989000"/>
            <a:ext cx="2880000" cy="28800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"/>
          <p:cNvSpPr/>
          <p:nvPr/>
        </p:nvSpPr>
        <p:spPr>
          <a:xfrm>
            <a:off x="3132000" y="530064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 так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I:\DCIM\100PHOTO\SAM_2151.JPG"/>
          <p:cNvPicPr/>
          <p:nvPr/>
        </p:nvPicPr>
        <p:blipFill>
          <a:blip r:embed="rId1"/>
          <a:stretch/>
        </p:blipFill>
        <p:spPr>
          <a:xfrm>
            <a:off x="250920" y="260280"/>
            <a:ext cx="5113080" cy="3835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I:\DCIM\100PHOTO\SAM_2152.JPG"/>
          <p:cNvPicPr/>
          <p:nvPr/>
        </p:nvPicPr>
        <p:blipFill>
          <a:blip r:embed="rId2"/>
          <a:stretch/>
        </p:blipFill>
        <p:spPr>
          <a:xfrm>
            <a:off x="3635280" y="2552760"/>
            <a:ext cx="5394600" cy="404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I:\DCIM\100PHOTO\SAM_2155.JPG"/>
          <p:cNvPicPr/>
          <p:nvPr/>
        </p:nvPicPr>
        <p:blipFill>
          <a:blip r:embed="rId1"/>
          <a:stretch/>
        </p:blipFill>
        <p:spPr>
          <a:xfrm>
            <a:off x="324000" y="35002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I:\DCIM\100PHOTO\SAM_2153.JPG"/>
          <p:cNvPicPr/>
          <p:nvPr/>
        </p:nvPicPr>
        <p:blipFill>
          <a:blip r:embed="rId2"/>
          <a:stretch/>
        </p:blipFill>
        <p:spPr>
          <a:xfrm>
            <a:off x="2268360" y="19836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I:\DCIM\100PHOTO\SAM_2154.JPG"/>
          <p:cNvPicPr/>
          <p:nvPr/>
        </p:nvPicPr>
        <p:blipFill>
          <a:blip r:embed="rId3"/>
          <a:stretch/>
        </p:blipFill>
        <p:spPr>
          <a:xfrm>
            <a:off x="4716360" y="349416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9800" y="676080"/>
            <a:ext cx="712440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ворческие учебные задачи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3" name="TextBox 2"/>
          <p:cNvSpPr/>
          <p:nvPr/>
        </p:nvSpPr>
        <p:spPr>
          <a:xfrm>
            <a:off x="971640" y="1844640"/>
            <a:ext cx="720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етательские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е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орские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ные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с условием, которое надо достро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468720" y="4885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Исследовательская задача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Алгоритм решения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250920" y="2492280"/>
            <a:ext cx="856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рать для исследования предмет, доступный для рассмотрения со всех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вопросы: зачем предмет нужен, что в нём хорошего и плохого, чем можно заменить предмет и что хорошего и плохого будет в этой заме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 чего сделан предмет? Чем будет лучше или хуже, если его сделать из другого материа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обрать из каких частей состоит пред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изменится есл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http://ozon-childcloth.yapokupayu.ru/system/images/product/001/918/399_zoom.jpg"/>
          <p:cNvPicPr/>
          <p:nvPr/>
        </p:nvPicPr>
        <p:blipFill>
          <a:blip r:embed="rId1"/>
          <a:srcRect l="0" t="0" r="0" b="5679"/>
          <a:stretch/>
        </p:blipFill>
        <p:spPr>
          <a:xfrm>
            <a:off x="6372360" y="44280"/>
            <a:ext cx="2655720" cy="2505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09800" y="404280"/>
            <a:ext cx="71244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ниторинг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395280" y="2852640"/>
            <a:ext cx="532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диагност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6084720" y="141300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илась память, так как опорой служит логическое мыш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6084720" y="280512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чез страх перед отв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6084720" y="3597120"/>
            <a:ext cx="273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изация: чаще дети вступают в творческие виды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395280" y="5373720"/>
            <a:ext cx="540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ЗУН (в конце год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8"/>
          <p:cNvSpPr/>
          <p:nvPr/>
        </p:nvSpPr>
        <p:spPr>
          <a:xfrm flipV="1">
            <a:off x="5508720" y="1920600"/>
            <a:ext cx="503280" cy="123804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9"/>
          <p:cNvSpPr/>
          <p:nvPr/>
        </p:nvSpPr>
        <p:spPr>
          <a:xfrm>
            <a:off x="5508720" y="3159000"/>
            <a:ext cx="50328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10"/>
          <p:cNvSpPr/>
          <p:nvPr/>
        </p:nvSpPr>
        <p:spPr>
          <a:xfrm>
            <a:off x="5500800" y="3159000"/>
            <a:ext cx="439560" cy="120672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771280" y="620640"/>
            <a:ext cx="604836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 ребёнка особое умение думать и чувствовать, нет ничего глупее пытаться подменить это умение нашим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ан-Жак Руссо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Прямоугольник 2" descr=""/>
          <p:cNvPicPr/>
          <p:nvPr/>
        </p:nvPicPr>
        <p:blipFill>
          <a:blip r:embed="rId1"/>
          <a:stretch/>
        </p:blipFill>
        <p:spPr>
          <a:xfrm>
            <a:off x="646200" y="1596960"/>
            <a:ext cx="7851600" cy="3694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Бабочки Анимация, анимашки"/>
          <p:cNvPicPr/>
          <p:nvPr/>
        </p:nvPicPr>
        <p:blipFill>
          <a:blip r:embed="rId2"/>
          <a:stretch/>
        </p:blipFill>
        <p:spPr>
          <a:xfrm>
            <a:off x="3564000" y="404640"/>
            <a:ext cx="1666800" cy="1324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71280" y="549360"/>
            <a:ext cx="604836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 ребёнка особое умение думать и чувствовать, нет ничего глупее пытаться подменить это умение нашим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ан-Жак Руссо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676080"/>
            <a:ext cx="7307280" cy="23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ль:</a:t>
            </a:r>
            <a:br>
              <a:rPr sz="3200"/>
            </a:b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тие творческого системного мышления, направленного на преобразование деятельности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826920" y="3645000"/>
            <a:ext cx="7490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ворческое – </a:t>
            </a: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начит, новое, неожиданное, нестандартное и созидаю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истемное – </a:t>
            </a: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ющее принять этот противоречивый мир со всеми взаимосвязями и взаимозависимостями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676080"/>
            <a:ext cx="806436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снове ТРИЗ – педагогики лежат: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755640" y="1844640"/>
            <a:ext cx="79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ТВ – </a:t>
            </a: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тие творческого воображения (снятие психологической инерц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СМ – </a:t>
            </a: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щая теория сильного мыш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РТЛ – </a:t>
            </a: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ория развития творческой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ловия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971640" y="2205000"/>
            <a:ext cx="720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) учителю необходимо научиться приёмам и методам ТРИ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) регулярно тренировать творческое мыш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0360" y="560520"/>
            <a:ext cx="766764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аги </a:t>
            </a:r>
            <a:br>
              <a:rPr sz="3200"/>
            </a:b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хождения изучаемой темы на уроке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009800" y="2544840"/>
          <a:ext cx="7124400" cy="3214440"/>
        </p:xfrm>
        <a:graphic>
          <a:graphicData uri="http://schemas.openxmlformats.org/drawingml/2006/table">
            <a:tbl>
              <a:tblPr/>
              <a:tblGrid>
                <a:gridCol w="1992240"/>
                <a:gridCol w="5132160"/>
              </a:tblGrid>
              <a:tr h="668160"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ок 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f4ad"/>
                    </a:solidFill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педагога до уро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f4ad"/>
                    </a:solidFill>
                  </a:tcPr>
                </a:tc>
              </a:tr>
              <a:tr h="1001880"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ок 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ee128"/>
                    </a:solidFill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педагога и учени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ee128"/>
                    </a:solidFill>
                  </a:tcPr>
                </a:tc>
              </a:tr>
              <a:tr h="1001520"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ок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f4ad"/>
                    </a:solidFill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еника и педагог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f4ad"/>
                    </a:solidFill>
                  </a:tcPr>
                </a:tc>
              </a:tr>
              <a:tr h="542880"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ок 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ee128"/>
                    </a:solidFill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яя работа учени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ee128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59456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ёмы </a:t>
            </a:r>
            <a:br>
              <a:rPr sz="3200"/>
            </a:b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ической техники – ТРИЗ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468360" y="184464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ход в у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и союзники слова «подумайте», «догадайтес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Какая тема ур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5"/>
          <p:cNvSpPr/>
          <p:nvPr/>
        </p:nvSpPr>
        <p:spPr>
          <a:xfrm flipV="1">
            <a:off x="900000" y="4797000"/>
            <a:ext cx="358920" cy="64764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6"/>
          <p:cNvSpPr/>
          <p:nvPr/>
        </p:nvSpPr>
        <p:spPr>
          <a:xfrm flipH="1" flipV="1">
            <a:off x="1258920" y="4797000"/>
            <a:ext cx="288720" cy="64764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13"/>
          <p:cNvSpPr/>
          <p:nvPr/>
        </p:nvSpPr>
        <p:spPr>
          <a:xfrm flipV="1">
            <a:off x="1547640" y="5013000"/>
            <a:ext cx="216000" cy="4316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14"/>
          <p:cNvSpPr/>
          <p:nvPr/>
        </p:nvSpPr>
        <p:spPr>
          <a:xfrm flipH="1" flipV="1">
            <a:off x="1763280" y="5013000"/>
            <a:ext cx="243000" cy="4316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17"/>
          <p:cNvSpPr/>
          <p:nvPr/>
        </p:nvSpPr>
        <p:spPr>
          <a:xfrm flipV="1">
            <a:off x="2023920" y="4797000"/>
            <a:ext cx="360360" cy="64764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18"/>
          <p:cNvSpPr/>
          <p:nvPr/>
        </p:nvSpPr>
        <p:spPr>
          <a:xfrm flipH="1" flipV="1">
            <a:off x="2383920" y="4797000"/>
            <a:ext cx="287640" cy="64764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19"/>
          <p:cNvSpPr/>
          <p:nvPr/>
        </p:nvSpPr>
        <p:spPr>
          <a:xfrm flipV="1">
            <a:off x="2671920" y="5013000"/>
            <a:ext cx="215640" cy="4316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20"/>
          <p:cNvSpPr/>
          <p:nvPr/>
        </p:nvSpPr>
        <p:spPr>
          <a:xfrm flipH="1" flipV="1">
            <a:off x="2887200" y="5013000"/>
            <a:ext cx="244440" cy="4316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21"/>
          <p:cNvSpPr/>
          <p:nvPr/>
        </p:nvSpPr>
        <p:spPr>
          <a:xfrm flipV="1">
            <a:off x="3132000" y="4797000"/>
            <a:ext cx="360360" cy="64764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2"/>
          <p:cNvSpPr/>
          <p:nvPr/>
        </p:nvSpPr>
        <p:spPr>
          <a:xfrm flipH="1" flipV="1">
            <a:off x="3492000" y="4797000"/>
            <a:ext cx="287640" cy="64764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23"/>
          <p:cNvSpPr/>
          <p:nvPr/>
        </p:nvSpPr>
        <p:spPr>
          <a:xfrm flipV="1">
            <a:off x="3780000" y="5013000"/>
            <a:ext cx="215640" cy="4316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24"/>
          <p:cNvSpPr/>
          <p:nvPr/>
        </p:nvSpPr>
        <p:spPr>
          <a:xfrm flipH="1" flipV="1">
            <a:off x="3995280" y="5013000"/>
            <a:ext cx="244440" cy="4316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25"/>
          <p:cNvSpPr/>
          <p:nvPr/>
        </p:nvSpPr>
        <p:spPr>
          <a:xfrm flipV="1">
            <a:off x="4255920" y="4797000"/>
            <a:ext cx="360360" cy="64764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26"/>
          <p:cNvSpPr/>
          <p:nvPr/>
        </p:nvSpPr>
        <p:spPr>
          <a:xfrm flipH="1" flipV="1">
            <a:off x="4615920" y="4797000"/>
            <a:ext cx="287640" cy="64764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27"/>
          <p:cNvSpPr/>
          <p:nvPr/>
        </p:nvSpPr>
        <p:spPr>
          <a:xfrm flipV="1">
            <a:off x="4903920" y="5013000"/>
            <a:ext cx="215640" cy="4316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28"/>
          <p:cNvSpPr/>
          <p:nvPr/>
        </p:nvSpPr>
        <p:spPr>
          <a:xfrm flipH="1" flipV="1">
            <a:off x="5119200" y="5013000"/>
            <a:ext cx="244440" cy="4316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29"/>
          <p:cNvSpPr/>
          <p:nvPr/>
        </p:nvSpPr>
        <p:spPr>
          <a:xfrm flipV="1">
            <a:off x="5408640" y="4797000"/>
            <a:ext cx="360360" cy="64764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30"/>
          <p:cNvSpPr/>
          <p:nvPr/>
        </p:nvSpPr>
        <p:spPr>
          <a:xfrm flipH="1" flipV="1">
            <a:off x="5769000" y="4797000"/>
            <a:ext cx="287280" cy="64764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31"/>
          <p:cNvSpPr/>
          <p:nvPr/>
        </p:nvSpPr>
        <p:spPr>
          <a:xfrm flipV="1">
            <a:off x="6056280" y="5013000"/>
            <a:ext cx="216000" cy="4316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32"/>
          <p:cNvSpPr/>
          <p:nvPr/>
        </p:nvSpPr>
        <p:spPr>
          <a:xfrm flipH="1" flipV="1">
            <a:off x="6271920" y="5013000"/>
            <a:ext cx="244440" cy="4316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33"/>
          <p:cNvSpPr/>
          <p:nvPr/>
        </p:nvSpPr>
        <p:spPr>
          <a:xfrm flipV="1">
            <a:off x="6516720" y="4797000"/>
            <a:ext cx="358920" cy="64764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34"/>
          <p:cNvSpPr/>
          <p:nvPr/>
        </p:nvSpPr>
        <p:spPr>
          <a:xfrm flipH="1" flipV="1">
            <a:off x="6875640" y="4797000"/>
            <a:ext cx="288720" cy="64764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35"/>
          <p:cNvSpPr/>
          <p:nvPr/>
        </p:nvSpPr>
        <p:spPr>
          <a:xfrm flipV="1">
            <a:off x="7164360" y="5013000"/>
            <a:ext cx="216000" cy="4316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36"/>
          <p:cNvSpPr/>
          <p:nvPr/>
        </p:nvSpPr>
        <p:spPr>
          <a:xfrm flipH="1" flipV="1">
            <a:off x="7380360" y="5013000"/>
            <a:ext cx="242640" cy="4316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37"/>
          <p:cNvSpPr/>
          <p:nvPr/>
        </p:nvSpPr>
        <p:spPr>
          <a:xfrm flipV="1">
            <a:off x="7640640" y="4797000"/>
            <a:ext cx="360360" cy="64764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38"/>
          <p:cNvSpPr/>
          <p:nvPr/>
        </p:nvSpPr>
        <p:spPr>
          <a:xfrm flipH="1" flipV="1">
            <a:off x="8001000" y="4797000"/>
            <a:ext cx="287280" cy="64764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1"/>
          <p:cNvSpPr/>
          <p:nvPr/>
        </p:nvSpPr>
        <p:spPr>
          <a:xfrm>
            <a:off x="971640" y="54450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   з     е     а   ш    д    е     а    н    ч    и     .     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44984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стандартные, занимательные задания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971640" y="2421000"/>
            <a:ext cx="7561080" cy="3960720"/>
          </a:xfrm>
          <a:prstGeom prst="rect">
            <a:avLst/>
          </a:prstGeom>
          <a:solidFill>
            <a:srgbClr val="e6f7c8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971640" y="242100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6 прямоугольников. Подумайте, на что они похожи. Дорисуй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4"/>
          <p:cNvSpPr/>
          <p:nvPr/>
        </p:nvSpPr>
        <p:spPr>
          <a:xfrm>
            <a:off x="1187280" y="3500280"/>
            <a:ext cx="2160720" cy="5050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5"/>
          <p:cNvSpPr/>
          <p:nvPr/>
        </p:nvSpPr>
        <p:spPr>
          <a:xfrm>
            <a:off x="1187280" y="4505400"/>
            <a:ext cx="2160720" cy="5032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6"/>
          <p:cNvSpPr/>
          <p:nvPr/>
        </p:nvSpPr>
        <p:spPr>
          <a:xfrm>
            <a:off x="1187280" y="5516640"/>
            <a:ext cx="2160720" cy="504720"/>
          </a:xfrm>
          <a:prstGeom prst="rect">
            <a:avLst/>
          </a:prstGeom>
          <a:solidFill>
            <a:srgbClr val="9ee128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8"/>
          <p:cNvSpPr/>
          <p:nvPr/>
        </p:nvSpPr>
        <p:spPr>
          <a:xfrm>
            <a:off x="4140360" y="5499000"/>
            <a:ext cx="2160360" cy="505080"/>
          </a:xfrm>
          <a:prstGeom prst="rect">
            <a:avLst/>
          </a:prstGeom>
          <a:solidFill>
            <a:srgbClr val="9ee128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9"/>
          <p:cNvSpPr/>
          <p:nvPr/>
        </p:nvSpPr>
        <p:spPr>
          <a:xfrm>
            <a:off x="4140360" y="4475160"/>
            <a:ext cx="2160360" cy="504720"/>
          </a:xfrm>
          <a:prstGeom prst="rect">
            <a:avLst/>
          </a:prstGeom>
          <a:solidFill>
            <a:srgbClr val="9ee128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0"/>
          <p:cNvSpPr/>
          <p:nvPr/>
        </p:nvSpPr>
        <p:spPr>
          <a:xfrm>
            <a:off x="4140360" y="3500280"/>
            <a:ext cx="2160360" cy="505080"/>
          </a:xfrm>
          <a:prstGeom prst="rect">
            <a:avLst/>
          </a:prstGeom>
          <a:solidFill>
            <a:srgbClr val="9ee128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1"/>
          <p:cNvSpPr/>
          <p:nvPr/>
        </p:nvSpPr>
        <p:spPr>
          <a:xfrm>
            <a:off x="4140360" y="5516640"/>
            <a:ext cx="2160360" cy="503280"/>
          </a:xfrm>
          <a:prstGeom prst="rect">
            <a:avLst/>
          </a:prstGeom>
          <a:solidFill>
            <a:srgbClr val="9ee128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2"/>
          <p:cNvSpPr/>
          <p:nvPr/>
        </p:nvSpPr>
        <p:spPr>
          <a:xfrm>
            <a:off x="4140360" y="4492800"/>
            <a:ext cx="2160360" cy="504720"/>
          </a:xfrm>
          <a:prstGeom prst="rect">
            <a:avLst/>
          </a:prstGeom>
          <a:solidFill>
            <a:srgbClr val="9ee128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3"/>
          <p:cNvSpPr/>
          <p:nvPr/>
        </p:nvSpPr>
        <p:spPr>
          <a:xfrm>
            <a:off x="4140360" y="3517920"/>
            <a:ext cx="2160360" cy="504720"/>
          </a:xfrm>
          <a:prstGeom prst="rect">
            <a:avLst/>
          </a:prstGeom>
          <a:solidFill>
            <a:srgbClr val="9ee128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4"/>
          <p:cNvSpPr/>
          <p:nvPr/>
        </p:nvSpPr>
        <p:spPr>
          <a:xfrm>
            <a:off x="1187280" y="5499000"/>
            <a:ext cx="2160720" cy="5050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5"/>
          <p:cNvSpPr/>
          <p:nvPr/>
        </p:nvSpPr>
        <p:spPr>
          <a:xfrm>
            <a:off x="4140360" y="5499000"/>
            <a:ext cx="2160360" cy="5032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6"/>
          <p:cNvSpPr/>
          <p:nvPr/>
        </p:nvSpPr>
        <p:spPr>
          <a:xfrm>
            <a:off x="4140360" y="4475160"/>
            <a:ext cx="2160360" cy="5032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7"/>
          <p:cNvSpPr/>
          <p:nvPr/>
        </p:nvSpPr>
        <p:spPr>
          <a:xfrm>
            <a:off x="4140360" y="3500280"/>
            <a:ext cx="2160360" cy="5032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8da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I:\DCIM\100PHOTO\SAM_2139.JPG"/>
          <p:cNvPicPr/>
          <p:nvPr/>
        </p:nvPicPr>
        <p:blipFill>
          <a:blip r:embed="rId1"/>
          <a:stretch/>
        </p:blipFill>
        <p:spPr>
          <a:xfrm>
            <a:off x="324000" y="27144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I:\DCIM\100PHOTO\SAM_2143.JPG"/>
          <p:cNvPicPr/>
          <p:nvPr/>
        </p:nvPicPr>
        <p:blipFill>
          <a:blip r:embed="rId2"/>
          <a:stretch/>
        </p:blipFill>
        <p:spPr>
          <a:xfrm>
            <a:off x="4789440" y="35766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I:\DCIM\100PHOTO\SAM_2145.JPG"/>
          <p:cNvPicPr/>
          <p:nvPr/>
        </p:nvPicPr>
        <p:blipFill>
          <a:blip r:embed="rId3"/>
          <a:stretch/>
        </p:blipFill>
        <p:spPr>
          <a:xfrm>
            <a:off x="324000" y="35766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I:\DCIM\100PHOTO\SAM_2138.JPG"/>
          <p:cNvPicPr/>
          <p:nvPr/>
        </p:nvPicPr>
        <p:blipFill>
          <a:blip r:embed="rId4"/>
          <a:stretch/>
        </p:blipFill>
        <p:spPr>
          <a:xfrm>
            <a:off x="4788000" y="260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07:50:37Z</dcterms:created>
  <dc:creator>Кабинет информатики</dc:creator>
  <dc:description/>
  <dc:language>en-US</dc:language>
  <cp:lastModifiedBy>Учитель</cp:lastModifiedBy>
  <dcterms:modified xsi:type="dcterms:W3CDTF">2022-02-08T10:06:10Z</dcterms:modified>
  <cp:revision>18</cp:revision>
  <dc:subject/>
  <dc:title>Презентация PowerPoint</dc:title>
</cp:coreProperties>
</file>