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277A-FF35-44DC-A996-54A718D33F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3F0C-BD7C-4638-BAF5-F786DF907F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C709-4B2C-4C2E-9E5C-14DB8B3D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2DB6-6A02-4FE6-8990-A4E23382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692B-1935-474A-B929-DE3F3751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4A58-90CD-4A0F-8E0F-8EF1AFACF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AD49-BD54-401F-B7C3-194918CA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7D58-A690-4173-961A-347FC2CB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ADCD-6143-43C5-BCF9-647CA8F4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8603-5AFB-4BD9-83A9-DBDF9B0D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A2B9-5D00-4420-B148-B45F11FF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9576-4048-474D-9C5D-E603AEE7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B5C4-8B87-4E4E-8606-2EF0DA0F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B69E-D562-4CEA-AFFE-DB62D762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097C-4FBE-4901-AF11-533F8F9449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673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1835280" y="206064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1f497d"/>
                </a:solidFill>
                <a:latin typeface="Arial"/>
              </a:rPr>
              <a:t>Сложение дроб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6375240" y="11962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1.03.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0" name="Рисунок 3" descr="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4" descr=""/>
          <p:cNvPicPr/>
          <p:nvPr/>
        </p:nvPicPr>
        <p:blipFill>
          <a:blip r:embed="rId2"/>
          <a:stretch/>
        </p:blipFill>
        <p:spPr>
          <a:xfrm>
            <a:off x="1260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1547640" y="83664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Александр Порфирьевич Бород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755640" y="530064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ё первое музыкальное произведение Бородин написал в 9 лет. Играл на фортепиано, флейте и виолонч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C0131146-Aleksander_Borodin,_Russian_chemist-SPL-edited3"/>
          <p:cNvPicPr/>
          <p:nvPr/>
        </p:nvPicPr>
        <p:blipFill>
          <a:blip r:embed="rId3"/>
          <a:stretch/>
        </p:blipFill>
        <p:spPr>
          <a:xfrm>
            <a:off x="1908000" y="1341360"/>
            <a:ext cx="5210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7" name="Рисунок 3" descr="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4" descr=""/>
          <p:cNvPicPr/>
          <p:nvPr/>
        </p:nvPicPr>
        <p:blipFill>
          <a:blip r:embed="rId2"/>
          <a:stretch/>
        </p:blipFill>
        <p:spPr>
          <a:xfrm>
            <a:off x="1260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1547640" y="83664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Джоаккино Росси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755640" y="501336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и первые работы в качестве композитора Россини начал выпускать уже к 12 год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1107791"/>
          <p:cNvPicPr/>
          <p:nvPr/>
        </p:nvPicPr>
        <p:blipFill>
          <a:blip r:embed="rId3"/>
          <a:stretch/>
        </p:blipFill>
        <p:spPr>
          <a:xfrm>
            <a:off x="2050920" y="1341360"/>
            <a:ext cx="511200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4" name="Рисунок 3" descr="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"/>
          <p:cNvPicPr/>
          <p:nvPr/>
        </p:nvPicPr>
        <p:blipFill>
          <a:blip r:embed="rId2"/>
          <a:stretch/>
        </p:blipFill>
        <p:spPr>
          <a:xfrm>
            <a:off x="1260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"/>
          <p:cNvSpPr/>
          <p:nvPr/>
        </p:nvSpPr>
        <p:spPr>
          <a:xfrm>
            <a:off x="979200" y="1197000"/>
            <a:ext cx="127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9" name="Рисунок 3" descr="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"/>
          <p:cNvPicPr/>
          <p:nvPr/>
        </p:nvPicPr>
        <p:blipFill>
          <a:blip r:embed="rId2"/>
          <a:stretch/>
        </p:blipFill>
        <p:spPr>
          <a:xfrm>
            <a:off x="1260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"/>
          <p:cNvSpPr/>
          <p:nvPr/>
        </p:nvSpPr>
        <p:spPr>
          <a:xfrm>
            <a:off x="1763640" y="112536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1498320" y="2276640"/>
            <a:ext cx="42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5/18 б) 19/18 в) 43/72 г) 9/15 д) 7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468360" y="981000"/>
            <a:ext cx="831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Как сравнить две дроби с одинаковыми знаменателя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468360" y="2781360"/>
            <a:ext cx="820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Как сложить две дроби с одинаковыми знаменателя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684360" y="1844640"/>
            <a:ext cx="770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Как сравнить две дроби с разными знаменателя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755640" y="3716280"/>
            <a:ext cx="792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Как сложить две дроби с разными знаменателя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1" name="Рисунок 3" descr="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"/>
          <p:cNvPicPr/>
          <p:nvPr/>
        </p:nvPicPr>
        <p:blipFill>
          <a:blip r:embed="rId2"/>
          <a:stretch/>
        </p:blipFill>
        <p:spPr>
          <a:xfrm>
            <a:off x="1260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1042920" y="2060640"/>
            <a:ext cx="7704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666699"/>
                </a:solidFill>
                <a:latin typeface="Arial"/>
              </a:rPr>
              <a:t>Еще в древности утверждали, что математика и музыка сест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2117880" y="3283560"/>
            <a:ext cx="592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Чтобы найти длину такта, нужно сложить дроб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Безымянный"/>
          <p:cNvPicPr/>
          <p:nvPr/>
        </p:nvPicPr>
        <p:blipFill>
          <a:blip r:embed="rId2"/>
          <a:stretch/>
        </p:blipFill>
        <p:spPr>
          <a:xfrm>
            <a:off x="971640" y="620640"/>
            <a:ext cx="7427880" cy="2667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1763640" y="4941720"/>
            <a:ext cx="72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33"/>
                </a:solidFill>
                <a:latin typeface="Arial"/>
              </a:rPr>
              <a:t>С музыкою веселей изучение дроб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33"/>
                </a:solidFill>
                <a:latin typeface="Arial"/>
              </a:rPr>
              <a:t>А без дроби так и сяк будет в нотах кавард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Бей"/>
          <p:cNvPicPr/>
          <p:nvPr/>
        </p:nvPicPr>
        <p:blipFill>
          <a:blip r:embed="rId3"/>
          <a:stretch/>
        </p:blipFill>
        <p:spPr>
          <a:xfrm>
            <a:off x="3059280" y="3645000"/>
            <a:ext cx="388908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Объект 3" descr=""/>
          <p:cNvPicPr/>
          <p:nvPr/>
        </p:nvPicPr>
        <p:blipFill>
          <a:blip r:embed="rId1"/>
          <a:stretch/>
        </p:blipFill>
        <p:spPr>
          <a:xfrm>
            <a:off x="0" y="-243000"/>
            <a:ext cx="9155160" cy="710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971640" y="692280"/>
          <a:ext cx="7416720" cy="5113080"/>
        </p:xfrm>
        <a:graphic>
          <a:graphicData uri="http://schemas.openxmlformats.org/drawingml/2006/table">
            <a:tbl>
              <a:tblPr/>
              <a:tblGrid>
                <a:gridCol w="1431720"/>
                <a:gridCol w="2189160"/>
                <a:gridCol w="1203480"/>
                <a:gridCol w="1109520"/>
                <a:gridCol w="1482840"/>
              </a:tblGrid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5+1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б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/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5+1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аба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/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/7+1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лтор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4+5/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ф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/15+1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/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" name="Picture 85" descr="depositphotos_31442387-stock-photo-musical-instruments-oboe"/>
          <p:cNvPicPr/>
          <p:nvPr/>
        </p:nvPicPr>
        <p:blipFill>
          <a:blip r:embed="rId2"/>
          <a:stretch/>
        </p:blipFill>
        <p:spPr>
          <a:xfrm>
            <a:off x="6948360" y="2781360"/>
            <a:ext cx="1440000" cy="960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9" descr="339e_fdc7"/>
          <p:cNvPicPr/>
          <p:nvPr/>
        </p:nvPicPr>
        <p:blipFill>
          <a:blip r:embed="rId3"/>
          <a:stretch/>
        </p:blipFill>
        <p:spPr>
          <a:xfrm>
            <a:off x="6948360" y="4797360"/>
            <a:ext cx="1409760" cy="100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1" descr="1438755441_8-8"/>
          <p:cNvPicPr/>
          <p:nvPr/>
        </p:nvPicPr>
        <p:blipFill>
          <a:blip r:embed="rId4"/>
          <a:stretch/>
        </p:blipFill>
        <p:spPr>
          <a:xfrm>
            <a:off x="7380360" y="692280"/>
            <a:ext cx="577800" cy="1044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3" descr="domra-4-hstrunnaya"/>
          <p:cNvPicPr/>
          <p:nvPr/>
        </p:nvPicPr>
        <p:blipFill>
          <a:blip r:embed="rId5"/>
          <a:stretch/>
        </p:blipFill>
        <p:spPr>
          <a:xfrm>
            <a:off x="7020000" y="1754280"/>
            <a:ext cx="1295280" cy="971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5" descr="LIpsDWCsPEZwDOqPzU3VXiwZJ_mkPunXnGeOyNguSw3V9AfJmtofK9G1G2cq3-5ZO_I"/>
          <p:cNvPicPr/>
          <p:nvPr/>
        </p:nvPicPr>
        <p:blipFill>
          <a:blip r:embed="rId6"/>
          <a:stretch/>
        </p:blipFill>
        <p:spPr>
          <a:xfrm>
            <a:off x="7164360" y="378936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78" name="Line 96"/>
          <p:cNvSpPr/>
          <p:nvPr/>
        </p:nvSpPr>
        <p:spPr>
          <a:xfrm>
            <a:off x="4356000" y="1125360"/>
            <a:ext cx="1584360" cy="194328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98"/>
          <p:cNvSpPr/>
          <p:nvPr/>
        </p:nvSpPr>
        <p:spPr>
          <a:xfrm>
            <a:off x="4211640" y="2133720"/>
            <a:ext cx="1873080" cy="215892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9"/>
          <p:cNvSpPr/>
          <p:nvPr/>
        </p:nvSpPr>
        <p:spPr>
          <a:xfrm>
            <a:off x="4067280" y="3213000"/>
            <a:ext cx="1944720" cy="194472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0"/>
          <p:cNvSpPr/>
          <p:nvPr/>
        </p:nvSpPr>
        <p:spPr>
          <a:xfrm flipV="1">
            <a:off x="4067280" y="2204640"/>
            <a:ext cx="1873080" cy="287964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1"/>
          <p:cNvSpPr/>
          <p:nvPr/>
        </p:nvSpPr>
        <p:spPr>
          <a:xfrm flipV="1">
            <a:off x="3924360" y="1196640"/>
            <a:ext cx="2016000" cy="287964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5" name="Рисунок 3" descr="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4" descr=""/>
          <p:cNvPicPr/>
          <p:nvPr/>
        </p:nvPicPr>
        <p:blipFill>
          <a:blip r:embed="rId2"/>
          <a:stretch/>
        </p:blipFill>
        <p:spPr>
          <a:xfrm>
            <a:off x="1260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1692360" y="306864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физминут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Orkestr_Polya_Moria_Muzyka_iz_k_filma_Cygan4ik_(mp3co.ooo).mp3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22401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Рисунок 3" descr="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4" descr=""/>
          <p:cNvPicPr/>
          <p:nvPr/>
        </p:nvPicPr>
        <p:blipFill>
          <a:blip r:embed="rId2"/>
          <a:stretch/>
        </p:blipFill>
        <p:spPr>
          <a:xfrm>
            <a:off x="12600" y="0"/>
            <a:ext cx="91314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611280" y="907920"/>
            <a:ext cx="71755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6" name="Рисунок 3" descr="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"/>
          <p:cNvPicPr/>
          <p:nvPr/>
        </p:nvPicPr>
        <p:blipFill>
          <a:blip r:embed="rId2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1547640" y="83664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Сергей Сергеевич Прокоф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Сергей Сергеевич Прокофьев."/>
          <p:cNvPicPr/>
          <p:nvPr/>
        </p:nvPicPr>
        <p:blipFill>
          <a:blip r:embed="rId3"/>
          <a:stretch/>
        </p:blipFill>
        <p:spPr>
          <a:xfrm>
            <a:off x="2627280" y="1413000"/>
            <a:ext cx="3198960" cy="3456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9"/>
          <p:cNvSpPr/>
          <p:nvPr/>
        </p:nvSpPr>
        <p:spPr>
          <a:xfrm>
            <a:off x="900000" y="5157720"/>
            <a:ext cx="66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считают русским музыкальным вундеркиндом: композировал он с 5 лет, в 9 написал две оперы, а в 13 лет стал студентом Санкт-Петербургской консерватории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Рисунок 3" descr="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"/>
          <p:cNvPicPr/>
          <p:nvPr/>
        </p:nvPicPr>
        <p:blipFill>
          <a:blip r:embed="rId2"/>
          <a:stretch/>
        </p:blipFill>
        <p:spPr>
          <a:xfrm>
            <a:off x="0" y="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1547640" y="83664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Arial"/>
              </a:rPr>
              <a:t>Людвиг ван Бетхове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755640" y="515772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ец Бетховена, мечтавший сделать из сына великого исполнителя, запрещал ему сочинять музыку – ребёнок не должен был отвлекаться. К счастью для искусства, мальчик оказался непослуш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i?id=26172ce5325f4bf2ac6830655bc61813-l&amp;n=13"/>
          <p:cNvPicPr/>
          <p:nvPr/>
        </p:nvPicPr>
        <p:blipFill>
          <a:blip r:embed="rId3"/>
          <a:stretch/>
        </p:blipFill>
        <p:spPr>
          <a:xfrm>
            <a:off x="1692360" y="1341360"/>
            <a:ext cx="514332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1T06:59:24Z</dcterms:created>
  <dc:creator>МКОУ Белогорьевская СОШ</dc:creator>
  <dc:description/>
  <dc:language>en-US</dc:language>
  <cp:lastModifiedBy>3</cp:lastModifiedBy>
  <dcterms:modified xsi:type="dcterms:W3CDTF">2018-04-09T11:16:07Z</dcterms:modified>
  <cp:revision>5</cp:revision>
  <dc:subject/>
  <dc:title>Слайд 1</dc:title>
</cp:coreProperties>
</file>