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6.gif" ContentType="image/gi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.png" ContentType="image/png"/>
  <Override PartName="/ppt/media/image23.gif" ContentType="image/gif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A65C-F762-4331-BE96-81CEC4D99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D762-9C01-415A-AC1E-0409ED59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27A0-1C50-4403-8B60-487AA8770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9C6C-E027-4D66-8095-BFC272ECA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6E3D-E738-4FA0-A47F-025D4819B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6AFCC-D22A-46EC-A477-BAC84C28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660B-4CB8-43E5-AAD8-52EFBF24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18AE-482D-4C0F-BFA9-272BD011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21782-62B5-4552-A5F2-F0CD00CF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625A3-8ADA-45C3-B2F5-50D2AFC2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18154-FF7A-4ADD-B4C2-F567CEE8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C594-F449-44D6-82A8-88AA09B8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6FB1-18C2-4EE3-B64A-C010D22F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C9A2-1538-4551-B390-A1A3A2C8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C2867-DFEF-4DCB-B0D1-00498F26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5CA1-8635-4E73-B21B-6E7375AB0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5AAAD-E170-4BE1-BB64-35D266F19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362A5-707F-47D9-8085-AD52214EE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079F9-DB53-4517-A7F3-579F00F3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82F95-3738-44E6-8A61-F924567C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A2129-4ECC-4F68-BE85-C81AD92F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59D30-64A3-4CE8-8FD5-9D7EB70A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1FF4-E02F-4DA4-AED4-24BB5991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FA835-B0F8-4C9E-B5C4-7240AA48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91352-8A01-4DEB-8C0C-D613C6E7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887DC-C384-47CF-A43C-BB1AAC21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2ADE9-F2CF-4FE5-9323-BF8AF70D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82D2C-3E25-423E-83D5-99C7A8B5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671D9-80C2-4E04-96D3-B4B066047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148AA-E232-4915-AAFE-57A9F42A2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4C3B-93DE-4331-BEAD-065EFE62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15E4-60D4-4EE4-97F6-D06EADC9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CEE2-5139-4EF2-B1E1-596F207A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5BC0-55E3-4A11-BA24-BBB0A608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217F-1745-4490-9C25-8C99866D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9EC8-CD1B-4FD6-BE05-C659C2B3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4272-B42A-4F75-A9A0-B273939896CF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4A7C-2447-46A5-B7D6-39A23A37A992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7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8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1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F8B7-C8E0-4A94-A605-9AEE1C0BBBFF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smiles.33b.ru/smile.16489.html" TargetMode="External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miles.33b.ru/smile.16500.html" TargetMode="Externa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Заголовок 1" descr=""/>
          <p:cNvPicPr/>
          <p:nvPr/>
        </p:nvPicPr>
        <p:blipFill>
          <a:blip r:embed="rId1"/>
          <a:stretch/>
        </p:blipFill>
        <p:spPr>
          <a:xfrm>
            <a:off x="969840" y="353880"/>
            <a:ext cx="7545600" cy="36514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2916000" y="3428640"/>
            <a:ext cx="5460840" cy="2592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8684e"/>
                </a:solidFill>
                <a:latin typeface="Constantia"/>
              </a:rPr>
              <a:t>урок для студентов 1 курс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8684e"/>
                </a:solidFill>
                <a:latin typeface="Constantia"/>
              </a:rPr>
              <a:t>Автор: Скрыльникова Валентина Евгеньевн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8684e"/>
                </a:solidFill>
                <a:latin typeface="Constantia"/>
              </a:rPr>
              <a:t>Преподаватель математик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8684e"/>
                </a:solidFill>
                <a:latin typeface="Constantia"/>
              </a:rPr>
              <a:t>ГБПОУ «НЭТ» г. Невинномысс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Заголовок 2" descr=""/>
          <p:cNvPicPr/>
          <p:nvPr/>
        </p:nvPicPr>
        <p:blipFill>
          <a:blip r:embed="rId1"/>
          <a:stretch/>
        </p:blipFill>
        <p:spPr>
          <a:xfrm>
            <a:off x="457200" y="115920"/>
            <a:ext cx="8308800" cy="21765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844640"/>
            <a:ext cx="8305920" cy="4608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Ввести замену переменной: пусть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Составить квадратное уравнение с новой переменной: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ву + с = 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Решить новое квадратное уравнени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Вернуться к замене переменно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Решить получившиеся квадратные уравнен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Сделать вывод о числе решений биквадратного уравнен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Записать отве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Rectangle 2" descr=""/>
          <p:cNvPicPr/>
          <p:nvPr/>
        </p:nvPicPr>
        <p:blipFill>
          <a:blip r:embed="rId1"/>
          <a:stretch/>
        </p:blipFill>
        <p:spPr>
          <a:xfrm>
            <a:off x="396720" y="189000"/>
            <a:ext cx="8302680" cy="1298520"/>
          </a:xfrm>
          <a:prstGeom prst="rect">
            <a:avLst/>
          </a:prstGeom>
          <a:ln w="0">
            <a:noFill/>
          </a:ln>
        </p:spPr>
      </p:pic>
      <p:pic>
        <p:nvPicPr>
          <p:cNvPr id="185" name="Подзаголовок 6" descr=""/>
          <p:cNvPicPr/>
          <p:nvPr/>
        </p:nvPicPr>
        <p:blipFill>
          <a:blip r:embed="rId2"/>
          <a:stretch/>
        </p:blipFill>
        <p:spPr>
          <a:xfrm>
            <a:off x="457200" y="1341360"/>
            <a:ext cx="83088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0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42472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c00000"/>
                </a:solidFill>
                <a:latin typeface="Calibri"/>
              </a:rPr>
              <a:t>Уравнения степень которых выше двух, иногда удается решить, введя новую переменную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87" name="Объект 1" descr=""/>
          <p:cNvPicPr/>
          <p:nvPr/>
        </p:nvPicPr>
        <p:blipFill>
          <a:blip r:embed="rId1"/>
          <a:stretch/>
        </p:blipFill>
        <p:spPr>
          <a:xfrm>
            <a:off x="176040" y="2133720"/>
            <a:ext cx="873612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0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Заголовок 2" descr=""/>
          <p:cNvPicPr/>
          <p:nvPr/>
        </p:nvPicPr>
        <p:blipFill>
          <a:blip r:embed="rId1"/>
          <a:stretch/>
        </p:blipFill>
        <p:spPr>
          <a:xfrm>
            <a:off x="457200" y="30240"/>
            <a:ext cx="8308800" cy="15858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323640" y="1699920"/>
            <a:ext cx="8305560" cy="3717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Зажмурить глаза. Открыть глаза (5 раз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Круговые движения глазами. Головой не вращать (10 раз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Не поворачивая головы, отвести глаза как можно дальше влево. Не моргать. Посмотреть прямо. Несколько раз моргнуть. Закрыть глаза и отдохнуть. То же самое вправо (2-3 раза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Смотреть на какой-либо предмет, находящийся перед собой, и поворачивать голову вправо и влево, не отрывая взгляда от этого предмета (2-3 раза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Смотреть в окно вдаль в течение 1 минуты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Поморгать 10-15 с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дохнуть, закрыв глаз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0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Заголовок 3" descr=""/>
          <p:cNvPicPr/>
          <p:nvPr/>
        </p:nvPicPr>
        <p:blipFill>
          <a:blip r:embed="rId1"/>
          <a:stretch/>
        </p:blipFill>
        <p:spPr>
          <a:xfrm>
            <a:off x="457200" y="334800"/>
            <a:ext cx="8308800" cy="115272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305920" cy="5184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3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6=0                                        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8 = 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у= ,                                             пусть у=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                                                    тогда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х–5)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4(3х–5)=12                            (6х+1)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(6х+1) –24=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у=                                                пусть у=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                                                    тогда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25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+ 144 = 0                                16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8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+ 1 = 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у=                                                пусть у=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                                                     тогд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0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1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18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21" dur="2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24" dur="2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27" dur="2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0" dur="20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3" dur="20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6" dur="2000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9" dur="2000"/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42" dur="2000"/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45" dur="2000"/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48" dur="2000"/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верка знаний: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3х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6=0                         х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х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8 = 0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у= х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                       пусть у=х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 у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3у+36=0                тогда у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у-28=0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х–5)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 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4(3х–5)=12           (6х+1)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(6х+1) –24=0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у=3х-5,                       пусть у= 6х+1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 у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4у-12=0                  тогда у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у-24 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25х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+ 144 = 0                16х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8х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+ 1 = 0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у= х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                        пусть у= х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 у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5у+144=0               тогда 16у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8у+1=0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0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5" name="Объект 8" descr=""/>
          <p:cNvPicPr/>
          <p:nvPr/>
        </p:nvPicPr>
        <p:blipFill>
          <a:blip r:embed="rId1"/>
          <a:stretch/>
        </p:blipFill>
        <p:spPr>
          <a:xfrm>
            <a:off x="542880" y="262080"/>
            <a:ext cx="8229600" cy="5797440"/>
          </a:xfrm>
          <a:prstGeom prst="rect">
            <a:avLst/>
          </a:prstGeom>
          <a:ln w="0">
            <a:noFill/>
          </a:ln>
        </p:spPr>
      </p:pic>
      <p:sp>
        <p:nvSpPr>
          <p:cNvPr id="196" name="Прямоугольник 22"/>
          <p:cNvSpPr/>
          <p:nvPr/>
        </p:nvSpPr>
        <p:spPr>
          <a:xfrm>
            <a:off x="645480" y="6215040"/>
            <a:ext cx="25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0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Заголовок 1" descr=""/>
          <p:cNvPicPr/>
          <p:nvPr/>
        </p:nvPicPr>
        <p:blipFill>
          <a:blip r:embed="rId1"/>
          <a:stretch/>
        </p:blipFill>
        <p:spPr>
          <a:xfrm>
            <a:off x="396720" y="0"/>
            <a:ext cx="8302680" cy="1530360"/>
          </a:xfrm>
          <a:prstGeom prst="rect">
            <a:avLst/>
          </a:prstGeom>
          <a:ln w="0">
            <a:noFill/>
          </a:ln>
        </p:spPr>
      </p:pic>
      <p:pic>
        <p:nvPicPr>
          <p:cNvPr id="198" name="Прямоугольник 2" descr=""/>
          <p:cNvPicPr/>
          <p:nvPr/>
        </p:nvPicPr>
        <p:blipFill>
          <a:blip r:embed="rId2"/>
          <a:stretch/>
        </p:blipFill>
        <p:spPr>
          <a:xfrm>
            <a:off x="249120" y="1407960"/>
            <a:ext cx="8352000" cy="48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0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Заголовок 1" descr=""/>
          <p:cNvPicPr/>
          <p:nvPr/>
        </p:nvPicPr>
        <p:blipFill>
          <a:blip r:embed="rId1"/>
          <a:stretch/>
        </p:blipFill>
        <p:spPr>
          <a:xfrm>
            <a:off x="444600" y="262080"/>
            <a:ext cx="8302680" cy="1530360"/>
          </a:xfrm>
          <a:prstGeom prst="rect">
            <a:avLst/>
          </a:prstGeom>
          <a:ln w="0">
            <a:noFill/>
          </a:ln>
        </p:spPr>
      </p:pic>
      <p:pic>
        <p:nvPicPr>
          <p:cNvPr id="200" name="Прямоугольник 3" descr=""/>
          <p:cNvPicPr/>
          <p:nvPr/>
        </p:nvPicPr>
        <p:blipFill>
          <a:blip r:embed="rId2"/>
          <a:stretch/>
        </p:blipFill>
        <p:spPr>
          <a:xfrm>
            <a:off x="176040" y="1689120"/>
            <a:ext cx="857124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0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Заголовок 2" descr=""/>
          <p:cNvPicPr/>
          <p:nvPr/>
        </p:nvPicPr>
        <p:blipFill>
          <a:blip r:embed="rId1"/>
          <a:stretch/>
        </p:blipFill>
        <p:spPr>
          <a:xfrm>
            <a:off x="457200" y="115920"/>
            <a:ext cx="8308800" cy="14446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3059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1     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х</a:t>
            </a:r>
            <a:r>
              <a:rPr b="0" lang="ru-RU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5х</a:t>
            </a:r>
            <a:r>
              <a:rPr b="0" lang="ru-RU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6=0                        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(2х</a:t>
            </a:r>
            <a:r>
              <a:rPr b="0" lang="ru-RU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)</a:t>
            </a:r>
            <a:r>
              <a:rPr b="0" lang="ru-RU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2(2х</a:t>
            </a:r>
            <a:r>
              <a:rPr b="0" lang="ru-RU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)+11=0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2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х</a:t>
            </a:r>
            <a:r>
              <a:rPr b="0" lang="ru-RU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6х</a:t>
            </a:r>
            <a:r>
              <a:rPr b="0" lang="ru-RU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8=0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(х</a:t>
            </a:r>
            <a:r>
              <a:rPr b="0" lang="ru-RU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)</a:t>
            </a:r>
            <a:r>
              <a:rPr b="0" lang="ru-RU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1(х</a:t>
            </a:r>
            <a:r>
              <a:rPr b="0" lang="ru-RU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)+28=0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0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7600" y="404280"/>
            <a:ext cx="754380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c00000"/>
                </a:solidFill>
                <a:latin typeface="Calibri"/>
              </a:rPr>
              <a:t>Цели Уро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50560" y="1628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учающие: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способствовать организации деятельности учащихся по восприятию,</a:t>
            </a:r>
            <a:r>
              <a:rPr b="0" lang="ru-RU" sz="20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осмыслению и первичному запоминанию новых знаний (метод введения новой переменной, определение биквадратного уравнения) и способов</a:t>
            </a:r>
            <a:r>
              <a:rPr b="0" lang="ru-RU" sz="20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действий (научить решать уравнения методом введения новой</a:t>
            </a:r>
            <a:r>
              <a:rPr b="0" lang="ru-RU" sz="20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переменной), помочь учащимся осознать социальную и личностную</a:t>
            </a:r>
            <a:r>
              <a:rPr b="0" lang="ru-RU" sz="20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значимость учебного материала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вивающие: </a:t>
            </a:r>
            <a:r>
              <a:rPr b="0" lang="ru-RU" sz="24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способствовать повышению вычислительной способности учащихся;</a:t>
            </a:r>
            <a:r>
              <a:rPr b="0" lang="ru-RU" sz="20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развитию устной математической речи; создать условия для</a:t>
            </a:r>
            <a:r>
              <a:rPr b="0" lang="ru-RU" sz="20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формирования навыков самоконтроля и взаимоконтроля,</a:t>
            </a:r>
            <a:r>
              <a:rPr b="0" lang="ru-RU" sz="20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алгоритмической культуры учащихс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спитательные: </a:t>
            </a:r>
            <a:r>
              <a:rPr b="0" lang="ru-RU" sz="24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способствовать воспитанию доброжелательного отношения</a:t>
            </a:r>
            <a:r>
              <a:rPr b="0" lang="ru-RU" sz="20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друг к друг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0000"/>
                </a:solidFill>
                <a:latin typeface="Calibri"/>
              </a:rPr>
              <a:t>Самостоятельная работа </a:t>
            </a:r>
            <a:br>
              <a:rPr sz="4500"/>
            </a:br>
            <a:r>
              <a:rPr b="0" lang="ru-RU" sz="4500" spc="-1" strike="noStrike">
                <a:solidFill>
                  <a:srgbClr val="ff0000"/>
                </a:solidFill>
                <a:latin typeface="Calibri"/>
              </a:rPr>
              <a:t>отве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Объект 1" descr=""/>
          <p:cNvPicPr/>
          <p:nvPr/>
        </p:nvPicPr>
        <p:blipFill>
          <a:blip r:embed="rId1"/>
          <a:stretch/>
        </p:blipFill>
        <p:spPr>
          <a:xfrm>
            <a:off x="384120" y="1987560"/>
            <a:ext cx="830268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0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2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7851960" cy="23223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21049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343080" indent="-343080" algn="ctr">
              <a:lnSpc>
                <a:spcPct val="115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(2х</a:t>
            </a:r>
            <a:r>
              <a:rPr b="1" lang="ru-RU" sz="2400" spc="-1" strike="noStrike" baseline="30000">
                <a:solidFill>
                  <a:srgbClr val="002060"/>
                </a:solidFill>
                <a:latin typeface="Times New Roman"/>
                <a:ea typeface="Calibri"/>
              </a:rPr>
              <a:t>2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+х-1)(2х</a:t>
            </a:r>
            <a:r>
              <a:rPr b="1" lang="ru-RU" sz="2400" spc="-1" strike="noStrike" baseline="30000">
                <a:solidFill>
                  <a:srgbClr val="002060"/>
                </a:solidFill>
                <a:latin typeface="Times New Roman"/>
                <a:ea typeface="Calibri"/>
              </a:rPr>
              <a:t>2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+х-4)+2=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ctr">
              <a:lnSpc>
                <a:spcPct val="115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(х</a:t>
            </a:r>
            <a:r>
              <a:rPr b="1" lang="ru-RU" sz="2400" spc="-1" strike="noStrike" baseline="30000">
                <a:solidFill>
                  <a:srgbClr val="002060"/>
                </a:solidFill>
                <a:latin typeface="Times New Roman"/>
                <a:ea typeface="Calibri"/>
              </a:rPr>
              <a:t>2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-4х)</a:t>
            </a:r>
            <a:r>
              <a:rPr b="1" lang="ru-RU" sz="2400" spc="-1" strike="noStrike" baseline="30000">
                <a:solidFill>
                  <a:srgbClr val="002060"/>
                </a:solidFill>
                <a:latin typeface="Times New Roman"/>
                <a:ea typeface="Calibri"/>
              </a:rPr>
              <a:t>2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+9(х</a:t>
            </a:r>
            <a:r>
              <a:rPr b="1" lang="ru-RU" sz="2400" spc="-1" strike="noStrike" baseline="30000">
                <a:solidFill>
                  <a:srgbClr val="002060"/>
                </a:solidFill>
                <a:latin typeface="Times New Roman"/>
                <a:ea typeface="Calibri"/>
              </a:rPr>
              <a:t>2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-4х)+20=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ctr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bd0d9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(х</a:t>
            </a:r>
            <a:r>
              <a:rPr b="1" lang="ru-RU" sz="2400" spc="-1" strike="noStrike" baseline="30000">
                <a:solidFill>
                  <a:srgbClr val="002060"/>
                </a:solidFill>
                <a:latin typeface="Times New Roman"/>
                <a:ea typeface="Calibri"/>
              </a:rPr>
              <a:t>2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+х)( х</a:t>
            </a:r>
            <a:r>
              <a:rPr b="1" lang="ru-RU" sz="2400" spc="-1" strike="noStrike" baseline="30000">
                <a:solidFill>
                  <a:srgbClr val="002060"/>
                </a:solidFill>
                <a:latin typeface="Times New Roman"/>
                <a:ea typeface="Calibri"/>
              </a:rPr>
              <a:t>2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+х-5)=8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2" descr="http://s.rimg.info/1e009f83bf9da236bc99cfd5a05f920e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19640" y="366840"/>
            <a:ext cx="213012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nodeType="clickEffect" fill="hold">
                      <p:stCondLst>
                        <p:cond delay="0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8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1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4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c00000"/>
                </a:solidFill>
                <a:latin typeface="Calibri"/>
              </a:rPr>
              <a:t>РЕФЛЕКС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2060280"/>
            <a:ext cx="82296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подвести итог урока , сделать выводы, что удалось или не удалось прошу закончить предложения на листах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ыло интересно , потому что.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Я бы хотел(а) похвалить себя за то , что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рок я бы оценил(а) на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0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26560" y="1268280"/>
            <a:ext cx="745524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средством уравнений, теорем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н уйму всяких разрешил проблем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засуху он предсказал, и ливни –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истине его познанья дивны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сер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42560" y="476280"/>
            <a:ext cx="769644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Calibri"/>
              </a:rPr>
              <a:t>Математическая </a:t>
            </a: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разминк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7640" y="1773360"/>
            <a:ext cx="280836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1) 4х – 5 = х + 1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2) х</a:t>
            </a:r>
            <a:r>
              <a:rPr b="0" lang="ru-RU" sz="2400" spc="-1" strike="noStrike" baseline="30000">
                <a:solidFill>
                  <a:srgbClr val="083763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 +2х = 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3) 2х + 6х</a:t>
            </a:r>
            <a:r>
              <a:rPr b="0" lang="ru-RU" sz="2400" spc="-1" strike="noStrike" baseline="30000">
                <a:solidFill>
                  <a:srgbClr val="083763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 = 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4) 2х</a:t>
            </a:r>
            <a:r>
              <a:rPr b="0" lang="ru-RU" sz="2400" spc="-1" strike="noStrike" baseline="30000">
                <a:solidFill>
                  <a:srgbClr val="083763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 – х</a:t>
            </a:r>
            <a:r>
              <a:rPr b="0" lang="ru-RU" sz="2400" spc="-1" strike="noStrike" baseline="30000">
                <a:solidFill>
                  <a:srgbClr val="083763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 – 4 = 8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Times New Roman"/>
                <a:ea typeface="Calibri"/>
              </a:rPr>
              <a:t>5) 4х</a:t>
            </a:r>
            <a:r>
              <a:rPr b="0" lang="ru-RU" sz="2400" spc="-1" strike="noStrike" baseline="30000">
                <a:solidFill>
                  <a:srgbClr val="083763"/>
                </a:solidFill>
                <a:latin typeface="Times New Roman"/>
                <a:ea typeface="Calibri"/>
              </a:rPr>
              <a:t>2</a:t>
            </a:r>
            <a:r>
              <a:rPr b="0" lang="ru-RU" sz="2400" spc="-1" strike="noStrike">
                <a:solidFill>
                  <a:srgbClr val="083763"/>
                </a:solidFill>
                <a:latin typeface="Times New Roman"/>
                <a:ea typeface="Calibri"/>
              </a:rPr>
              <a:t> – 1х + 7 = 0</a:t>
            </a:r>
            <a:r>
              <a:rPr b="0" lang="ru-RU" sz="2400" spc="-1" strike="noStrike">
                <a:solidFill>
                  <a:srgbClr val="083763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916000" y="1653840"/>
            <a:ext cx="6048360" cy="5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Times New Roman"/>
                <a:ea typeface="Calibri"/>
              </a:rPr>
              <a:t>1.Какие уравнения называются квадратными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2" name="Picture 4" descr="математика2"/>
          <p:cNvPicPr/>
          <p:nvPr/>
        </p:nvPicPr>
        <p:blipFill>
          <a:blip r:embed="rId1"/>
          <a:stretch/>
        </p:blipFill>
        <p:spPr>
          <a:xfrm>
            <a:off x="0" y="27000"/>
            <a:ext cx="1714680" cy="1627200"/>
          </a:xfrm>
          <a:prstGeom prst="rect">
            <a:avLst/>
          </a:prstGeom>
          <a:ln w="0">
            <a:noFill/>
          </a:ln>
        </p:spPr>
      </p:pic>
      <p:sp>
        <p:nvSpPr>
          <p:cNvPr id="163" name="Объект 3"/>
          <p:cNvSpPr/>
          <p:nvPr/>
        </p:nvSpPr>
        <p:spPr>
          <a:xfrm>
            <a:off x="2987640" y="2155680"/>
            <a:ext cx="605016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83763"/>
                </a:solidFill>
                <a:latin typeface="Times New Roman"/>
                <a:ea typeface="Calibri"/>
              </a:rPr>
              <a:t>(Уравнение вида , где  </a:t>
            </a:r>
            <a:r>
              <a:rPr b="1" lang="ru-RU" sz="2200" spc="-1" strike="noStrike">
                <a:solidFill>
                  <a:srgbClr val="083763"/>
                </a:solidFill>
                <a:latin typeface="Times New Roman"/>
                <a:ea typeface="Calibri"/>
              </a:rPr>
              <a:t>х</a:t>
            </a:r>
            <a:r>
              <a:rPr b="0" lang="ru-RU" sz="2200" spc="-1" strike="noStrike">
                <a:solidFill>
                  <a:srgbClr val="083763"/>
                </a:solidFill>
                <a:latin typeface="Times New Roman"/>
                <a:ea typeface="Calibri"/>
              </a:rPr>
              <a:t> – переменная,  </a:t>
            </a:r>
            <a:r>
              <a:rPr b="0" lang="en-US" sz="2200" spc="-1" strike="noStrike">
                <a:solidFill>
                  <a:srgbClr val="083763"/>
                </a:solidFill>
                <a:latin typeface="Times New Roman"/>
                <a:ea typeface="Calibri"/>
              </a:rPr>
              <a:t>b </a:t>
            </a:r>
            <a:r>
              <a:rPr b="0" lang="ru-RU" sz="2200" spc="-1" strike="noStrike">
                <a:solidFill>
                  <a:srgbClr val="083763"/>
                </a:solidFill>
                <a:latin typeface="Times New Roman"/>
                <a:ea typeface="Calibri"/>
              </a:rPr>
              <a:t>и </a:t>
            </a:r>
            <a:r>
              <a:rPr b="0" lang="en-US" sz="2200" spc="-1" strike="noStrike">
                <a:solidFill>
                  <a:srgbClr val="083763"/>
                </a:solidFill>
                <a:latin typeface="Times New Roman"/>
                <a:ea typeface="Calibri"/>
              </a:rPr>
              <a:t>c</a:t>
            </a:r>
            <a:r>
              <a:rPr b="0" lang="ru-RU" sz="2200" spc="-1" strike="noStrike">
                <a:solidFill>
                  <a:srgbClr val="083763"/>
                </a:solidFill>
                <a:latin typeface="Times New Roman"/>
                <a:ea typeface="Calibri"/>
              </a:rPr>
              <a:t>- некоторые числа, причем а≠0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бъект 3"/>
          <p:cNvSpPr/>
          <p:nvPr/>
        </p:nvSpPr>
        <p:spPr>
          <a:xfrm>
            <a:off x="2970360" y="2924280"/>
            <a:ext cx="60483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Среди данных уравнений выберите те, которые являются квадратным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бъект 3"/>
          <p:cNvSpPr/>
          <p:nvPr/>
        </p:nvSpPr>
        <p:spPr>
          <a:xfrm>
            <a:off x="3052800" y="3681360"/>
            <a:ext cx="3905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83763"/>
                </a:solidFill>
                <a:latin typeface="Calibri"/>
                <a:ea typeface="Calibri"/>
              </a:rPr>
              <a:t>Ответ:</a:t>
            </a:r>
            <a:r>
              <a:rPr b="0" lang="ru-RU" sz="1900" spc="-1" strike="noStrike">
                <a:solidFill>
                  <a:srgbClr val="083763"/>
                </a:solidFill>
                <a:latin typeface="Times New Roman"/>
                <a:ea typeface="Calibri"/>
              </a:rPr>
              <a:t>(2,3,5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бъект 3"/>
          <p:cNvSpPr/>
          <p:nvPr/>
        </p:nvSpPr>
        <p:spPr>
          <a:xfrm>
            <a:off x="2916360" y="3938760"/>
            <a:ext cx="6048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Times New Roman"/>
                <a:ea typeface="Calibri"/>
              </a:rPr>
              <a:t>3.Какие уравнения называются неполными квадратными уравнениями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Объект 3"/>
          <p:cNvSpPr/>
          <p:nvPr/>
        </p:nvSpPr>
        <p:spPr>
          <a:xfrm>
            <a:off x="2987640" y="4626000"/>
            <a:ext cx="56167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83763"/>
                </a:solidFill>
                <a:latin typeface="Times New Roman"/>
                <a:ea typeface="Calibri"/>
              </a:rPr>
              <a:t>(Уравнения, в которых хотя бы один из коэффициентов </a:t>
            </a:r>
            <a:r>
              <a:rPr b="1" lang="ru-RU" sz="1900" spc="-1" strike="noStrike">
                <a:solidFill>
                  <a:srgbClr val="083763"/>
                </a:solidFill>
                <a:latin typeface="Times New Roman"/>
                <a:ea typeface="Calibri"/>
              </a:rPr>
              <a:t>в </a:t>
            </a:r>
            <a:r>
              <a:rPr b="0" lang="ru-RU" sz="1900" spc="-1" strike="noStrike">
                <a:solidFill>
                  <a:srgbClr val="083763"/>
                </a:solidFill>
                <a:latin typeface="Times New Roman"/>
                <a:ea typeface="Calibri"/>
              </a:rPr>
              <a:t>или </a:t>
            </a:r>
            <a:r>
              <a:rPr b="1" lang="ru-RU" sz="1900" spc="-1" strike="noStrike">
                <a:solidFill>
                  <a:srgbClr val="083763"/>
                </a:solidFill>
                <a:latin typeface="Times New Roman"/>
                <a:ea typeface="Calibri"/>
              </a:rPr>
              <a:t>с</a:t>
            </a:r>
            <a:r>
              <a:rPr b="0" lang="ru-RU" sz="1900" spc="-1" strike="noStrike">
                <a:solidFill>
                  <a:srgbClr val="083763"/>
                </a:solidFill>
                <a:latin typeface="Times New Roman"/>
                <a:ea typeface="Calibri"/>
              </a:rPr>
              <a:t> равен 0.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Объект 3"/>
          <p:cNvSpPr/>
          <p:nvPr/>
        </p:nvSpPr>
        <p:spPr>
          <a:xfrm>
            <a:off x="2987640" y="5265720"/>
            <a:ext cx="60501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00000"/>
                </a:solidFill>
                <a:latin typeface="Times New Roman"/>
                <a:ea typeface="Calibri"/>
              </a:rPr>
              <a:t>4.Среди данных уравнений выберите те, которые являются неполными квадратными уравнениям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Объект 3"/>
          <p:cNvSpPr/>
          <p:nvPr/>
        </p:nvSpPr>
        <p:spPr>
          <a:xfrm>
            <a:off x="3052800" y="5950080"/>
            <a:ext cx="60498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83763"/>
                </a:solidFill>
                <a:latin typeface="Times New Roman"/>
                <a:ea typeface="Calibri"/>
              </a:rPr>
              <a:t>(3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02560" cy="314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ТЕСТ-ПРОГНОЗ</a:t>
            </a:r>
            <a:br>
              <a:rPr sz="5000"/>
            </a:b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) 3х-5х</a:t>
            </a:r>
            <a:r>
              <a:rPr b="0" lang="ru-RU" sz="2800" spc="-1" strike="noStrike" baseline="30000">
                <a:solidFill>
                  <a:srgbClr val="7030a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+2=0    2) 2х</a:t>
            </a:r>
            <a:r>
              <a:rPr b="0" lang="ru-RU" sz="2800" spc="-1" strike="noStrike" baseline="30000">
                <a:solidFill>
                  <a:srgbClr val="7030a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+4х-6=0    3) 8х</a:t>
            </a:r>
            <a:r>
              <a:rPr b="0" lang="ru-RU" sz="2800" spc="-1" strike="noStrike" baseline="30000">
                <a:solidFill>
                  <a:srgbClr val="7030a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16=0</a:t>
            </a:r>
            <a:br>
              <a:rPr sz="2800"/>
            </a:b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) х</a:t>
            </a:r>
            <a:r>
              <a:rPr b="0" lang="ru-RU" sz="2800" spc="-1" strike="noStrike" baseline="30000">
                <a:solidFill>
                  <a:srgbClr val="7030a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4х+10=0   5) 4х</a:t>
            </a:r>
            <a:r>
              <a:rPr b="0" lang="ru-RU" sz="2800" spc="-1" strike="noStrike" baseline="30000">
                <a:solidFill>
                  <a:srgbClr val="7030a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+2х=0   6) –2х</a:t>
            </a:r>
            <a:r>
              <a:rPr b="0" lang="ru-RU" sz="2800" spc="-1" strike="noStrike" baseline="30000">
                <a:solidFill>
                  <a:srgbClr val="7030a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+2=0   </a:t>
            </a:r>
            <a:br>
              <a:rPr sz="2800"/>
            </a:b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7) -7х</a:t>
            </a:r>
            <a:r>
              <a:rPr b="0" lang="ru-RU" sz="2800" spc="-1" strike="noStrike" baseline="30000">
                <a:solidFill>
                  <a:srgbClr val="7030a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=0   8) 15-4х</a:t>
            </a:r>
            <a:r>
              <a:rPr b="0" lang="ru-RU" sz="2800" spc="-1" strike="noStrike" baseline="30000">
                <a:solidFill>
                  <a:srgbClr val="7030a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+3х=0</a:t>
            </a:r>
            <a:br>
              <a:rPr sz="4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8000" y="3357720"/>
            <a:ext cx="44258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84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вариант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1584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) Выпишите номера полных квадратных уравнений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1584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) Выпишите коэффициенты а, в, с в уравнении 8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1584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) Выпишите номер неполного квадратного уравнения , имеющего один корень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1584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) Выпишите коэффициенты а, в, с в уравнении 6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1584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) Найдите Д в уравнении 4 и сделайте вывод о количестве корней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1584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6480" y="3284280"/>
            <a:ext cx="43495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84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вариант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1584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)Выпишите номера неполных квадратных уравнений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1584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)Выпишите коэффициенты а, в, с в уравнении 1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1584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)Выпишите номер неполного квадратного уравнения , имеющего один корень 0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1584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)Выпишите коэффициенты а, в, с в уравнении 3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1584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)Найдите Д в уравнении 3и сделайте вывод о количестве корней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15840" algn="ctr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3" name="Picture 38" descr="http://s.rimg.info/3bffde1cba3dd9d81ff3f03bf363fec3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324000" y="54756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260280"/>
            <a:ext cx="7543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c00000"/>
                </a:solidFill>
                <a:latin typeface="Calibri"/>
              </a:rPr>
              <a:t>Ответы для самопроверк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24000" y="184428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,2,4,8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=-4, в=3,с=15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=-2, в=0,с=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24, Д&lt;0, корней не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,5,6,7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=-5, в=3,с=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=8, в=0,с=-1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&gt;0, 2корн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04280"/>
            <a:ext cx="75438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0000"/>
                </a:solidFill>
                <a:latin typeface="Calibri"/>
              </a:rPr>
              <a:t>Игра «Угадай слово»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77" name="Объект 3" descr=""/>
          <p:cNvPicPr/>
          <p:nvPr/>
        </p:nvPicPr>
        <p:blipFill>
          <a:blip r:embed="rId1"/>
          <a:stretch/>
        </p:blipFill>
        <p:spPr>
          <a:xfrm>
            <a:off x="390600" y="1639800"/>
            <a:ext cx="850428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0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77600" y="260280"/>
            <a:ext cx="75438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c00000"/>
                </a:solidFill>
                <a:latin typeface="Calibri"/>
              </a:rPr>
              <a:t>ТЕМА УРОК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50560" y="1989000"/>
            <a:ext cx="8713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«Биквадратное уравнение.»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Опр. </a:t>
            </a:r>
            <a:r>
              <a:rPr b="0" lang="ru-RU" sz="30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Уравнения вид </a:t>
            </a:r>
            <a:r>
              <a:rPr b="1" i="1" lang="ru-RU" sz="30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ax</a:t>
            </a:r>
            <a:r>
              <a:rPr b="1" i="1" lang="ru-RU" sz="3000" spc="-1" strike="noStrike" baseline="30000">
                <a:solidFill>
                  <a:srgbClr val="08684e"/>
                </a:solidFill>
                <a:latin typeface="Times New Roman"/>
                <a:ea typeface="Times New Roman"/>
              </a:rPr>
              <a:t>4</a:t>
            </a:r>
            <a:r>
              <a:rPr b="1" i="1" lang="ru-RU" sz="30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+bx</a:t>
            </a:r>
            <a:r>
              <a:rPr b="1" i="1" lang="ru-RU" sz="3000" spc="-1" strike="noStrike" baseline="30000">
                <a:solidFill>
                  <a:srgbClr val="08684e"/>
                </a:solidFill>
                <a:latin typeface="Times New Roman"/>
                <a:ea typeface="Times New Roman"/>
              </a:rPr>
              <a:t>2</a:t>
            </a:r>
            <a:r>
              <a:rPr b="1" i="1" lang="ru-RU" sz="30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+c= 0</a:t>
            </a:r>
            <a:r>
              <a:rPr b="0" lang="ru-RU" sz="30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 , где </a:t>
            </a:r>
            <a:r>
              <a:rPr b="0" i="1" lang="ru-RU" sz="30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а 0,</a:t>
            </a:r>
            <a:r>
              <a:rPr b="0" lang="ru-RU" sz="30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называется </a:t>
            </a:r>
            <a:r>
              <a:rPr b="1" i="1" lang="ru-RU" sz="30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биквадратным уравнением</a:t>
            </a:r>
            <a:r>
              <a:rPr b="0" lang="ru-RU" sz="30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БИКВАДРАТНЫЕ УРАВНЕНИЯ – от </a:t>
            </a:r>
            <a:r>
              <a:rPr b="1" lang="ru-RU" sz="30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би</a:t>
            </a:r>
            <a:r>
              <a:rPr b="0" lang="ru-RU" sz="30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 – два и латинского </a:t>
            </a:r>
            <a:r>
              <a:rPr b="1" lang="ru-RU" sz="30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quadratus</a:t>
            </a:r>
            <a:r>
              <a:rPr b="0" lang="ru-RU" sz="30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 – квадратный, т.е. дважды квадратные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0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0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3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6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Рассмотрим решение биквадратных уравнений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81" name="Rectangle 3" descr=""/>
          <p:cNvPicPr/>
          <p:nvPr/>
        </p:nvPicPr>
        <p:blipFill>
          <a:blip r:embed="rId1"/>
          <a:stretch/>
        </p:blipFill>
        <p:spPr>
          <a:xfrm>
            <a:off x="249120" y="1689120"/>
            <a:ext cx="857088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3T17:15:19Z</dcterms:created>
  <dc:creator>Admin</dc:creator>
  <dc:description/>
  <dc:language>en-US</dc:language>
  <cp:lastModifiedBy>Преподаватель НЭТ</cp:lastModifiedBy>
  <dcterms:modified xsi:type="dcterms:W3CDTF">2022-01-11T07:15:07Z</dcterms:modified>
  <cp:revision>55</cp:revision>
  <dc:subject/>
  <dc:title>Уравнения, приводимые к квадратным</dc:title>
</cp:coreProperties>
</file>