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2CA7-43CD-4A2F-9741-8060EEA0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0EA8-9E70-4FFC-900F-93E5711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D1BC-D4D2-435A-A0FC-1B2370CB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A0A-9788-4A07-95FE-75FCFF16B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540D-DAE8-49E2-80BB-913F8883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C84B-1245-4F90-BE72-066169265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22F-C457-48C7-9FC0-AE63C5DC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16D-452C-4A68-9FA9-401B9492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25D1-20AA-41B2-8431-A74F3EB6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E47A-4C0A-4E1B-8F36-CEB42E7A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6C9-AB52-45FC-AAEB-CD70C24B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325C-51FB-46BE-88D4-478EAF4A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B528-76AD-4C76-B81C-2E2A4DC0EF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14320"/>
            <a:ext cx="7772400" cy="179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Пока человек чувствует боль – он жив. Пока человек чувствует чужую боль – он </a:t>
            </a: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Человек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»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Франсуа Гиз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egoe Script"/>
              </a:rPr>
              <a:t>(Французский историк, политический деяте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 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Тезис.Вступл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 Аргументы (доказательства).Основная ча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egoe Script"/>
              </a:rPr>
              <a:t>III</a:t>
            </a:r>
            <a:r>
              <a:rPr b="0" lang="ru-RU" sz="3600" spc="-1" strike="noStrike">
                <a:solidFill>
                  <a:srgbClr val="000000"/>
                </a:solidFill>
                <a:latin typeface="Segoe Script"/>
              </a:rPr>
              <a:t> Вывод. Заключ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Композиция сочинения-рассуждения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Script"/>
              </a:rPr>
              <a:t>Тезис –сформулированное определение понят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+ комментарий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В комментарии нужно показать актуальность, жизненность, важность пон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Связать вступление с основной частью можно с помощью речевых  клиш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Попробуем разобраться в смысле этого поня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Попробуем  объяснить это опреде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Докажу справедливость своих слов на конкретных пример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Избегайте такой формулировки: Человечность – это когда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863640" y="612720"/>
            <a:ext cx="7149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Аргументы</a:t>
            </a:r>
            <a:br>
              <a:rPr sz="3600"/>
            </a:b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В основной части аргументируется тезис. Необходимо привести 2 примера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1) из указанного текста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2)из жизненного опыта (или читательский)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Для включения в сочинение примеров-аргументов можно использовать такие речевые клише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Чтобы подтвердить сказанное, обратимся к тексту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Проиллюстрировать это понятие можно на примере текста (указать автора)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Это определение можно доказать на таком пример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Segoe Script"/>
              </a:rPr>
              <a:t>В подтверждение приведу пример из жиз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3938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Заключение</a:t>
            </a:r>
            <a:br>
              <a:rPr sz="4000"/>
            </a:br>
            <a:br>
              <a:rPr sz="1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Прямоугольник 1"/>
          <p:cNvSpPr/>
          <p:nvPr/>
        </p:nvSpPr>
        <p:spPr>
          <a:xfrm>
            <a:off x="812880" y="1055520"/>
            <a:ext cx="725148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Заключение, так же как и вступление, не должно превышать по объему основную часть сочинения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Задача заключения- обобщить сказанное, подвести ито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Начать заключение можно вводными словами: итак, следовательно, таким образ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Segoe Script"/>
              </a:rPr>
              <a:t>Или речевыми клише: мы пришли к выводу, подводя итог, делая выводы из вышеизложенного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41160" y="1872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Segoe Script"/>
              </a:rPr>
              <a:t>Рефлексия</a:t>
            </a: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270080"/>
            <a:ext cx="78868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Научились работать над сочинение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Расширили свой кругозор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Развили свой словарный запас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Какое качество в себе воспитывал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было труд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было особенно полезны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Что удивило? Порадовало? Опечалил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Написать сочинение-рассуждение на тему: «Что такое человечность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28560" y="966960"/>
            <a:ext cx="7886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Segoe Script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53760" y="63180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Тема урока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Сочинение-рассуждение на морально-этическую тему. Задание 9.3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0720" y="303192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«Что такое человечность»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Задание 9.3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8240" y="847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ы понимаете значение слов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чност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?Сформулируйте и прокомментируйте данное определение. Напишите сочинение-рассуждение на тему: «Что такое человечность?»,взяв в качестве тезиса данное Вами определени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ргументируя свой тезис, приведите 2 примера-аргумента, подтверждающих Ваши рассуждения: один пример-аргумент приведите из прочитанного текста, а второй - из Вашего жизненного опыт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ъём сочинения должен составлять не менее 70 сл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98720" indent="-198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сли сочинение представляет собой пересказанный или полостью переписанный текст, без каких бы то ни было комментариев, то такая работа оценивается нулём баллов. Сочинение пишите аккуратно, разборчивым почер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Значение слова человечност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Синонимы: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гуманность, доброта, отзывчивость, сочувствие, забота, внимание, сострадание, милосердие, человеколюбие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Segoe Script"/>
              </a:rPr>
              <a:t>Антонимы: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egoe Script"/>
              </a:rPr>
              <a:t>равнодушие, эгоизм, бездушие, черствость, безжалостность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Способы толкования лексического значения слова 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1 Понятийный (перечисление основных признаков, составляющих поняти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2 Синонимический (путем подбора синоним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3 Описательный (описание значения путем указания на важные признаки предмета(явления или действия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Script"/>
              </a:rPr>
              <a:t>4 Комбинированный (совокупность способов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Segoe Script"/>
              </a:rPr>
              <a:t>СЛОВАРЬ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28560" y="966960"/>
            <a:ext cx="7886880" cy="52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ЧЕЛОВЕЧНОСТЬ – ГУМАННОСТЬ, ЧЕЛОВЕЧЕСКОЕ ОТНОШЕНИЕ К ОКРУЖАЮЩИМ. (Толковый словарь Ушаков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Segoe Script"/>
              </a:rPr>
              <a:t>ЧЕЛОВЕЧНОСТЬ-МОРАЛЬНОЕ КАЧЕСТВО, ВЫРАЖАЮЩЕЕ ПРИНЦИП ГУМАННОСТИ, ПРИМЕНИТЕЛЬНО К ПОВСЕДНЕВНЫМ ВЗАИМООТНОШЕНИЯМ. ВКЛЮЧАЕТ РЯД ЧАСТНЫХ КАЧЕСТВ: БЛАГОЖЕЛАТЕЛЬНОСТЬ, УВАЖЕНИЕ К ЛЮДЯМ, СОЧУВСТВИЕ И ДОВЕРИЕ К НИМ, ВЕЛИКОДУШИЕ, САМОПОЖЕРТВОВАНИЕ РАДИ ИНТЕРЕСОВ ДРУГИХ. (Философский словарь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Segoe Script"/>
              </a:rPr>
              <a:t>Человечность- поведение, достойное человека, отзывчивость, гуманность. (Словарь русского языка Ожегов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Анатолий Игнатьевич Приставкин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24320" y="1218960"/>
            <a:ext cx="417672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(1931 - 2008) — советский и российский писатель, общественный деятел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Anatoly_Ignatyevich_Pristavkin.jpg"/>
          <p:cNvPicPr/>
          <p:nvPr/>
        </p:nvPicPr>
        <p:blipFill>
          <a:blip r:embed="rId1"/>
          <a:stretch/>
        </p:blipFill>
        <p:spPr>
          <a:xfrm>
            <a:off x="738360" y="1725480"/>
            <a:ext cx="3173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                </a:t>
            </a:r>
            <a:r>
              <a:rPr b="1" lang="ru-RU" sz="1800" spc="-1" strike="noStrike">
                <a:solidFill>
                  <a:srgbClr val="000000"/>
                </a:solidFill>
                <a:latin typeface="Segoe Script"/>
              </a:rPr>
              <a:t>ЧЕЛОВЕЧЕСКИЙ КОРИДОР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358640"/>
            <a:ext cx="788688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)Это было в сорок первом году. 2)Темная и суровая Москва, спасая нас, детей, от войны, погрузила в </a:t>
            </a:r>
            <a:r>
              <a:rPr b="1" lang="ru-RU" sz="1600" spc="-1" strike="noStrike">
                <a:solidFill>
                  <a:srgbClr val="000000"/>
                </a:solidFill>
                <a:latin typeface="Segoe Script"/>
              </a:rPr>
              <a:t>поезда</a:t>
            </a: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 и отправила в Сибирь. 3)Мы ехали медленно, задыхаясь от недостатка кислорода и страдая от голода. 4)В Челябинске нас высадили и повели на вокзал. 5)Была ночь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6)— Здесь есть пища, — сказал Николай Петрович, сутулый, желтый от болезни человек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7)Вокзал хлестанул по глазам ярким светом. 8)Но скоро мы увидели и другое. 9)Многотысячная толпа беженцев осаждала единственный ресторан. 10)Там, как нам казалось, шевелилось что-то черное, и ухало, и кричало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1) Ближе к нам, прямо на рельсах, стояли, сидели, лежали люди. 12)Здесь начиналась очередь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3)Мы стояли и смотрели на окна. 14)Там было тепло, там раздавали людям горячую, дымящуюся жизнь, наполняя ею тарелки. 15)Потом встал наш Николай Петрович на ящик и что-то закричал. 16)И нам было видно, как он нервно вздергивает острые плечи. 17)И голос у него слабый, голос чахоточного человека. 18)Кто из этих голодающих, сутками простаивающих беженцев сможет его услышать?.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19)А люди вдруг зашевелились. 20)Они подались назад, и маленькая трещинка расколола черную толпу. 21)А потом мы увидели еще: какие-то люди взялись за руки и образовали коридор. 22)Человеческий коридор..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23)Я потом побродил немало, но всегда мне казалось, что я не перестаю шагать этим человеческим коридором. 24)А тогда — мы шли через него, качающийся, живой, трудный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Segoe Script"/>
              </a:rPr>
              <a:t>25)И мы не видели лиц, просто стена больших и верных людей. 26)И яркий свет вдали. 27)Свет, где нам было очень тепло, где и нам отвалили по целой порции жизни, горячей жизни, наполнив ею до краев дымящиеся тарелки. (А. Приставк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53760" y="313920"/>
            <a:ext cx="788652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Segoe Script"/>
              </a:rPr>
              <a:t>Орфографическая работа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383840"/>
            <a:ext cx="7886880" cy="47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Segoe Script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сострадание сопереживан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Segoe Script"/>
              </a:rPr>
              <a:t>сочувствие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1T16:35:35Z</dcterms:created>
  <dc:creator>Инна</dc:creator>
  <dc:description/>
  <dc:language>en-US</dc:language>
  <cp:lastModifiedBy>User</cp:lastModifiedBy>
  <dcterms:modified xsi:type="dcterms:W3CDTF">2020-03-11T19:24:53Z</dcterms:modified>
  <cp:revision>42</cp:revision>
  <dc:subject/>
  <dc:title>Презентация PowerPoint</dc:title>
</cp:coreProperties>
</file>