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BA1F2-D34F-46EF-B1F6-BA92F1E71D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EE307-4F40-463A-A922-9916B99273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7B1EC-BF39-4B40-ACD1-84C5A5CD40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124FF-0851-43C7-8F3B-9BF9ED50FB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DECFF-215F-4A6A-A951-9A3AB4AB59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4BF38-9D6B-4976-8AF1-D3481A3242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FEF1B-9D44-4821-A3EE-05FE84DA31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ADB60-EB34-45D3-BDE9-277465AF53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3F23C-E382-4A7D-A98A-3EFBE2E8BD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7503D-F051-4DAA-896E-1D77F96A1F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2B4BD-F209-4F54-B23F-78CB8525A2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CE20F-5A46-422A-9759-227B7C2DBC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4AB33-FEF5-4239-9F86-224730F072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996A9-5895-4B59-AB7B-5E6057586E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A0914-9F69-4B59-82A7-EDEA57708F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27640" cy="3994200"/>
          </a:xfrm>
          <a:prstGeom prst="rect">
            <a:avLst/>
          </a:prstGeom>
          <a:ln w="0">
            <a:noFill/>
          </a:ln>
        </p:spPr>
      </p:sp>
      <p:sp>
        <p:nvSpPr>
          <p:cNvPr id="201" name="Text Box 2"/>
          <p:cNvSpPr/>
          <p:nvPr/>
        </p:nvSpPr>
        <p:spPr>
          <a:xfrm>
            <a:off x="75564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7ED7A-7310-4337-8D3C-158AFB3791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7BAE1-B58D-4B7C-857C-C0AB52B0A0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7B4BD-7AEE-4DD3-A522-3A3F330260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94CF1-6529-426A-84B9-46563A0FFE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83ABD-608D-4671-9DB5-96170E0113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DE1A4-9A02-4EDD-AC4D-95F6644AB0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4B78D-95AA-49C5-B07C-81192DA2F0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B6DB3-0B6E-4E3C-8201-42DD6958D5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51BA6-CBE7-4731-A27A-520A569E4B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E9D30-9843-425A-ADAC-4EC73D8774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CF29E-2697-44F5-B5C9-A46F513C8D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3EC15-9D42-44F7-A64A-7B8BAC0BA9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F3291-031E-4981-9B65-6BCB79A138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94048-72A3-4514-B920-32DDDEB73C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E0323-462D-4A9B-9C7B-71C9A6B7D3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37786-2C0A-4EF7-97C9-0876C09502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A37F6-63AA-4F87-B1DB-5ABDEA8428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E90BA-53EA-446B-AB1E-32D5BB5B3E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9F586-057D-4EA5-9DC3-9EE5DAD4DC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12CB8-CA20-4E5C-B034-3A20CF9FA6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B5769-A04A-45FA-A8D1-943296997E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5B14C-06DB-4752-9336-3340B0BB55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4FB5E-7B52-4052-9B5E-90ADE77C16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27640" cy="3994200"/>
          </a:xfrm>
          <a:prstGeom prst="rect">
            <a:avLst/>
          </a:prstGeom>
          <a:ln w="0">
            <a:noFill/>
          </a:ln>
        </p:spPr>
      </p:sp>
      <p:sp>
        <p:nvSpPr>
          <p:cNvPr id="264" name="Text Box 2"/>
          <p:cNvSpPr/>
          <p:nvPr/>
        </p:nvSpPr>
        <p:spPr>
          <a:xfrm>
            <a:off x="75564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7B65A-3734-425D-883C-B8998E196A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4A38E-D16D-4CBA-B735-6B40B76C52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AD6A6-97E1-470B-8916-22C675AB57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8747F-2A2C-4CAA-9F42-0146C7DDA7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5F700-98AE-4351-B800-BBEEB231E8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E788B-DC98-4DB5-A552-710AD541F9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2DC55-7BF0-4A2C-9EA2-1454AECF19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E969C-95AE-44AA-A5A3-5856A57EDD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62A1A-B32D-43B7-AA54-814E22C8DC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33A39-2BA7-4F5B-B010-83C943B76C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261E3-38AB-4B6D-944F-BB7901D4F0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EA17B-7523-4754-BC1B-8EB26A2F28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591A9-8C55-4C07-8395-BEA5187ADC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D6AEB-C686-406D-8536-52CC94BB71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27640" cy="3994200"/>
          </a:xfrm>
          <a:prstGeom prst="rect">
            <a:avLst/>
          </a:prstGeom>
          <a:ln w="0">
            <a:noFill/>
          </a:ln>
        </p:spPr>
      </p:sp>
      <p:sp>
        <p:nvSpPr>
          <p:cNvPr id="303" name="Text Box 2"/>
          <p:cNvSpPr/>
          <p:nvPr/>
        </p:nvSpPr>
        <p:spPr>
          <a:xfrm>
            <a:off x="75564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4FF5B-4F18-414F-8AF2-3C889991E3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CF2A3-83F2-44EB-883C-33E85C716E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C9D77-2DCE-4999-8655-08F615C61E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02A1E-9BC5-48F5-A79A-901C2760BB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7F4E5-658C-4F55-B860-D6F74D3438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37C9C-1C84-4A8D-9029-F0602AB251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AAD7E-3A75-4D3C-8664-8E5DCB72CE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DC6E1-9F52-4E16-8001-670C19538D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3C7E4-631D-4596-9CAF-26A06E1D7A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1DBCF-B77E-4F3A-9B8E-9F8F8D4200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38434-25D8-4BA2-BD58-323487E08E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DD2E1-F515-4A2E-B67D-371CE0844C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53522-8EBF-4AB2-8325-28E047BEA5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EBD-C621-4754-8A35-B4A498B3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C63-DA34-4396-A1C0-79171631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65F-9D50-4D21-BF72-3C2A9A8C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F54-6953-47A3-B541-400CC06E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26F-A02F-4246-B1D9-4430AF41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6AF-5BA1-4BA7-A5B7-BD4CDFAE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859-2B75-4640-B7BE-894400D5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021-6ABF-4FAA-94E5-9634303E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0D7-9F77-4C91-BD36-FFD42134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327-FBE3-4417-9F04-17ED5D7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539-73F3-4EC0-9347-9F531383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05F-D7DA-4B97-86BA-6F45D4D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8AFC7-A3DA-4BE2-9398-506BD02C54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file:///F:/&#1053;&#1086;&#1074;&#1086;&#1075;&#1086;&#1076;&#1085;&#1103;&#1103; &#1083;&#1080;&#1090;&#1077;&#1088;&#1072;&#1090;&#1091;&#1088;&#1085;&#1072;&#1103; &#1074;&#1080;&#1082;&#1090;&#1086;&#1088;&#1080;&#1085;&#1072;/10.1.1.mp3" TargetMode="External"/><Relationship Id="rId2" Type="http://schemas.microsoft.com/office/2007/relationships/media" Target="file:///F:/&#1053;&#1086;&#1074;&#1086;&#1075;&#1086;&#1076;&#1085;&#1103;&#1103; &#1083;&#1080;&#1090;&#1077;&#1088;&#1072;&#1090;&#1091;&#1088;&#1085;&#1072;&#1103; &#1074;&#1080;&#1082;&#1090;&#1086;&#1088;&#1080;&#1085;&#1072;/10.1.1.mp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file:///F:/&#1053;&#1086;&#1074;&#1086;&#1075;&#1086;&#1076;&#1085;&#1103;&#1103; &#1083;&#1080;&#1090;&#1077;&#1088;&#1072;&#1090;&#1091;&#1088;&#1085;&#1072;&#1103; &#1074;&#1080;&#1082;&#1090;&#1086;&#1088;&#1080;&#1085;&#1072;/10.1.2.mp3" TargetMode="External"/><Relationship Id="rId2" Type="http://schemas.microsoft.com/office/2007/relationships/media" Target="file:///F:/&#1053;&#1086;&#1074;&#1086;&#1075;&#1086;&#1076;&#1085;&#1103;&#1103; &#1083;&#1080;&#1090;&#1077;&#1088;&#1072;&#1090;&#1091;&#1088;&#1085;&#1072;&#1103; &#1074;&#1080;&#1082;&#1090;&#1086;&#1088;&#1080;&#1085;&#1072;/10.1.2.mp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file:///F:/&#1053;&#1086;&#1074;&#1086;&#1075;&#1086;&#1076;&#1085;&#1103;&#1103; &#1083;&#1080;&#1090;&#1077;&#1088;&#1072;&#1090;&#1091;&#1088;&#1085;&#1072;&#1103; &#1074;&#1080;&#1082;&#1090;&#1086;&#1088;&#1080;&#1085;&#1072;/10.1.3.mp3" TargetMode="External"/><Relationship Id="rId2" Type="http://schemas.microsoft.com/office/2007/relationships/media" Target="file:///F:/&#1053;&#1086;&#1074;&#1086;&#1075;&#1086;&#1076;&#1085;&#1103;&#1103; &#1083;&#1080;&#1090;&#1077;&#1088;&#1072;&#1090;&#1091;&#1088;&#1085;&#1072;&#1103; &#1074;&#1080;&#1082;&#1090;&#1086;&#1088;&#1080;&#1085;&#1072;/10.1.3.mp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90709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Mistral"/>
                <a:ea typeface="Times New Roman"/>
              </a:rPr>
              <a:t>Новогодняя литературная викторина «Самый умный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0360" y="2958840"/>
            <a:ext cx="92138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одготов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ОУ «СОШ № 5 г. Балаково Саратовской обл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Дмитрий Сергеевич Жиг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76000" y="287964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084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vk.cc/5ZBkq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2920" y="-1296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Как ласково называют Деда Мороза в некоторых русских сказ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Морозил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Морозк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Морозец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Холодец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76000" y="17928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Как называется сказка В. Ф. Одоевског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«Мороз Иванович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«Холод Петрович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«Колотун Николаевич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«Стужа Семёновна»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02920" y="108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акую сказку написал Х. К. Андерсе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«Ель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«Сосн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«Пихт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«Кедр»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47280" y="-3204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) В каком году в журнале «Малютка» было опубликовано стихотворение «Ёлочка» («В лесу родилась ёлочка...») Р. А. Кудашевой, к которому впоследствии композитор Л. К. Бекман написал музы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190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190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190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1904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76000" y="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5) Кто придумал Планету новогодних ёлок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А. Барт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Бр. Грим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А. Линдгре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Дж. Родари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02920" y="-22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6) Кто написал стихотворение «Ёлка в школе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А. Н. Плещее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М. В. Исаковск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С. В. Михалк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А. Л. Барто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360" y="1765080"/>
            <a:ext cx="90709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ЖЕРЕБЬЁВКА ПЕРЕД I ПОЛУФИНАЛО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-34920" y="4680"/>
          <a:ext cx="10080720" cy="7880400"/>
        </p:xfrm>
        <a:graphic>
          <a:graphicData uri="http://schemas.openxmlformats.org/drawingml/2006/table">
            <a:tbl>
              <a:tblPr/>
              <a:tblGrid>
                <a:gridCol w="5038560"/>
                <a:gridCol w="5042160"/>
              </a:tblGrid>
              <a:tr h="188928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) А. С. Пушкин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а) «Снегурочка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0824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2) А. Н. Островский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б) «Вечера на хуторе близ Диканьки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88892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3) И. А. Гончаров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в) «Метель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89396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4) Н. В. Гоголь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г) «Обломов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I ПОЛУФИН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1765080"/>
            <a:ext cx="90709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ВОПРОСЫ ПРО НОВЫЙ Г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10082160" cy="7558200"/>
        </p:xfrm>
        <a:graphic>
          <a:graphicData uri="http://schemas.openxmlformats.org/drawingml/2006/table">
            <a:tbl>
              <a:tblPr/>
              <a:tblGrid>
                <a:gridCol w="3359160"/>
                <a:gridCol w="3360600"/>
                <a:gridCol w="3362400"/>
              </a:tblGrid>
              <a:tr h="23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Музык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Кинемато-граф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Живопис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0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Библейские предани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заик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эт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Драматур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изведени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ерсонаж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 2 сраз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Секр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248000" y="5688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44360" y="71280"/>
            <a:ext cx="979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Великий русский композитор XX в. Георгий Свиридов написал всемирно известные музыкальные иллюстрации к «зимней» повести А. С. Пушкина, отрывок из которых только что прозвучал. Как называется эта пове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144360" y="179280"/>
            <a:ext cx="979164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Чудесный фильм 1964 года знаменитого советского режиссёра Александра Роу, которого по праву можно считать одним из основателей детского кино в СССР — это экранизация сказки о плохой дочери и хорошей падчерице. По какой русской народной сказке был снят одноимённый с ней филь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Почему сказка «Морозко» приводит в ужас американцев"/>
          <p:cNvPicPr/>
          <p:nvPr/>
        </p:nvPicPr>
        <p:blipFill>
          <a:blip r:embed="rId1"/>
          <a:stretch/>
        </p:blipFill>
        <p:spPr>
          <a:xfrm>
            <a:off x="2771640" y="3708360"/>
            <a:ext cx="4537080" cy="35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76360" y="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На слайде представлены иллюстрации Ольги Ионайтис. Моменты какого произведения на них запечатле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то его написа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8440" y="4172040"/>
            <a:ext cx="2635560" cy="339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664000" y="4172040"/>
            <a:ext cx="2641320" cy="3394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5305320" y="4165560"/>
            <a:ext cx="2646360" cy="339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7931160" y="4176720"/>
            <a:ext cx="2652840" cy="339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5"/>
          <a:stretch/>
        </p:blipFill>
        <p:spPr>
          <a:xfrm>
            <a:off x="0" y="1781280"/>
            <a:ext cx="1871640" cy="23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6"/>
          <a:stretch/>
        </p:blipFill>
        <p:spPr>
          <a:xfrm>
            <a:off x="8207280" y="1770120"/>
            <a:ext cx="186372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76360" y="0"/>
            <a:ext cx="90709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В каких книгах Евангелия повествуется о событиях Святой ночи Рожде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Святитель Николай Сербский. Рождество Христово. Евангелие о Первенце. |  www.newmartyros.ru"/>
          <p:cNvPicPr/>
          <p:nvPr/>
        </p:nvPicPr>
        <p:blipFill>
          <a:blip r:embed="rId1"/>
          <a:stretch/>
        </p:blipFill>
        <p:spPr>
          <a:xfrm>
            <a:off x="2448000" y="2484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576360" y="0"/>
            <a:ext cx="90709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Чудная карти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ак ты мне род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елая равни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лная лу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вет небес высо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 блестящий с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 саней далё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динокий б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эта, который написал это стихотворение, известный отечественный филолог M. Л. Гаспаров назвал безглагольным. Назовите имя и фамилию поэ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576360" y="0"/>
            <a:ext cx="90709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Зима!.. Крестьянин, торжеств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 дровнях обновляет п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Его лошадка, снег по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етется рысью как-нибу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разды пушистые взры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Летит кибитка удал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Ямщик сидит на облу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тулупе, в красном куша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от бегает дворовый мальч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салазки жучку посад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ебя в коня преобраз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Шалун уж заморозил пальч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Ему и больно и сме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 мать грозит ему в ок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з какого произведения А. С. Пушкина это описание зи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576360" y="0"/>
            <a:ext cx="90709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Обломов, герой романа И. А. Гончарова, так встречает посетителей, зашедших к нему: «Не подходите, не подходите: вы с холода!.. Не подходи, не подходи! Ты с холоду». В каком месяце происходит действие в этих сценах ром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Гости Обломова в романе Обломов: характеристика в таблице"/>
          <p:cNvPicPr/>
          <p:nvPr/>
        </p:nvPicPr>
        <p:blipFill>
          <a:blip r:embed="rId1"/>
          <a:stretch/>
        </p:blipFill>
        <p:spPr>
          <a:xfrm>
            <a:off x="2592360" y="29163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576360" y="2340000"/>
            <a:ext cx="90709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В одном из литературных произведений герой отправляется за обувью для своей возлюбленной, в другом — обувь используется для гадания. Назовите два эти произведения и их ав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66560" y="19080"/>
            <a:ext cx="9071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Три светлых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ри светлых царя из восточно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тучались у всяких доми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равлялись: как пройти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 девочек всех, у мальчи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и старый, ни малый не мог расс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ари прошли все стра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Любовным лучом золот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пути разгоняла тум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д домом Иосифа встала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ни туда постуч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ычал бычок, кричало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ри светлых царя распев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акому событию посвящено стихотворение Г. Гей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Кто в 1700 году издал указ, согласно которому Новый год необходимо отмечать первого январ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II ОТБОРОЧНЫЙ ТЕС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76000" y="287964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084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vk.cc/5ZBQAJ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18920" y="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Как звали мальчиков из рассказа Аркадия Гайдара, приехавших к отцу в далёкую тайгу встречать Новый год с геологической экспедици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Том и Джер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Сойер и Фин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Иван Иванович и Иван Никифорови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Чук и Г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92000" y="0"/>
            <a:ext cx="9071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Кто из братьев-месяцев подарил падчерице колечко в сказке С. Я. Маршака «Двенадцать месяцев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Январ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Мар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Апрел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Декабрь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92000" y="-1296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Чечевицын – «Монтигомо Ястребиный Коготь». Это герой какого новогоднего рассказ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А. П. Чехов «Мальч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А. И. Куприн «Тапёр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О. Генри «Дары волхв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Х. К. Андерсен «Девочка со спичкам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76000" y="-1296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) У какого русского поэта есть цикл стихотворений «Круглый год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С. В. Михал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К. И. Чуковск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С. Я. Марша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А. С. Пушки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18920" y="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5) В какой стране находились владения Снежной королевы в сказке Х. К. </a:t>
            </a:r>
            <a:r>
              <a:rPr b="1" lang="en-US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ндерсе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</a:t>
            </a:r>
            <a:r>
              <a:rPr b="1" lang="en-US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инлянд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Норвег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Лапланд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Швец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18920" y="-324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6) Как называлась деревня, в которой в рождественскую ночь произошли удивительные события, о которых нам рассказал Н. В. Гогол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Мир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Гор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Иванов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Дикань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1765080"/>
            <a:ext cx="90709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ЖЕРЕБЬЁВКА ПЕРЕД II ПОЛУФИНАЛО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-34920" y="4680"/>
          <a:ext cx="10080720" cy="7561440"/>
        </p:xfrm>
        <a:graphic>
          <a:graphicData uri="http://schemas.openxmlformats.org/drawingml/2006/table">
            <a:tbl>
              <a:tblPr/>
              <a:tblGrid>
                <a:gridCol w="5038560"/>
                <a:gridCol w="5042160"/>
              </a:tblGrid>
              <a:tr h="188928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«Мальчик у Христа на ёлке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а) Х. К. Андерсен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88892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2) «Синяя птица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б) Ф. М. Достоевский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88928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3) «Девочка со спичками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в) Э. Т. А. Гофман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89396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4) «Щелкунчик, или мышиный король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г) М. Метерлинк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6000" y="245556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Сколько резиденций имеет Дед Мороз в Росси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II ПОЛУФИН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10082160" cy="7558200"/>
        </p:xfrm>
        <a:graphic>
          <a:graphicData uri="http://schemas.openxmlformats.org/drawingml/2006/table">
            <a:tbl>
              <a:tblPr/>
              <a:tblGrid>
                <a:gridCol w="3359160"/>
                <a:gridCol w="3360600"/>
                <a:gridCol w="3362400"/>
              </a:tblGrid>
              <a:tr h="23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Музык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Кинемато-граф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Живопис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0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Библейские предани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заик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эт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Драматур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изведени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ерсонаж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 2 сраз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Секр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175280" y="561672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144360" y="360360"/>
            <a:ext cx="979164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Какая опера П. И. Чайковского, отрывок из которой только что прозвучал, написана на сюжет повести Н. В. Гоголя «Ночь перед Рождеством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576360" y="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По какому произведению А. С. Пушкина  Владимир Басов снял широкоформатный художественный фильм в 1964 год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43120" y="4675320"/>
            <a:ext cx="685800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576360" y="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На слайде иллюстрация Ирины Андреевны Петелиной. К какому произведению? Какова его жанровая принадлежность? Кто его написа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28720" y="4248000"/>
            <a:ext cx="3527640" cy="3353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5264280" y="4248000"/>
            <a:ext cx="337644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49280" y="10825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В каком городе родился Иисус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Вифлеем на Рождество превратился в город-призрак | Туристические новости от  Турпрома"/>
          <p:cNvPicPr/>
          <p:nvPr/>
        </p:nvPicPr>
        <p:blipFill>
          <a:blip r:embed="rId1"/>
          <a:stretch/>
        </p:blipFill>
        <p:spPr>
          <a:xfrm>
            <a:off x="1800360" y="3274920"/>
            <a:ext cx="6368760" cy="33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503280" y="1692360"/>
            <a:ext cx="907092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Кто из русских писателей в возрасте 70 лет катался на коньках, в 75 — увлекался велосипедным спортом, в 82 года быстро ездил верхом на лошад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503280" y="39528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«Последний день перед Рождеством прошёл. Зимняя, ясная ночь наступила. Глянули звезды. Месяц величаво поднялся на небо посветить добрым людям и всему миру, чтобы всем было весело колядовать и славить Христа. Морозило сильнее, чем с утра; но зато так было тихо, что скрып мороза под сапогом слышался за полверсты. Еще ни одна толпа парубков не показывалась под окнами хат; месяц один только заглядывал в них украдкою, как бы вызывая принаряживавшихся девушек выбежать скорее на скрыпучий снег. Тут через трубу одной хаты клубами повалился дым и пошёл тучею по небу, и вместе с дымом поднялась ведьма верхом на метл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зовите произведение, из которого взят отрывок, и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87280" y="161928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В какую новогоднюю игрушку превратил молодого принца король мышей, если верить сказке Э. Т. А. Гофм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Сказка Щелкунчик и Мышиный король - Гофман, читать онлайн"/>
          <p:cNvPicPr/>
          <p:nvPr/>
        </p:nvPicPr>
        <p:blipFill>
          <a:blip r:embed="rId1"/>
          <a:stretch/>
        </p:blipFill>
        <p:spPr>
          <a:xfrm>
            <a:off x="3441600" y="2843280"/>
            <a:ext cx="2762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287280" y="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Не трещите, моро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заповедном 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 сосны, у берё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е грызите кор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лно вам воронь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моражи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еловечье жиль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ыхолажив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тры, бури, урага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уйте что есть мо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ихри, вьюги и бура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азыграйтесь к но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облаках трубите гром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йтесь над землё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усть бежит в полях позё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елою змеё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акие 2 зимних месяца из сказки «Двенадцать месяцев» обращаются к природе с такими слов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4464000" y="611280"/>
            <a:ext cx="42102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6000" y="245556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Йоулупук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какой стране у Деда Мороза такое забавное им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87280" y="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Известный отечественный филолог Ю. М. Лотман отметил, что в произведениях Пушкина особую роль в сюжете играют стихийные бедствия: наводнение, буран, метель, чума. Как называются эти 4 произведе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360" y="1765080"/>
            <a:ext cx="90709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ЖЕРЕБЬЁВКА ПЕРЕД ФИНАЛО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10080720" cy="7569360"/>
        </p:xfrm>
        <a:graphic>
          <a:graphicData uri="http://schemas.openxmlformats.org/drawingml/2006/table">
            <a:tbl>
              <a:tblPr/>
              <a:tblGrid>
                <a:gridCol w="5038560"/>
                <a:gridCol w="5042160"/>
              </a:tblGrid>
              <a:tr h="151452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В. А. Жуковский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а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«Доктор Живаго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51344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Б. Л. Пастернак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«Евгений Онегин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1452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С. А. Маршак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в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«Двенадцать месяцев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51128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А. С. Пушкин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г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«Светлана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156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д) «Морозко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ФИН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0"/>
          <a:ext cx="10082160" cy="7558200"/>
        </p:xfrm>
        <a:graphic>
          <a:graphicData uri="http://schemas.openxmlformats.org/drawingml/2006/table">
            <a:tbl>
              <a:tblPr/>
              <a:tblGrid>
                <a:gridCol w="3359160"/>
                <a:gridCol w="3360600"/>
                <a:gridCol w="3362400"/>
              </a:tblGrid>
              <a:tr h="23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Музык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Кинемато-граф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Живопис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0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Библейские предани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заик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эт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Драматур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изведени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ерсонаж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 2 сраз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Секр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103640" y="5472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274680" y="936720"/>
            <a:ext cx="955656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то из русских композиторов написал оперу на сюжет повести Н. В. Гоголя «Ночь перед Рождеством» с таким же названием, отрывок из которой только что прозвуча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254160" y="216000"/>
            <a:ext cx="959796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акой советский полнометражный мультфильм был снят Иваном Ивановым-Вано по мотивам одноимённой с ним пьесы Самуила Маршака, написанной во время Великой Отечественной войны в 1942–1943 годах для МХА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Двенадцать месяцев (мультфильм) — Википедия"/>
          <p:cNvPicPr/>
          <p:nvPr/>
        </p:nvPicPr>
        <p:blipFill>
          <a:blip r:embed="rId1"/>
          <a:stretch/>
        </p:blipFill>
        <p:spPr>
          <a:xfrm>
            <a:off x="3286080" y="3995640"/>
            <a:ext cx="353376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563400" y="-136440"/>
            <a:ext cx="90712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На слайде картина Марии Павловой. По мотивам какого произведения она написана? Кто его автор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879640" y="3684600"/>
            <a:ext cx="468000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503280" y="20509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акие животные были привязаны к яслям Младенц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503280" y="20509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акой писатель считается основателем традиции рождественских рассказов в европейской литератур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6000" y="187164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) Жители какой области Российской Федерации Новый год встречают позже всех остальных россия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31640" y="0"/>
            <a:ext cx="907128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«…У Христа всегда в этот день ёлка для маленьких деточек, у которых там нет своей ёл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…</a:t>
            </a: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 все они теперь здесь, все они теперь, как ангелы, у Христа, и он сам посреди их, и простирает к ним руки, и благословляет их и их грешных матерей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з какого произведения Ф. М. Достоевского взят этот отрыв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503280" y="75564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акой персонаж в какой костюм был наряжен на святочном бале в романе «Война и мир» Л. Н. Толстог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Наряженные дворовые, медведи, турки, трактирщики, барыни, страшные и смешные, принеся с собою холод и веселье, сначала робко жались в передней; потом, прячась один за другого, вытеснялись в залу; и сначала застенчиво, а потом все веселее и дружнее начались песни, пляски, хоровые и святочные игры. Графиня, узнав лица и посмеявшись на наряженных, ушла в гостиную. Граф Илья Андреич с сияющей улыбкой сидел в зале, одобряя играющих. Молодежь исчезла куда-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ерез полчаса в зале между другими ряжеными появилась еще старая барыня в фижмах — это был &lt;...&gt;. Турчанка был &lt;...&gt;. Паяс — это был Диммлер, гусар — &lt;...&gt; и черкес — &lt;...&gt;, с нарисованными пробочными усами и бровя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503280" y="75564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В русской литературе зима получила такие названия: чародейка-зима, волшебница-зима. Кто автор каждого из названи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31640" y="-15840"/>
            <a:ext cx="907128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«Юра смотрел по сторонам и видел то же самое, что незадолго до него попадалось на глаза Ларе. &lt;...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ветящиеся изнутри и заиндевелые окна домов походили на драгоценные ларцы из дымчатого слоистого топаза. Внутри них теплилась святочная жизнь Москвы, горели елки, толпились гости и играли в прятки и колечко дурачащиеся ряже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друг Юра подумал, что Блок это явление Рождества во всех областях русской жизни, в северном городском быту и в новейшей литературе, под звездным небом современной улицы и вокруг зажженной елки в гостиной нынешнего века. Он подумал, что никакой статьи о Блоке не надо, а просто надо написать русское поклонение волхвов, как у голландцев, с морозом, волками и темным еловым ле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ни проезжали по Камергерскому. Юра обратил внимание на черную протаявшую скважину в ледяном наросте одного из о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квозь эту скважину просвечивал огонь свечи, проникавший на улицу почти с сознательностью взгляда, точно пламя подсматривало за едущими и кого-то поджид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«...»&gt; — шептал Юра про себя начало чего-то смутного неоформившегося, в надежде, что продолжение придет само собой, без принуждения. Оно не приходи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 каким стихотворением Юрия Живаго связан следующий отрывок из романа Б. Л. Пастерна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НАГРАЖДЕ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6000" y="244764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5) Сколько раз в России можно встречать Новый год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6000" y="22399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6) Какой древний российский город считается родиной Деда Мороз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I ОТБОРОЧНЫЙ ТЕС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0T11:12:57Z</dcterms:created>
  <dc:creator/>
  <dc:description/>
  <dc:language>en-US</dc:language>
  <cp:lastModifiedBy>Дмитрий</cp:lastModifiedBy>
  <dcterms:modified xsi:type="dcterms:W3CDTF">2021-10-15T15:40:55Z</dcterms:modified>
  <cp:revision>7</cp:revision>
  <dc:subject/>
  <dc:title>Новогодняя литературная викторина «Самый умный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10000000000010291210207f7000400038000</vt:lpwstr>
  </property>
</Properties>
</file>