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11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8E2-E889-4B37-91FF-ABFFC969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7C83-1E28-4248-8461-099FDAE4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629-1CA9-4A0C-82DA-EAC86351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39D-5B31-4B36-8A35-1487FEAF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1FDA8-22E9-4A74-85F2-04238902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D657C-FDDE-40AA-8825-EB6E81AD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1B5B0-5A4A-4D5F-A8A8-484F4DBF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01F32-575B-4464-960A-3CE2EE8E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0F06C-E4C5-4083-BB7B-1CF047A1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0FEB7-369C-440F-9C13-86A6B2DC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F5763-D94E-420E-9AEC-025635F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841-3B47-4EBD-BAA5-9182E1A0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4E06B-CB1E-44E6-B9C2-ED186041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98755-F72D-4893-B553-E05E9A61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9302F-F9B6-41FC-8998-493F2DC1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5DB2A-7A17-420A-8AC0-CF7F4632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91BD4-AE14-4E81-A73A-8E10422D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06E4-4F3B-4938-82BE-B17393F8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B3BB-0B6C-4683-91E9-DD993BD4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29B8-2CF4-416F-AA8B-CD8B0C03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ACA1-EE00-4977-B6EF-DD243A60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5AB58-190F-4D00-B5C5-0F4CE4F9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DCB-0BF4-4EFB-B2A8-9A99148A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7FFA-9155-45ED-A911-34670F2F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6E5E-9756-46F6-903F-68AA412F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3D96-1D11-495C-A1EE-D24BB29A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DF5ED-7429-48EC-A8C0-A9FD5772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7E2EF-6819-49EA-86E2-15E04EEB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4A10-2EE9-4713-B949-BAF89BFB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63C9A-C3F6-4A21-8B1E-28CE5DF8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762FAF-CA51-49CA-B098-EA07A3E2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14183-EBED-4D23-9BEE-9BAF38B9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247B6-A713-4E7B-9CFA-01C98DFF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04C-D8C5-40DE-9D1A-F92239A7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42C56D-B8D5-495F-A26F-0630E868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75CF1-50EE-47CE-96BE-0C4A4744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B6C154-8873-4952-A0ED-D99AC16B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98A93D-CE59-4EFF-88D7-71991DB9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7F0FF-2963-42A2-95D1-3148989E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05A16E-7368-4D8E-9EA5-BD2A95D1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844DA-02B8-4912-8944-6C70C541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4490B3-0326-421F-BB32-B963BDF4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5F417-D6AC-4343-87B7-8407E374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9C3-5263-4C91-A168-901CC3CC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A54-62AA-4041-AD3B-75EA5ECB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C53-3A43-4A85-BEC9-2D9E4D55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4A7-730D-466A-B0AA-E139BF3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A12-6BDB-4FC9-B22F-81D7FEDF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2DBF-07A9-444F-A1CD-F020698EEA6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7F19-3193-449C-A95D-FCF416E835E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0BE6-F428-4889-B3D4-272F9E1ED61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1C4E-5711-4461-9A28-6FE42FD899F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2" descr=""/>
          <p:cNvPicPr/>
          <p:nvPr/>
        </p:nvPicPr>
        <p:blipFill>
          <a:blip r:embed="rId1"/>
          <a:stretch/>
        </p:blipFill>
        <p:spPr>
          <a:xfrm>
            <a:off x="414360" y="-133200"/>
            <a:ext cx="8315280" cy="242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1\Desktop\Сухомлинский 3.jpg"/>
          <p:cNvPicPr/>
          <p:nvPr/>
        </p:nvPicPr>
        <p:blipFill>
          <a:blip r:embed="rId2"/>
          <a:stretch/>
        </p:blipFill>
        <p:spPr>
          <a:xfrm>
            <a:off x="380880" y="2438280"/>
            <a:ext cx="3733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Женя умерла 28 декабря, в 12 часов 30 минут утра 1941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Бабушка умерла 25 января, в 3 часа дня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Лека умер 17 марта, в 6 часов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Дядя Вася умер 13 апреля, в 2 часа ночи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– 13 мая, в 7 часов 30 минут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Савичевы умерли. Умерли вс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Таня»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Содержимое 5" descr="0_3e22_41fdc774_XL.jpeg"/>
          <p:cNvPicPr/>
          <p:nvPr/>
        </p:nvPicPr>
        <p:blipFill>
          <a:blip r:embed="rId1"/>
          <a:stretch/>
        </p:blipFill>
        <p:spPr>
          <a:xfrm>
            <a:off x="685800" y="380880"/>
            <a:ext cx="579132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leningrad"/>
          <p:cNvPicPr/>
          <p:nvPr/>
        </p:nvPicPr>
        <p:blipFill>
          <a:blip r:embed="rId1"/>
          <a:stretch/>
        </p:blipFill>
        <p:spPr>
          <a:xfrm>
            <a:off x="0" y="0"/>
            <a:ext cx="3502080" cy="487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9895417b14c"/>
          <p:cNvPicPr/>
          <p:nvPr/>
        </p:nvPicPr>
        <p:blipFill>
          <a:blip r:embed="rId2"/>
          <a:stretch/>
        </p:blipFill>
        <p:spPr>
          <a:xfrm>
            <a:off x="2819520" y="3195720"/>
            <a:ext cx="5562360" cy="3662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73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3808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пуговица от маминой кофты. А в печи две булки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теплого хлеба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разрывали немецкие овчарки, а он кричал: «Сына уведите, сына уведите, чтоб не смотрел…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не сразу умерла. Она долго лежала на траве, открыла глаза: «Ира мне надо тебе рассказать…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, я не хочу… - мне казалось, что если она мне скажет то, что хочет, она умрет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не прячьте мою маму в  ямку она проснется, и мы с ней пойдем домой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вытолкнули на улицу, и я бежала за ним по снегу босиком и кричала: «Папочка, папочка». А бабушка причитала дома: «Где же бог, куда он прячется?». Бабушка не смогла пережить такое горе, плакала все тише и тише и через две недели умерла на печке, а рядом спала я и обнимала ее, мертвую. В доме больше никого не осталось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             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С.Алексиевич «Последние свидетели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321760" cy="97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1\Desktop\4d733978f33d8494ce5a55a0481.jpg"/>
          <p:cNvPicPr/>
          <p:nvPr/>
        </p:nvPicPr>
        <p:blipFill>
          <a:blip r:embed="rId2"/>
          <a:stretch/>
        </p:blipFill>
        <p:spPr>
          <a:xfrm>
            <a:off x="380880" y="1752480"/>
            <a:ext cx="4114800" cy="3622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\Desktop\помощь.jpg"/>
          <p:cNvPicPr/>
          <p:nvPr/>
        </p:nvPicPr>
        <p:blipFill>
          <a:blip r:embed="rId3"/>
          <a:stretch/>
        </p:blipFill>
        <p:spPr>
          <a:xfrm>
            <a:off x="4648320" y="1752480"/>
            <a:ext cx="42670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075"/>
          <p:cNvPicPr/>
          <p:nvPr/>
        </p:nvPicPr>
        <p:blipFill>
          <a:blip r:embed="rId1"/>
          <a:stretch/>
        </p:blipFill>
        <p:spPr>
          <a:xfrm>
            <a:off x="4495680" y="380880"/>
            <a:ext cx="4343400" cy="3154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V_Leningrade"/>
          <p:cNvPicPr/>
          <p:nvPr/>
        </p:nvPicPr>
        <p:blipFill>
          <a:blip r:embed="rId2"/>
          <a:stretch/>
        </p:blipFill>
        <p:spPr>
          <a:xfrm>
            <a:off x="304920" y="3657600"/>
            <a:ext cx="4190760" cy="2962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з тех, что родился в 1923- 1924 гг.и в 1941 году со школьной скамьи шагнул на фронт к концу войны в живых осталось только 3 %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о время Второй мировой войны всего в мире погибло 13 миллионов дет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огибали дети – Граждане мир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1\Desktop\победа.jpg"/>
          <p:cNvPicPr/>
          <p:nvPr/>
        </p:nvPicPr>
        <p:blipFill>
          <a:blip r:embed="rId1"/>
          <a:stretch/>
        </p:blipFill>
        <p:spPr>
          <a:xfrm>
            <a:off x="430200" y="1055520"/>
            <a:ext cx="3429000" cy="28958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120492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8c891"/>
                </a:solidFill>
                <a:latin typeface="Arial"/>
              </a:rPr>
              <a:t>Но помнят они и побед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C:\Users\1\Desktop\победа 2.jpg"/>
          <p:cNvPicPr/>
          <p:nvPr/>
        </p:nvPicPr>
        <p:blipFill>
          <a:blip r:embed="rId2"/>
          <a:stretch/>
        </p:blipFill>
        <p:spPr>
          <a:xfrm>
            <a:off x="5281560" y="1055520"/>
            <a:ext cx="3328920" cy="2895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1\Desktop\День победы.jpg"/>
          <p:cNvPicPr/>
          <p:nvPr/>
        </p:nvPicPr>
        <p:blipFill>
          <a:blip r:embed="rId3"/>
          <a:stretch/>
        </p:blipFill>
        <p:spPr>
          <a:xfrm>
            <a:off x="2438280" y="4114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Пусть дети повсюду встречают рассвет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Улыбкой ясной спокойной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Давайте же скажем все вместе –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, нет,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 – грабительским войнам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яркое сол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инее небо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вет в око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колосья хлеба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Мы нарисуем осенние листья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Школу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Руче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Друзей беспокойных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И зачеркнем нашей общей кистью выстрелы, взрывы, огонь и вой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«</a:t>
            </a: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Ты рожден человеком, но Человеком надо стать. Настоящий человек-это дух человеческий, который выражается в убеждениях и чувствах, воле и стремлениях, в отношении к людям и к самому себе, в способности любить и ненавидеть, видеть в мечте идеал и бороться за него». В.А.Сухомлински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4920" y="3581280"/>
            <a:ext cx="4648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8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йна началась, мы были еще дети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чилась война, мы уже взрослые…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.Коротаева, 14 ле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Picture 5" descr="nevinn_10"/>
          <p:cNvPicPr/>
          <p:nvPr/>
        </p:nvPicPr>
        <p:blipFill>
          <a:blip r:embed="rId1"/>
          <a:stretch/>
        </p:blipFill>
        <p:spPr>
          <a:xfrm>
            <a:off x="4800600" y="3332160"/>
            <a:ext cx="3505320" cy="2889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Users\1\Desktop\сухомлинский 2.jpg"/>
          <p:cNvPicPr/>
          <p:nvPr/>
        </p:nvPicPr>
        <p:blipFill>
          <a:blip r:embed="rId2"/>
          <a:stretch/>
        </p:blipFill>
        <p:spPr>
          <a:xfrm>
            <a:off x="55440" y="125280"/>
            <a:ext cx="3907080" cy="29988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4419720" y="8398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На любви к детям держится ми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394840" cy="84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054"/>
          <p:cNvPicPr/>
          <p:nvPr/>
        </p:nvPicPr>
        <p:blipFill>
          <a:blip r:embed="rId2"/>
          <a:stretch/>
        </p:blipFill>
        <p:spPr>
          <a:xfrm>
            <a:off x="1447920" y="1600200"/>
            <a:ext cx="6248160" cy="422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7760" y="304560"/>
            <a:ext cx="5638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Такою все дышало тишино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Что вся земля еще спала, казалос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Кто знал, что между миром и войно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Всего каких-то пять минут осталось.</a:t>
            </a: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С.Щипаче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7" descr="80350cbddde9"/>
          <p:cNvPicPr/>
          <p:nvPr/>
        </p:nvPicPr>
        <p:blipFill>
          <a:blip r:embed="rId1"/>
          <a:srcRect l="6278" t="5145" r="0" b="5524"/>
          <a:stretch/>
        </p:blipFill>
        <p:spPr>
          <a:xfrm>
            <a:off x="685800" y="2286000"/>
            <a:ext cx="518148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23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Users\1\Desktop\Война.jpg"/>
          <p:cNvPicPr/>
          <p:nvPr/>
        </p:nvPicPr>
        <p:blipFill>
          <a:blip r:embed="rId2"/>
          <a:stretch/>
        </p:blipFill>
        <p:spPr>
          <a:xfrm>
            <a:off x="838080" y="1870200"/>
            <a:ext cx="7620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-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есть на свете дороже детей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Что есть  самое дорогое  у любого народа? У любой матер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Ребенок, прошедший через ужас войны, ребенок л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Кто возвратит ему детство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кто подсчитает, сколько детей убивает войн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таких были тысячи. Что помнят они? Что могут рассказать? Что могли понять, увидеть, запомнить де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1760" cy="962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1\Desktop\дети 323.jpg"/>
          <p:cNvPicPr/>
          <p:nvPr/>
        </p:nvPicPr>
        <p:blipFill>
          <a:blip r:embed="rId2"/>
          <a:stretch/>
        </p:blipFill>
        <p:spPr>
          <a:xfrm>
            <a:off x="152280" y="11430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1\Desktop\дети война.jpg"/>
          <p:cNvPicPr/>
          <p:nvPr/>
        </p:nvPicPr>
        <p:blipFill>
          <a:blip r:embed="rId3"/>
          <a:stretch/>
        </p:blipFill>
        <p:spPr>
          <a:xfrm>
            <a:off x="5943600" y="1077840"/>
            <a:ext cx="3048120" cy="2656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Users\1\Desktop\31108.jpg"/>
          <p:cNvPicPr/>
          <p:nvPr/>
        </p:nvPicPr>
        <p:blipFill>
          <a:blip r:embed="rId4"/>
          <a:stretch/>
        </p:blipFill>
        <p:spPr>
          <a:xfrm>
            <a:off x="3657600" y="1143000"/>
            <a:ext cx="1928880" cy="2616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1\Desktop\i_181.jpg"/>
          <p:cNvPicPr/>
          <p:nvPr/>
        </p:nvPicPr>
        <p:blipFill>
          <a:blip r:embed="rId5"/>
          <a:stretch/>
        </p:blipFill>
        <p:spPr>
          <a:xfrm>
            <a:off x="331920" y="4064040"/>
            <a:ext cx="3630600" cy="2395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Users\1\Desktop\4275994_orig.jpg"/>
          <p:cNvPicPr/>
          <p:nvPr/>
        </p:nvPicPr>
        <p:blipFill>
          <a:blip r:embed="rId6"/>
          <a:stretch/>
        </p:blipFill>
        <p:spPr>
          <a:xfrm>
            <a:off x="5105520" y="4064040"/>
            <a:ext cx="36115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1\Desktop\img28.jpg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fot837"/>
          <p:cNvPicPr/>
          <p:nvPr/>
        </p:nvPicPr>
        <p:blipFill>
          <a:blip r:embed="rId1"/>
          <a:stretch/>
        </p:blipFill>
        <p:spPr>
          <a:xfrm>
            <a:off x="504720" y="2567160"/>
            <a:ext cx="3381480" cy="3357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6840" y="837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 блокадном Ленинграде оставалось 2 млн. 544 тысяч жителей, в том числе 400 тысяч дете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3886200" y="251460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Ленинградские дети», - когда звучали эти слова, у человека сжималось серд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о звучало как пароль – «ленинградские дети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Komp</cp:lastModifiedBy>
  <dcterms:modified xsi:type="dcterms:W3CDTF">2018-09-10T08:48:37Z</dcterms:modified>
  <cp:revision>24</cp:revision>
  <dc:subject/>
  <dc:title>МЕТОДИЧЕСКАЯ РАЗРАБОТКА ВНЕКЛАССНОГО МЕРОПРИЯТИЯ   «Детство, опаленное войной»</dc:title>
</cp:coreProperties>
</file>