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6EC-E1DF-44CD-A9C3-F88ED500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5D2-7D89-4F27-9E05-F5FF8F13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C1B-AC40-4724-98B1-5A1EA128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B56-93F3-4287-A5D8-DA5BD421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ACE1-AA6A-45C7-B7D4-E8BB1A4B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3CA03-2D9D-4E13-BE52-4AB6B585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ABB56-C78E-43BA-A4D8-BE89C14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26B7E-7678-46B1-9355-D517A759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13C9-3638-42C4-A218-442071C5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8E52-8765-4F2A-8B79-E3712A4F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89D6D-7B06-4A96-B32D-6BBE9E01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B09-14B8-471D-8F08-351ECF9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06104-6A6D-4E4A-B57E-970A3823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40C53-45C6-41AA-B098-E4C70C51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4E1B5-55A3-41CC-90A9-340F3910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DF649-5179-428D-BEAE-EF559852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2A180-73A6-4DB4-A6B6-6D7C1048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6DE4-1A60-428D-BD24-807B49B2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1A54-3148-434D-A879-4E29E347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A329-7442-4DF0-BF77-D1151832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7E7A-5170-4D65-AFD1-CA50D0A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6443-D97E-436E-9E40-D3056790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719-ACC1-4067-AD73-F2A82B5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08B9-3AC2-45E5-A9B8-36AD6CD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94B8-403E-4DE8-BACD-49B643C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E447-E00A-4B12-ABAC-D5498355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8386-DF93-40E1-822C-F486521A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243C-A9E9-492C-B883-A5FA6693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E99E-626B-4E97-A17B-8CA7DCE0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6764-8577-4F93-89B8-09CAE2EC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DFD9F-D2B5-40C9-B0C4-144EC07A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4774B-DB7B-4372-AAFB-A5BEAE9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7624E-21CC-4B45-8D00-4D8311C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BFC-E343-48D7-AF8A-6FAA1D6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D6033-F150-44A8-94C9-4EAD879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DC7DF-56F8-4ABB-91E5-FE2240C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8DD17-641E-4B79-9B2F-B44D245E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994D0-0D3F-4846-A31A-B2E3C5F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A51F0-1AD3-4EAB-B8AC-CDAF4FA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ACD9B-E88A-4B66-9718-A7DAD25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5A864-B96E-4FF4-9E32-D07D05B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95089-4482-4957-A6A9-ABB3E758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4B81F-4AD2-4DBC-B5A0-3B354CCA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FB8-5D64-4AE6-805D-0099361B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D70-781F-4B93-83D8-19C19660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EDA-2FC2-45BF-9776-9CF4B36F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621-8452-46B4-9351-D7CE455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69A-7772-47DE-9A01-2FCCBDD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F28-D391-40EA-B1B0-9747D4636E4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C700-1243-4DE3-A8A8-1BF4B411966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77DE-9A50-42D7-9475-27295FE530D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B3E-D0E7-46E6-A968-FA42015E052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14360" y="-133200"/>
            <a:ext cx="831528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1\Desktop\Сухомлинский 3.jpg"/>
          <p:cNvPicPr/>
          <p:nvPr/>
        </p:nvPicPr>
        <p:blipFill>
          <a:blip r:embed="rId2"/>
          <a:stretch/>
        </p:blipFill>
        <p:spPr>
          <a:xfrm>
            <a:off x="380880" y="2438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Женя умерла 28 декабря, в 12 часов 30 минут утра 1941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Бабушка умерла 25 января, в 3 часа дня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ека умер 17 марта, в 6 часов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Дядя Вася умер 13 апреля, в 2 часа ночи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– 13 мая, в 7 часов 30 минут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Савичевы умерли. Умерли вс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Таня»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Содержимое 5" descr="0_3e22_41fdc774_XL.jpeg"/>
          <p:cNvPicPr/>
          <p:nvPr/>
        </p:nvPicPr>
        <p:blipFill>
          <a:blip r:embed="rId1"/>
          <a:stretch/>
        </p:blipFill>
        <p:spPr>
          <a:xfrm>
            <a:off x="685800" y="380880"/>
            <a:ext cx="579132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leningrad"/>
          <p:cNvPicPr/>
          <p:nvPr/>
        </p:nvPicPr>
        <p:blipFill>
          <a:blip r:embed="rId1"/>
          <a:stretch/>
        </p:blipFill>
        <p:spPr>
          <a:xfrm>
            <a:off x="0" y="0"/>
            <a:ext cx="3502080" cy="487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9895417b14c"/>
          <p:cNvPicPr/>
          <p:nvPr/>
        </p:nvPicPr>
        <p:blipFill>
          <a:blip r:embed="rId2"/>
          <a:stretch/>
        </p:blipFill>
        <p:spPr>
          <a:xfrm>
            <a:off x="2819520" y="3195720"/>
            <a:ext cx="5562360" cy="36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73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пуговица от маминой кофты. А в печи две булк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теплого хлеба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разрывали немецкие овчарки, а он кричал: «Сына уведите, сына уведите, чтоб не смотрел…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не сразу умерла. Она долго лежала на траве, открыла глаза: «Ира мне надо тебе рассказать…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, я не хочу… - мне казалось, что если она мне скажет то, что хочет, она умрет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не прячьте мою маму в  ямку она проснется, и мы с ней пойдем домой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вытолкнули на улицу, и я бежала за ним по снегу босиком и кричала: «Папочка, папочка». А бабушка причитала дома: «Где же бог, куда он прячется?». Бабушка не смогла пережить такое горе, плакала все тише и тише и через две недели умерла на печке, а рядом спала я и обнимала ее, мертвую. В доме больше никого не осталось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С.Алексиевич «Последние свидетели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21760" cy="97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4d733978f33d8494ce5a55a048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14800" cy="362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омощь.jpg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075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V_Leningrade"/>
          <p:cNvPicPr/>
          <p:nvPr/>
        </p:nvPicPr>
        <p:blipFill>
          <a:blip r:embed="rId2"/>
          <a:stretch/>
        </p:blipFill>
        <p:spPr>
          <a:xfrm>
            <a:off x="304920" y="3657600"/>
            <a:ext cx="4190760" cy="296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 тех, что родился в 1923- 1924 гг.и в 1941 году со школьной скамьи шагнул на фронт к концу войны в живых осталось только 3 %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о время Второй мировой войны всего в мире погибло 13 миллионов де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гибали дети – Граждане мир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1\Desktop\победа.jpg"/>
          <p:cNvPicPr/>
          <p:nvPr/>
        </p:nvPicPr>
        <p:blipFill>
          <a:blip r:embed="rId1"/>
          <a:stretch/>
        </p:blipFill>
        <p:spPr>
          <a:xfrm>
            <a:off x="430200" y="1055520"/>
            <a:ext cx="3429000" cy="28958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20492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8c891"/>
                </a:solidFill>
                <a:latin typeface="Arial"/>
              </a:rPr>
              <a:t>Но помнят они и по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C:\Users\1\Desktop\победа 2.jpg"/>
          <p:cNvPicPr/>
          <p:nvPr/>
        </p:nvPicPr>
        <p:blipFill>
          <a:blip r:embed="rId2"/>
          <a:stretch/>
        </p:blipFill>
        <p:spPr>
          <a:xfrm>
            <a:off x="5281560" y="1055520"/>
            <a:ext cx="3328920" cy="289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День победы.jpg"/>
          <p:cNvPicPr/>
          <p:nvPr/>
        </p:nvPicPr>
        <p:blipFill>
          <a:blip r:embed="rId3"/>
          <a:stretch/>
        </p:blipFill>
        <p:spPr>
          <a:xfrm>
            <a:off x="243828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Пусть дети повсюду встречают рассве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Улыбкой ясной спокойно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Давайте же скажем все вместе –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, нет,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 – грабительским война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яркое сол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инее небо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вет в око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колосья хлеба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Мы нарисуем осенние листья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Школ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Руче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Друзей беспокойны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И зачеркнем нашей общей кистью выстрелы, взрывы, огонь и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Ты рожден человеком, но Человеком надо стать. Настоящий человек-это дух человеческий, который выражается в убеждениях и чувствах, воле и стремлениях, в отношении к людям и к самому себе, в способности любить и ненавидеть, видеть в мечте идеал и бороться за него». В.А.Сухомлинск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920" y="35812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началась, мы были еще дети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лась война, мы уже взрослые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.Коротаева, 14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Picture 5" descr="nevinn_10"/>
          <p:cNvPicPr/>
          <p:nvPr/>
        </p:nvPicPr>
        <p:blipFill>
          <a:blip r:embed="rId1"/>
          <a:stretch/>
        </p:blipFill>
        <p:spPr>
          <a:xfrm>
            <a:off x="4800600" y="3332160"/>
            <a:ext cx="3505320" cy="288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1\Desktop\сухомлинский 2.jpg"/>
          <p:cNvPicPr/>
          <p:nvPr/>
        </p:nvPicPr>
        <p:blipFill>
          <a:blip r:embed="rId2"/>
          <a:stretch/>
        </p:blipFill>
        <p:spPr>
          <a:xfrm>
            <a:off x="55440" y="125280"/>
            <a:ext cx="3907080" cy="2998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4419720" y="839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На любви к детям держится м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54"/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7760" y="304560"/>
            <a:ext cx="563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Такою все дышало тишин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Что вся земля еще спала, казалос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Кто знал, что между миром и войно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Всего каких-то пять минут осталось.</a:t>
            </a: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С.Щипач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7" descr="80350cbddde9"/>
          <p:cNvPicPr/>
          <p:nvPr/>
        </p:nvPicPr>
        <p:blipFill>
          <a:blip r:embed="rId1"/>
          <a:srcRect l="6278" t="5145" r="0" b="5524"/>
          <a:stretch/>
        </p:blipFill>
        <p:spPr>
          <a:xfrm>
            <a:off x="685800" y="2286000"/>
            <a:ext cx="51814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1\Desktop\Война.jpg"/>
          <p:cNvPicPr/>
          <p:nvPr/>
        </p:nvPicPr>
        <p:blipFill>
          <a:blip r:embed="rId2"/>
          <a:stretch/>
        </p:blipFill>
        <p:spPr>
          <a:xfrm>
            <a:off x="838080" y="1870200"/>
            <a:ext cx="762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есть на свете дороже дете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Что есть  самое дорогое  у любого народа? У любой матер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бенок, прошедший через ужас войны, ребенок л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Кто возвратит ему детств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кто подсчитает, сколько детей убивает войн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таких были тысячи. Что помнят они? Что могут рассказать? Что могли понять, увидеть, запомнить де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176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\Desktop\дети 323.jpg"/>
          <p:cNvPicPr/>
          <p:nvPr/>
        </p:nvPicPr>
        <p:blipFill>
          <a:blip r:embed="rId2"/>
          <a:stretch/>
        </p:blipFill>
        <p:spPr>
          <a:xfrm>
            <a:off x="15228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1\Desktop\дети война.jpg"/>
          <p:cNvPicPr/>
          <p:nvPr/>
        </p:nvPicPr>
        <p:blipFill>
          <a:blip r:embed="rId3"/>
          <a:stretch/>
        </p:blipFill>
        <p:spPr>
          <a:xfrm>
            <a:off x="5943600" y="1077840"/>
            <a:ext cx="3048120" cy="265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1\Desktop\31108.jpg"/>
          <p:cNvPicPr/>
          <p:nvPr/>
        </p:nvPicPr>
        <p:blipFill>
          <a:blip r:embed="rId4"/>
          <a:stretch/>
        </p:blipFill>
        <p:spPr>
          <a:xfrm>
            <a:off x="3657600" y="1143000"/>
            <a:ext cx="192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1\Desktop\i_181.jpg"/>
          <p:cNvPicPr/>
          <p:nvPr/>
        </p:nvPicPr>
        <p:blipFill>
          <a:blip r:embed="rId5"/>
          <a:stretch/>
        </p:blipFill>
        <p:spPr>
          <a:xfrm>
            <a:off x="331920" y="4064040"/>
            <a:ext cx="3630600" cy="239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1\Desktop\4275994_orig.jpg"/>
          <p:cNvPicPr/>
          <p:nvPr/>
        </p:nvPicPr>
        <p:blipFill>
          <a:blip r:embed="rId6"/>
          <a:stretch/>
        </p:blipFill>
        <p:spPr>
          <a:xfrm>
            <a:off x="5105520" y="4064040"/>
            <a:ext cx="3611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1\Desktop\img28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fot837"/>
          <p:cNvPicPr/>
          <p:nvPr/>
        </p:nvPicPr>
        <p:blipFill>
          <a:blip r:embed="rId1"/>
          <a:stretch/>
        </p:blipFill>
        <p:spPr>
          <a:xfrm>
            <a:off x="504720" y="2567160"/>
            <a:ext cx="3381480" cy="335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68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блокадном Ленинграде оставалось 2 млн. 544 тысяч жителей, в том числе 400 тысяч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3886200" y="25146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Ленинградские дети», - когда звучали эти слова, у человека сжималось серд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о звучало как пароль – «ленинградские дети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Komp</cp:lastModifiedBy>
  <dcterms:modified xsi:type="dcterms:W3CDTF">2018-09-10T08:48:37Z</dcterms:modified>
  <cp:revision>24</cp:revision>
  <dc:subject/>
  <dc:title>МЕТОДИЧЕСКАЯ РАЗРАБОТКА ВНЕКЛАССНОГО МЕРОПРИЯТИЯ   «Детство, опаленное войной»</dc:title>
</cp:coreProperties>
</file>