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F39-0666-4080-9A99-F0C76626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76D-421F-4156-8F26-C9722C09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264-C6D2-4221-9047-9B24F195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37B-F80C-4147-9F10-DC40CD1E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904-4E70-4860-9820-367EA677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7B7-D25E-4FA1-9552-91824024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636-5F53-4E83-BA26-EAE0DD19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045-27E8-44BA-B92D-8B3DE09B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D28-D2E3-4A1D-9765-09311818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92C-896A-4A8A-9D27-C75D0B0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F97-595A-47D8-A972-FAF5433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66F-13B8-4E61-8479-19ED13D2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5973-B79E-45A7-A913-4343423E6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В таблице зашифровано 14 названий физических величин. Найд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1628640"/>
          <a:ext cx="8785440" cy="4941720"/>
        </p:xfrm>
        <a:graphic>
          <a:graphicData uri="http://schemas.openxmlformats.org/drawingml/2006/table">
            <a:tbl>
              <a:tblPr/>
              <a:tblGrid>
                <a:gridCol w="798480"/>
                <a:gridCol w="798480"/>
                <a:gridCol w="798840"/>
                <a:gridCol w="798480"/>
                <a:gridCol w="798480"/>
                <a:gridCol w="798480"/>
                <a:gridCol w="798480"/>
                <a:gridCol w="798480"/>
                <a:gridCol w="798480"/>
                <a:gridCol w="798480"/>
                <a:gridCol w="80028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0:13:21Z</dcterms:created>
  <dc:creator>Семья</dc:creator>
  <dc:description/>
  <dc:language>en-US</dc:language>
  <cp:lastModifiedBy>Семья</cp:lastModifiedBy>
  <dcterms:modified xsi:type="dcterms:W3CDTF">2012-04-19T10:13:21Z</dcterms:modified>
  <cp:revision>1</cp:revision>
  <dc:subject/>
  <dc:title>Слайд 1</dc:title>
</cp:coreProperties>
</file>