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81149-4347-4099-94DA-F6D58306E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6705A-A793-4B7D-B21B-8CC75C3FF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7D131-6C38-4912-AF07-F8E2DC0A2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B130B-3374-4D72-BF6E-8DCCF325A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1F907-27E2-4602-A7A3-0B55487AD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4EA24-3AB0-45B7-93C6-A3D59D6F1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DFBFE-68A8-432E-89C6-095C26C50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D96B1-7854-43CA-9B85-A4E9C009C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43B3E-DCB8-4AC1-B305-9B2DE734F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ED0C9-6073-4A7D-B405-BCDE63D08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DFF17-6679-4552-B773-C24FC7837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A4A20-EEB8-4FB6-8082-EA1881E23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6AF1E-B512-4799-B517-AE3C2C544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B6187-DFE2-4E5C-B47B-05A2A834D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6DB6E-1E35-4069-B36A-0574C7F7A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74BDC-38E3-4D72-A879-6B8CD5806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7F796-6559-4334-9CB3-5ABCF3639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B30E9-B58F-459B-BFDA-A48D3C27C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F0F1B-8C61-41E7-ACEB-A044ABE9E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044DB-4B46-4288-AA6B-1753F21D6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319F3-33FC-4B74-8E48-8E3FF1FF5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70C42-95BE-44C9-8DCA-E3E35FF06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FB918-4D72-43DA-BAC6-6EF0A165D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4298F-2F7F-4B93-B855-4F6BA4083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Freeform 3"/>
          <p:cNvSpPr/>
          <p:nvPr/>
        </p:nvSpPr>
        <p:spPr>
          <a:xfrm>
            <a:off x="-9360" y="4489560"/>
            <a:ext cx="5754600" cy="2368440"/>
          </a:xfrm>
          <a:prstGeom prst="pie">
            <a:avLst/>
          </a:pr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Freeform 4"/>
          <p:cNvSpPr/>
          <p:nvPr/>
        </p:nvSpPr>
        <p:spPr>
          <a:xfrm>
            <a:off x="0" y="3817800"/>
            <a:ext cx="8164440" cy="3019680"/>
          </a:xfrm>
          <a:prstGeom prst="pie">
            <a:avLst/>
          </a:pr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Freeform 5"/>
          <p:cNvSpPr/>
          <p:nvPr/>
        </p:nvSpPr>
        <p:spPr>
          <a:xfrm>
            <a:off x="0" y="3146400"/>
            <a:ext cx="9144000" cy="3691080"/>
          </a:xfrm>
          <a:prstGeom prst="pie">
            <a:avLst/>
          </a:pr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Freeform 6"/>
          <p:cNvSpPr/>
          <p:nvPr/>
        </p:nvSpPr>
        <p:spPr>
          <a:xfrm>
            <a:off x="0" y="2460600"/>
            <a:ext cx="9144000" cy="2497320"/>
          </a:xfrm>
          <a:prstGeom prst="pie">
            <a:avLst/>
          </a:pr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0" y="1793880"/>
            <a:ext cx="9144000" cy="1539720"/>
          </a:xfrm>
          <a:prstGeom prst="pie">
            <a:avLst/>
          </a:pr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>
            <a:off x="0" y="-20520"/>
            <a:ext cx="9144000" cy="1682640"/>
          </a:xfrm>
          <a:prstGeom prst="pie">
            <a:avLst/>
          </a:pr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Freeform 9"/>
          <p:cNvSpPr/>
          <p:nvPr/>
        </p:nvSpPr>
        <p:spPr>
          <a:xfrm>
            <a:off x="0" y="-20520"/>
            <a:ext cx="8388360" cy="1068120"/>
          </a:xfrm>
          <a:prstGeom prst="pie">
            <a:avLst/>
          </a:pr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Freeform 10"/>
          <p:cNvSpPr/>
          <p:nvPr/>
        </p:nvSpPr>
        <p:spPr>
          <a:xfrm>
            <a:off x="0" y="-20520"/>
            <a:ext cx="4578480" cy="453960"/>
          </a:xfrm>
          <a:prstGeom prst="pie">
            <a:avLst/>
          </a:pr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F4FBC-2269-42BA-B605-F6D86D4E8DD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Freeform 3"/>
          <p:cNvSpPr/>
          <p:nvPr/>
        </p:nvSpPr>
        <p:spPr>
          <a:xfrm>
            <a:off x="-9360" y="4489560"/>
            <a:ext cx="5754600" cy="2368440"/>
          </a:xfrm>
          <a:prstGeom prst="pie">
            <a:avLst/>
          </a:pr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Freeform 4"/>
          <p:cNvSpPr/>
          <p:nvPr/>
        </p:nvSpPr>
        <p:spPr>
          <a:xfrm>
            <a:off x="0" y="3817800"/>
            <a:ext cx="8164440" cy="3019680"/>
          </a:xfrm>
          <a:prstGeom prst="pie">
            <a:avLst/>
          </a:pr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Freeform 5"/>
          <p:cNvSpPr/>
          <p:nvPr/>
        </p:nvSpPr>
        <p:spPr>
          <a:xfrm>
            <a:off x="0" y="3146400"/>
            <a:ext cx="9144000" cy="3691080"/>
          </a:xfrm>
          <a:prstGeom prst="pie">
            <a:avLst/>
          </a:pr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Freeform 6"/>
          <p:cNvSpPr/>
          <p:nvPr/>
        </p:nvSpPr>
        <p:spPr>
          <a:xfrm>
            <a:off x="0" y="2460600"/>
            <a:ext cx="9144000" cy="2497320"/>
          </a:xfrm>
          <a:prstGeom prst="pie">
            <a:avLst/>
          </a:pr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Freeform 7"/>
          <p:cNvSpPr/>
          <p:nvPr/>
        </p:nvSpPr>
        <p:spPr>
          <a:xfrm>
            <a:off x="0" y="1793880"/>
            <a:ext cx="9144000" cy="1539720"/>
          </a:xfrm>
          <a:prstGeom prst="pie">
            <a:avLst/>
          </a:pr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Freeform 8"/>
          <p:cNvSpPr/>
          <p:nvPr/>
        </p:nvSpPr>
        <p:spPr>
          <a:xfrm>
            <a:off x="0" y="-20520"/>
            <a:ext cx="9144000" cy="1682640"/>
          </a:xfrm>
          <a:prstGeom prst="pie">
            <a:avLst/>
          </a:pr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Freeform 9"/>
          <p:cNvSpPr/>
          <p:nvPr/>
        </p:nvSpPr>
        <p:spPr>
          <a:xfrm>
            <a:off x="0" y="-20520"/>
            <a:ext cx="8388360" cy="1068120"/>
          </a:xfrm>
          <a:prstGeom prst="pie">
            <a:avLst/>
          </a:pr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Freeform 10"/>
          <p:cNvSpPr/>
          <p:nvPr/>
        </p:nvSpPr>
        <p:spPr>
          <a:xfrm>
            <a:off x="0" y="-20520"/>
            <a:ext cx="4578480" cy="453960"/>
          </a:xfrm>
          <a:prstGeom prst="pie">
            <a:avLst/>
          </a:pr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03C20-7809-4A83-A7A1-C1DE16445B87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84872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К 100-летию учреждения звания </a:t>
            </a: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ГЕРОЙ ТРУДА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М. Т. Калашников - дважды Герой Социалистического труда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14" name="Picture 3" descr="C:\Documents and Settings\1\Рабочий стол\для презентации\калашников 2жды.jpg"/>
          <p:cNvPicPr/>
          <p:nvPr/>
        </p:nvPicPr>
        <p:blipFill>
          <a:blip r:embed="rId1"/>
          <a:stretch/>
        </p:blipFill>
        <p:spPr>
          <a:xfrm>
            <a:off x="1447920" y="2362320"/>
            <a:ext cx="6172200" cy="409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343040" y="2285640"/>
            <a:ext cx="4800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ru-RU" sz="5400" spc="-1" strike="noStrike">
                <a:solidFill>
                  <a:srgbClr val="ffffff"/>
                </a:solidFill>
                <a:latin typeface="Times New Roman"/>
              </a:rPr>
              <a:t>А.Д. Сахаров</a:t>
            </a: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, </a:t>
            </a:r>
            <a:br>
              <a:rPr sz="4400"/>
            </a:b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нобелевский лауреат, 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трижды Герой Социалистического труда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16" name="Picture 3" descr="C:\Documents and Settings\1\Рабочий стол\для презентации\АД Сахаров трижды, нобелевский лауреат.jpg"/>
          <p:cNvPicPr/>
          <p:nvPr/>
        </p:nvPicPr>
        <p:blipFill>
          <a:blip r:embed="rId1"/>
          <a:stretch/>
        </p:blipFill>
        <p:spPr>
          <a:xfrm>
            <a:off x="380880" y="609480"/>
            <a:ext cx="383076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267080" y="2666520"/>
            <a:ext cx="4191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Ю.В. Никулин.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18" name="Picture 3" descr="C:\Documents and Settings\1\Рабочий стол\для презентации\Никулин.jpg"/>
          <p:cNvPicPr/>
          <p:nvPr/>
        </p:nvPicPr>
        <p:blipFill>
          <a:blip r:embed="rId1"/>
          <a:stretch/>
        </p:blipFill>
        <p:spPr>
          <a:xfrm>
            <a:off x="457200" y="533520"/>
            <a:ext cx="34923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214280" y="16430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ru-RU" sz="40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Звание "Ветеран труда "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1800"/>
            </a:b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2" descr="C:\Users\leha\Downloads\гер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2" descr="C:\Users\leha\Downloads\img7.jpg"/>
          <p:cNvPicPr/>
          <p:nvPr/>
        </p:nvPicPr>
        <p:blipFill>
          <a:blip r:embed="rId1"/>
          <a:stretch/>
        </p:blipFill>
        <p:spPr>
          <a:xfrm>
            <a:off x="285840" y="214200"/>
            <a:ext cx="8477280" cy="63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3808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В 1927 году учреждено Звание</a:t>
            </a:r>
            <a:br>
              <a:rPr sz="4400"/>
            </a:b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 "Герой Труда"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C:\Users\leha\Downloads\стах.jpg"/>
          <p:cNvPicPr/>
          <p:nvPr/>
        </p:nvPicPr>
        <p:blipFill>
          <a:blip r:embed="rId1"/>
          <a:stretch/>
        </p:blipFill>
        <p:spPr>
          <a:xfrm>
            <a:off x="-19080" y="880920"/>
            <a:ext cx="9182160" cy="509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212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Звание Героя Социалистического Труда учреждено в1938 году.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212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ffffff"/>
                </a:solidFill>
                <a:uFillTx/>
                <a:latin typeface="Times New Roman"/>
              </a:rPr>
              <a:t>Герою Социалистического Труда вручаются</a:t>
            </a: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: 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Орден Ленина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06" name="Picture 6" descr="E:\герой труда\o1b.gif"/>
          <p:cNvPicPr/>
          <p:nvPr/>
        </p:nvPicPr>
        <p:blipFill>
          <a:blip r:embed="rId1"/>
          <a:stretch/>
        </p:blipFill>
        <p:spPr>
          <a:xfrm>
            <a:off x="2895480" y="2133720"/>
            <a:ext cx="319428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Золотая медаль «Серп и молот»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08" name="Picture 3" descr="E:\герой труда\GSTb.gif"/>
          <p:cNvPicPr/>
          <p:nvPr/>
        </p:nvPicPr>
        <p:blipFill>
          <a:blip r:embed="rId1"/>
          <a:stretch/>
        </p:blipFill>
        <p:spPr>
          <a:xfrm>
            <a:off x="3200400" y="1905120"/>
            <a:ext cx="2430360" cy="442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Грамота Президиума Верховного Совета СССР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10" name="Picture 3" descr="C:\Documents and Settings\1\Рабочий стол\для презентации\грамота.gif"/>
          <p:cNvPicPr/>
          <p:nvPr/>
        </p:nvPicPr>
        <p:blipFill>
          <a:blip r:embed="rId1"/>
          <a:stretch/>
        </p:blipFill>
        <p:spPr>
          <a:xfrm>
            <a:off x="0" y="2666880"/>
            <a:ext cx="9144000" cy="26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" descr="C:\Users\leha\Downloads\Лебедев_Евгений_Иванович_(шлифовщик).jpg"/>
          <p:cNvPicPr/>
          <p:nvPr/>
        </p:nvPicPr>
        <p:blipFill>
          <a:blip r:embed="rId1"/>
          <a:stretch/>
        </p:blipFill>
        <p:spPr>
          <a:xfrm>
            <a:off x="642960" y="357120"/>
            <a:ext cx="4102200" cy="6210360"/>
          </a:xfrm>
          <a:prstGeom prst="rect">
            <a:avLst/>
          </a:prstGeom>
          <a:ln w="0">
            <a:noFill/>
          </a:ln>
        </p:spPr>
      </p:pic>
      <p:sp>
        <p:nvSpPr>
          <p:cNvPr id="112" name="Прямоугольник 3"/>
          <p:cNvSpPr/>
          <p:nvPr/>
        </p:nvSpPr>
        <p:spPr>
          <a:xfrm>
            <a:off x="4786200" y="357120"/>
            <a:ext cx="4357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оветский рабочий оборонной промышленности, шлифовщик Кировского завода, Герой Социалистического Труда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1T14:07:37Z</dcterms:created>
  <dc:creator>КосмоSova</dc:creator>
  <dc:description/>
  <dc:language>en-US</dc:language>
  <cp:lastModifiedBy>leha rykov</cp:lastModifiedBy>
  <dcterms:modified xsi:type="dcterms:W3CDTF">2021-03-28T16:45:18Z</dcterms:modified>
  <cp:revision>45</cp:revision>
  <dc:subject/>
  <dc:title>К 80-летию учреждения звания   ГЕРОЙ СОЦИАЛИСТИЧЕСКОГО ТРУДА</dc:title>
</cp:coreProperties>
</file>