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54D-F1BC-404A-B392-F2147D58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4AD-BB88-484E-B77A-A3EB7F03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795-13BD-43C5-90B7-E87465AD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866-9356-4F1B-AF83-CFD317A6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0325D-3C84-409E-9731-12D02483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A63AE-B3B0-4528-B729-59AC691E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43321-9505-47EC-A9DD-47B3DF69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020B5-C6C6-43F9-B028-8AB5BAEE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BCAB0-4B3C-44A8-A5FB-691DB548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10B8E-68A5-4A04-A147-AC7895F9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F9ECB-69AC-42FE-8288-8E19365D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CBB-234D-4D40-A691-B3F20772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12800-9835-4FBF-A5E7-35A03CD3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10650-A36B-476B-9661-17A70630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A17CB-F906-4381-B423-69300A61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57D40-5B82-45DF-B479-D5EC40F7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FF494-9EA7-4BFD-A8BB-1C86A6A2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F3B1-A521-4008-9581-94792213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F4C-6908-4878-920C-ED5C72D5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1FE-B88A-4D6E-964B-83E1264E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0FCB-8055-4C51-B42A-F3DBE9CB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A52-8A3D-4E03-A6DE-47D24F27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BB9-2834-4131-B2CF-2423CA01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BEB-1AD3-41C9-A227-23E8FAE7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8D8F-E26A-476E-8C2A-8CF38C68A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B306-4008-426D-852E-08D7187547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Прямоугольник 5" descr=""/>
          <p:cNvPicPr/>
          <p:nvPr/>
        </p:nvPicPr>
        <p:blipFill>
          <a:blip r:embed="rId2"/>
          <a:stretch/>
        </p:blipFill>
        <p:spPr>
          <a:xfrm>
            <a:off x="523800" y="1444680"/>
            <a:ext cx="816948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Рисунок 1" descr="http://i.artfile.ru/3536x3534_402397_%5bwww.ArtFile.ru%5d.jpg"/>
          <p:cNvPicPr/>
          <p:nvPr/>
        </p:nvPicPr>
        <p:blipFill>
          <a:blip r:embed="rId1"/>
          <a:stretch/>
        </p:blipFill>
        <p:spPr>
          <a:xfrm>
            <a:off x="304920" y="30492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6794640" y="4648320"/>
            <a:ext cx="2009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Garamond"/>
              </a:rPr>
              <a:t>ДЕВОЧКА 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Garamond"/>
              </a:rPr>
              <a:t>ПЕРСИКАМИ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Рисунок 1" descr="http://img827.imageshack.us/img827/9316/1chicadelaluzdelsolretr.jpg"/>
          <p:cNvPicPr/>
          <p:nvPr/>
        </p:nvPicPr>
        <p:blipFill>
          <a:blip r:embed="rId1"/>
          <a:stretch/>
        </p:blipFill>
        <p:spPr>
          <a:xfrm>
            <a:off x="228600" y="152280"/>
            <a:ext cx="5410080" cy="64771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6095880" y="4419720"/>
            <a:ext cx="25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Девушк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освещенна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солнц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Рисунок 1" descr="http://img1.liveinternet.ru/images/attach/c/8/102/732/102732263_Valentin_Serov.jpg"/>
          <p:cNvPicPr/>
          <p:nvPr/>
        </p:nvPicPr>
        <p:blipFill>
          <a:blip r:embed="rId1"/>
          <a:stretch/>
        </p:blipFill>
        <p:spPr>
          <a:xfrm>
            <a:off x="914400" y="228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2804400" y="6019920"/>
            <a:ext cx="413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Garamond"/>
              </a:rPr>
              <a:t>Похищение Европы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Рисунок 1" descr="http://900igr.net/datas/izo/Portrety-CHekhova/0007-007-I.Levitan-1860-1900.jpg"/>
          <p:cNvPicPr/>
          <p:nvPr/>
        </p:nvPicPr>
        <p:blipFill>
          <a:blip r:embed="rId1"/>
          <a:stretch/>
        </p:blipFill>
        <p:spPr>
          <a:xfrm>
            <a:off x="457200" y="304920"/>
            <a:ext cx="8396280" cy="602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Рисунок 1" descr="http://img.aucland.ru/market-photos/358/PqAquT.jpg"/>
          <p:cNvPicPr/>
          <p:nvPr/>
        </p:nvPicPr>
        <p:blipFill>
          <a:blip r:embed="rId1"/>
          <a:stretch/>
        </p:blipFill>
        <p:spPr>
          <a:xfrm>
            <a:off x="1219320" y="533520"/>
            <a:ext cx="7010280" cy="54100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4042440" y="6095880"/>
            <a:ext cx="14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Мар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1" descr="http://content.foto.mail.ru/mail/chestova/_blogs/i-1188.jpg"/>
          <p:cNvPicPr/>
          <p:nvPr/>
        </p:nvPicPr>
        <p:blipFill>
          <a:blip r:embed="rId1"/>
          <a:stretch/>
        </p:blipFill>
        <p:spPr>
          <a:xfrm>
            <a:off x="533520" y="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2100960" y="6095880"/>
            <a:ext cx="4635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Garamond"/>
              </a:rPr>
              <a:t>ВЕСНА. БОЛЬШАЯ ВОДА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Рисунок 1" descr="http://mamatanya.narod.ru/x-gallery/images/levitan-3.gif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51814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"/>
          <p:cNvSpPr/>
          <p:nvPr/>
        </p:nvSpPr>
        <p:spPr>
          <a:xfrm>
            <a:off x="2559600" y="5791320"/>
            <a:ext cx="37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ЗОЛОТАЯ ОСЕН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Рисунок 1" descr="http://802351.info/uploads/posts/2012-01/thumbs/article_13264636828.jpeg"/>
          <p:cNvPicPr/>
          <p:nvPr/>
        </p:nvPicPr>
        <p:blipFill>
          <a:blip r:embed="rId1"/>
          <a:stretch/>
        </p:blipFill>
        <p:spPr>
          <a:xfrm>
            <a:off x="685800" y="457200"/>
            <a:ext cx="4648320" cy="5638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5880240" y="3581280"/>
            <a:ext cx="2782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ВАСНЕЦОВ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ВИКТОР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МИХАЙЛОВИЧ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(1848 – 1926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Рисунок 1" descr="http://tainy.net/wp-content/uploads/2010/11/1266993421_image0011.jpg"/>
          <p:cNvPicPr/>
          <p:nvPr/>
        </p:nvPicPr>
        <p:blipFill>
          <a:blip r:embed="rId1"/>
          <a:stretch/>
        </p:blipFill>
        <p:spPr>
          <a:xfrm>
            <a:off x="990720" y="380880"/>
            <a:ext cx="7391160" cy="5410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"/>
          <p:cNvSpPr/>
          <p:nvPr/>
        </p:nvSpPr>
        <p:spPr>
          <a:xfrm>
            <a:off x="3160080" y="6019920"/>
            <a:ext cx="2364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Garamond"/>
              </a:rPr>
              <a:t>БОГАТЫРИ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Рисунок 1" descr="http://i.flamber.ru/files/st1/1163446826/1300533709_o.jpg"/>
          <p:cNvPicPr/>
          <p:nvPr/>
        </p:nvPicPr>
        <p:blipFill>
          <a:blip r:embed="rId1"/>
          <a:stretch/>
        </p:blipFill>
        <p:spPr>
          <a:xfrm>
            <a:off x="914400" y="228600"/>
            <a:ext cx="5257800" cy="6400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6881040" y="4267080"/>
            <a:ext cx="182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Garamond"/>
              </a:rPr>
              <a:t>КОВЕР –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Garamond"/>
              </a:rPr>
              <a:t>САМОЛЕТ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АННОТАЦИЯ ПРОЕКТ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 рубеже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X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веков окружавший человека мир, стремительно изменяясь, приобрел существенно новые черты. Россия проходила стадию всесторонней модернизации. Слово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«модерн»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потребляли и для обозначения явлений</a:t>
            </a: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ультуры: говорили 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дернизме-совокуп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овых художественн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правлений. Веч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пор в искусстве -между нов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привычным, устоявшим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стиг в это врем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райней остроты.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Рисунок 1" descr="http://www.artsait.ru/art/k/korovinSA/img/1sm.jpg"/>
          <p:cNvPicPr/>
          <p:nvPr/>
        </p:nvPicPr>
        <p:blipFill>
          <a:blip r:embed="rId1"/>
          <a:stretch/>
        </p:blipFill>
        <p:spPr>
          <a:xfrm>
            <a:off x="1143000" y="228600"/>
            <a:ext cx="4762440" cy="6477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3"/>
          <p:cNvSpPr/>
          <p:nvPr/>
        </p:nvSpPr>
        <p:spPr>
          <a:xfrm>
            <a:off x="6085440" y="2666880"/>
            <a:ext cx="27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КОРОВИН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КОНСТАНТИН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АЛЕКСЕЕВИЧ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(1861 – 1939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Рисунок 1" descr="http://s46.radikal.ru/i111/0807/a6/8b8658fad370.jpg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257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3680640" y="5943600"/>
            <a:ext cx="170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Garamond"/>
              </a:rPr>
              <a:t>ЗИМОЙ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Рисунок 1" descr="http://paintingart.ru/joomgallery/details/___3/__4/___32/_20111012_1354897190.jpg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53337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1838520" y="5867280"/>
            <a:ext cx="5065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Garamond"/>
              </a:rPr>
              <a:t>МОСКВОРЕЦКИЙ МОСТ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сканирование0001"/>
          <p:cNvPicPr/>
          <p:nvPr/>
        </p:nvPicPr>
        <p:blipFill>
          <a:blip r:embed="rId1"/>
          <a:stretch/>
        </p:blipFill>
        <p:spPr>
          <a:xfrm>
            <a:off x="0" y="3124080"/>
            <a:ext cx="2819520" cy="37339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ВЕСТНИК ИНЫХ МИРОВ</a:t>
            </a:r>
            <a:br>
              <a:rPr sz="36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352320" y="1294920"/>
            <a:ext cx="5334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рубель, воплотивший в своей судьбе новый тип  художни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ворца-демиурга и прозревате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йн жизни, поражал зрите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амобытной манерой письм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казавшейся пророческой для нов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удожественных направл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рубель, как всякий предтеч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л одинок. Он вызывал недоум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 человек и возму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 художник. Лишь в конце жизн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гда Врубель был погружен в мра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смертного, к нему пришло призн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04920" y="1981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3e3ff"/>
                </a:solidFill>
                <a:latin typeface="Arial"/>
              </a:rPr>
              <a:t>М. А. Врубе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ЗНАМЕНИТЫЕ</a:t>
            </a:r>
            <a:r>
              <a:rPr b="1" i="1" lang="ru-RU" sz="4400" spc="-1" strike="noStrike">
                <a:solidFill>
                  <a:srgbClr val="e3e3ff"/>
                </a:solidFill>
                <a:latin typeface="Monotype Corsiva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РАБО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12193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Н - персонаж древнегречес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ифологии, но в полот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худож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метно «обрусел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н, божество ле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полей, выступает ее символо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5364000" y="2743200"/>
            <a:ext cx="378000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62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46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86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8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30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420"/>
                            </p:stCondLst>
                            <p:childTnLst>
                              <p:par>
                                <p:cTn id="3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Monotype Corsiva"/>
              </a:rPr>
              <a:t>«СИМВОЛ НАШЕГО ВРЕМЕНИ»</a:t>
            </a:r>
            <a:br>
              <a:rPr sz="3600"/>
            </a:br>
            <a:r>
              <a:rPr b="0" i="1" lang="ru-RU" sz="36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i="1" lang="ru-RU" sz="2900" spc="-1" strike="noStrike">
                <a:solidFill>
                  <a:srgbClr val="e3e3ff"/>
                </a:solidFill>
                <a:latin typeface="Arial"/>
              </a:rPr>
              <a:t>А. Блок</a:t>
            </a:r>
            <a:endParaRPr b="0" lang="en-US" sz="2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21896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ЕМОН,- по слова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художника – дух 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только злобны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колько страдающ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скорбный, при эт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ух властны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чавый. Влюблен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картину Блок писал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и день, ни ночь, ни мра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и свет».</a:t>
            </a:r>
            <a:r>
              <a:rPr b="0" lang="ru-RU" sz="2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сканирование0003"/>
          <p:cNvPicPr/>
          <p:nvPr/>
        </p:nvPicPr>
        <p:blipFill>
          <a:blip r:embed="rId1"/>
          <a:stretch/>
        </p:blipFill>
        <p:spPr>
          <a:xfrm>
            <a:off x="5105520" y="2362320"/>
            <a:ext cx="4038480" cy="289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14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78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42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14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86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38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22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98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90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Рисунок 1" descr="http://img0.liveinternet.ru/images/attach/c/2/68/696/68696996_e4ebd4e6.jpg"/>
          <p:cNvPicPr/>
          <p:nvPr/>
        </p:nvPicPr>
        <p:blipFill>
          <a:blip r:embed="rId1"/>
          <a:stretch/>
        </p:blipFill>
        <p:spPr>
          <a:xfrm>
            <a:off x="914400" y="304920"/>
            <a:ext cx="4648320" cy="6324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5972760" y="3048120"/>
            <a:ext cx="3068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Garamond"/>
              </a:rPr>
              <a:t>ЦАРЕВНА –ЛЕБЕДЬ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1" descr="http://900igr.net/datas/mkhk/Arkhitektura-nachala-20-veka/0008-008-Nachalo-XX-veka.jp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Рисунок 1" descr="http://www.mskvd.ru/images/moscow_arhitektors/449px-fyodor_schechtel_1890th-05032012.jpg"/>
          <p:cNvPicPr/>
          <p:nvPr/>
        </p:nvPicPr>
        <p:blipFill>
          <a:blip r:embed="rId1"/>
          <a:stretch/>
        </p:blipFill>
        <p:spPr>
          <a:xfrm>
            <a:off x="685800" y="457200"/>
            <a:ext cx="4276800" cy="57056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5992200" y="2590920"/>
            <a:ext cx="1858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aramond"/>
              </a:rPr>
              <a:t>Шехтель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aramond"/>
              </a:rPr>
              <a:t>Федор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aramond"/>
              </a:rPr>
              <a:t>Осипович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Рисунок 1" descr="http://900igr.net/datas/mkhk/Arkhitektura-nachala-20-veka/0011-011-Modern.jpg"/>
          <p:cNvPicPr/>
          <p:nvPr/>
        </p:nvPicPr>
        <p:blipFill>
          <a:blip r:embed="rId1"/>
          <a:stretch/>
        </p:blipFill>
        <p:spPr>
          <a:xfrm>
            <a:off x="219240" y="249120"/>
            <a:ext cx="8772480" cy="63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Цели и задачи мероприятия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066320"/>
            <a:ext cx="8302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знакомить учащихся с достижениями русской культуры начала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XX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двести учащихся к пониманию су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удожественных ценностей новых        направлений в искусстве начал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ировать умения делать вывод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мотно излагать матери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4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4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6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6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Рисунок 1" descr="http://f12.ifotki.info/org/c7cb00293294c5e29d6b1c633ffaa0ffbc5f6c140900195.jpg"/>
          <p:cNvPicPr/>
          <p:nvPr/>
        </p:nvPicPr>
        <p:blipFill>
          <a:blip r:embed="rId1"/>
          <a:stretch/>
        </p:blipFill>
        <p:spPr>
          <a:xfrm>
            <a:off x="131760" y="457200"/>
            <a:ext cx="8894880" cy="5943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Рисунок 1" descr="http://www.kolohouse.ru/uploads/cgstories/id36/fomin_02.jpg"/>
          <p:cNvPicPr/>
          <p:nvPr/>
        </p:nvPicPr>
        <p:blipFill>
          <a:blip r:embed="rId1"/>
          <a:stretch/>
        </p:blipFill>
        <p:spPr>
          <a:xfrm>
            <a:off x="304920" y="0"/>
            <a:ext cx="5410080" cy="76201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6172200" y="2895480"/>
            <a:ext cx="28195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Фомин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Иван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Александрович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Рисунок 1" descr="http://900igr.net/datas/mkhk/Arkhitektura-nachala-20-veka/0015-015-Neoklassitsizm.jpg"/>
          <p:cNvPicPr/>
          <p:nvPr/>
        </p:nvPicPr>
        <p:blipFill>
          <a:blip r:embed="rId1"/>
          <a:stretch/>
        </p:blipFill>
        <p:spPr>
          <a:xfrm>
            <a:off x="380880" y="380880"/>
            <a:ext cx="8331480" cy="6248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Рисунок 1" descr="http://i0.newstube.ru/1788808l"/>
          <p:cNvPicPr/>
          <p:nvPr/>
        </p:nvPicPr>
        <p:blipFill>
          <a:blip r:embed="rId1"/>
          <a:stretch/>
        </p:blipFill>
        <p:spPr>
          <a:xfrm>
            <a:off x="-762120" y="609480"/>
            <a:ext cx="6477120" cy="50292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3"/>
          <p:cNvSpPr/>
          <p:nvPr/>
        </p:nvSpPr>
        <p:spPr>
          <a:xfrm>
            <a:off x="6332400" y="2743200"/>
            <a:ext cx="2632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Щусев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Алексей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Викторович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(1873-1949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Рисунок 1" descr="http://www.kulichki.com/zritel/2008/image2008/kazan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468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1144800" y="6095880"/>
            <a:ext cx="66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Garamond"/>
              </a:rPr>
              <a:t>КАЗАНСКИЙ ВОКЗАЛ В МОСКВЕ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1" name="Рисунок 1" descr="http://www.aif.by/media/k2/items/cache/46d119b0fce0513a8f317451330a29c3_L.jpg"/>
          <p:cNvPicPr/>
          <p:nvPr/>
        </p:nvPicPr>
        <p:blipFill>
          <a:blip r:embed="rId1"/>
          <a:stretch/>
        </p:blipFill>
        <p:spPr>
          <a:xfrm>
            <a:off x="380880" y="380880"/>
            <a:ext cx="5715000" cy="43056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790920" y="5486400"/>
            <a:ext cx="769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aramond"/>
              </a:rPr>
              <a:t>Рахманинов Сергей Васильевич (1873 – 1943)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Рисунок 1" descr="http://cdn.haberfx.net/images/photo/164/8.jpg"/>
          <p:cNvPicPr/>
          <p:nvPr/>
        </p:nvPicPr>
        <p:blipFill>
          <a:blip r:embed="rId1"/>
          <a:stretch/>
        </p:blipFill>
        <p:spPr>
          <a:xfrm>
            <a:off x="838080" y="533520"/>
            <a:ext cx="4419720" cy="5779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6264720" y="3048120"/>
            <a:ext cx="259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Стравинский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Игорь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Федорович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(1882 – 1971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Рисунок 1" descr="http://s3.timetoast.com/public/uploads/photos/3105179/imagesCA7337FD.jpg?1351869199"/>
          <p:cNvPicPr/>
          <p:nvPr/>
        </p:nvPicPr>
        <p:blipFill>
          <a:blip r:embed="rId1"/>
          <a:stretch/>
        </p:blipFill>
        <p:spPr>
          <a:xfrm>
            <a:off x="326880" y="380880"/>
            <a:ext cx="4488120" cy="58676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5958720" y="2819520"/>
            <a:ext cx="23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Прокофьев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Сергей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Сергеевич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(1891 – 1953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ff"/>
                </a:solidFill>
                <a:latin typeface="Monotype Corsiva"/>
              </a:rPr>
              <a:t>Вывод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еребряный век рассматривается как период расцвета духовной культуры, котор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чался в 90 годы XIX в. и завершился в конце 20-х годов XX в. Оставил колоссальный след в развитии российского общ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300"/>
                            </p:stCondLst>
                            <p:childTnLst>
                              <p:par>
                                <p:cTn id="4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3e3ff"/>
                </a:solidFill>
                <a:latin typeface="Monotype Corsiva"/>
              </a:rPr>
              <a:t>Наука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69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изик П.Н.Лебедев создал первую в России физическую шкалу, а также сделал открытия в области физики вол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усский учёный В.И. Вернадский создал учения о биосфере и ноосфере, которые заложили основу современной эколо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изиолог И.П.Павлов создал учение о высшей нервной деятельности. В 1904г. Ему была присвоена Нобелевская премия за исследования в физиологии пищевар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яд выдающихся открытий в практике самолётостроения сделал Н.Е.Жуков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j0305257"/>
          <p:cNvPicPr/>
          <p:nvPr/>
        </p:nvPicPr>
        <p:blipFill>
          <a:blip r:embed="rId1"/>
          <a:stretch/>
        </p:blipFill>
        <p:spPr>
          <a:xfrm>
            <a:off x="7380360" y="4653000"/>
            <a:ext cx="1368360" cy="206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Monotype Corsiva"/>
              </a:rPr>
              <a:t>Кинематограф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Picture 2" descr="latvia1d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чало ХХ века – время появления нового вида искусства – кинематографии. К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914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году в России было построено около 4тыс. кинотеат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В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908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г. была снята первая русская игровая картина «Стенька Разин и княжна», а в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911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г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. – первый фильм «Оборона Севастопол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В России появляются деятели кино с мировыми именами: реж. Я.Протазан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актёры И. Мозжухин, В.Максимов и многие друг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2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7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9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6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63416"/>
                </a:solidFill>
                <a:latin typeface="Monotype Corsiva"/>
              </a:rPr>
              <a:t>Музы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Picture 2" descr="italija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чало ХХ века – время творческого взлёта великих русских композиторов А.Скрябина, И. Стравинского, С.Рахманинова и др.</a:t>
            </a:r>
            <a:r>
              <a:rPr b="1" i="1" lang="ru-RU" sz="2800" spc="-1" strike="noStrike">
                <a:solidFill>
                  <a:srgbClr val="00ffcc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cc"/>
                </a:solidFill>
                <a:latin typeface="Bookman Old Style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В своём творчестве они пытались вырваться из рамок традиционной классической музыки, создать новые музыкальные формы и образ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Значительного расцвета достигла музыкальная исполнительная куль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Самыми знаменитыми людьми того времени были  Ф.Шаляпин, А.Нежданова, Л.Собинова, И.Ерш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4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0460259157105087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Monotype Corsiva"/>
              </a:rPr>
              <a:t>Литератур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620280"/>
            <a:ext cx="914400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ccecff"/>
                </a:solidFill>
                <a:latin typeface="Comic Sans MS"/>
              </a:rPr>
              <a:t>Среди поэтов начала ХХ века происходит деление на символистов, акмеистов и футурис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ecff"/>
                </a:solidFill>
                <a:uFillTx/>
                <a:latin typeface="Comic Sans MS"/>
              </a:rPr>
              <a:t>Символисты</a:t>
            </a:r>
            <a:r>
              <a:rPr b="1" i="1" lang="ru-RU" sz="2400" spc="-1" strike="noStrike">
                <a:solidFill>
                  <a:srgbClr val="ccecff"/>
                </a:solidFill>
                <a:latin typeface="Comic Sans MS"/>
              </a:rPr>
              <a:t> были против оскудения русской поэзии. Они считали, что поэт наделён способностью приобщения к запредельному миру посредством художественных симво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ecff"/>
                </a:solidFill>
                <a:uFillTx/>
                <a:latin typeface="Comic Sans MS"/>
              </a:rPr>
              <a:t>Акмеисты </a:t>
            </a:r>
            <a:r>
              <a:rPr b="1" i="1" lang="ru-RU" sz="2400" spc="-1" strike="noStrike">
                <a:solidFill>
                  <a:srgbClr val="ccecff"/>
                </a:solidFill>
                <a:latin typeface="Comic Sans MS"/>
              </a:rPr>
              <a:t>(от греч. «акме» - высшая степень чего-либо) призывали возвратить словам их традиционный смысл, освободив от символических толкований. Для акмеистов (Н.Гумилёв, А.Ахматова, М. Зенкевич, В. Нарбут) были характерны красота и отточенность художественного с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ecff"/>
                </a:solidFill>
                <a:uFillTx/>
                <a:latin typeface="Comic Sans MS"/>
              </a:rPr>
              <a:t>Футуристы</a:t>
            </a:r>
            <a:r>
              <a:rPr b="1" i="1" lang="ru-RU" sz="2400" spc="-1" strike="noStrike">
                <a:solidFill>
                  <a:srgbClr val="ccecff"/>
                </a:solidFill>
                <a:latin typeface="Comic Sans MS"/>
              </a:rPr>
              <a:t> (В. Хлебников, Д. Бурлюк, В.Маяковский, Е. Гуро) утверждали своё право на конструирование новых слов. Футуристы ориентировались также на вызывающую антиэстетичность.</a:t>
            </a:r>
            <a:r>
              <a:rPr b="1" i="1" lang="ru-RU" sz="2400" spc="-1" strike="noStrike">
                <a:solidFill>
                  <a:srgbClr val="99cc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7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7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7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700"/>
                            </p:stCondLst>
                            <p:childTnLst>
                              <p:par>
                                <p:cTn id="1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4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4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4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100"/>
                            </p:stCondLst>
                            <p:childTnLst>
                              <p:par>
                                <p:cTn id="1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8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8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8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900"/>
                            </p:stCondLst>
                            <p:childTnLst>
                              <p:par>
                                <p:cTn id="1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9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3"/>
          <p:cNvSpPr txBox="1"/>
          <p:nvPr/>
        </p:nvSpPr>
        <p:spPr>
          <a:xfrm>
            <a:off x="380880" y="914400"/>
            <a:ext cx="838224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c0c0c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Живопись серебряного века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solidFill>
                <a:srgbClr val="c0c0c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-394200" y="2895480"/>
            <a:ext cx="1003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удожников Серебряного века интересовали не глоба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торические события, а эстетика русского быт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тонченная красота древнерусского узорочья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никновенным лиризмом, глубоким понимани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воеобразия жизненного укла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мечены лучшие полотна художник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Рисунок 1" descr="http://img0.liveinternet.ru/images/attach/c/1/56/585/56585457_Portret_hudozhnika_Surikova.jpg"/>
          <p:cNvPicPr/>
          <p:nvPr/>
        </p:nvPicPr>
        <p:blipFill>
          <a:blip r:embed="rId1"/>
          <a:stretch/>
        </p:blipFill>
        <p:spPr>
          <a:xfrm>
            <a:off x="380880" y="304920"/>
            <a:ext cx="4419720" cy="59436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5821920" y="2362320"/>
            <a:ext cx="3321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СЕРОВ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ВАЛЕНТИН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АЛЕКСАНДРОВИЧ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(1865 -1911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da</cp:lastModifiedBy>
  <dcterms:modified xsi:type="dcterms:W3CDTF">2014-03-01T18:46:0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