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0CD-0E46-4A6C-BE31-2AC7C95D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FBA-3775-4F04-BB53-44110C44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B5A-594D-4CCD-896F-F3ABB811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978-0F95-4D91-B0D0-D2E3E1F9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29AB-3603-4A59-B0E7-88030D43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AB0D-AE87-49A4-93B8-56534022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D77E-21F8-4B39-9844-9BE51FB5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49A0-DAB5-46E3-8917-6076BF93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599A-3409-4AD3-8242-7009D3C1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CE52-FC29-4F43-8AF2-9AFA3277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296C-7064-4DFA-B609-86C7075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49D-BA4C-472B-A38F-5649F75A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F8C9-464F-4A17-B231-8BC9A58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0ABD-EBF9-45C2-AE88-BDF71FD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C5DD-C235-44EA-BD56-752FB0C9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DB87-21D0-4E87-83EC-501A0141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BDF6-8FC5-4290-8146-CEE315D0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BC7-66A0-4E40-AC7C-FF72AD77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AB6-427D-41D2-A296-F6DD7F76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D83-7212-4FAA-BC59-2B133F38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7D3-2034-499F-BB09-963FBF70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8E0-454F-450A-BB11-179E568F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84F-1E69-40F9-9451-6241C81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962-1E76-41ED-BF56-03955278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581F-9CAC-4971-A824-1D4A833E0C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615A-832A-48E4-92F3-F8FDA8DCE6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Жанры журналистик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Comic Sans MS"/>
              </a:rPr>
              <a:t>Отче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808000"/>
                </a:solidFill>
                <a:latin typeface="Comic Sans MS"/>
              </a:rPr>
              <a:t>По заданию редакции журналист рассказывает о том, что видел и слышал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мер материала зависит от значимости событ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Общий отчет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одержит изложение фактов в хронологическом порядке,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тематически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освещает 1-2 наиболее важных вопроса, </a:t>
            </a:r>
            <a:r>
              <a:rPr b="0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отчет с комментария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изложение основных событий и высказывание своей точки зр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66"/>
                </a:solidFill>
                <a:latin typeface="Comic Sans MS"/>
              </a:rPr>
              <a:t>Обозрение</a:t>
            </a:r>
            <a:r>
              <a:rPr b="0" lang="ru-RU" sz="4400" spc="-1" strike="noStrike">
                <a:solidFill>
                  <a:srgbClr val="ff66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жнейшие события жизни города, завода, школы и т.п. за определенный период (сводки, итог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https://pbs.twimg.com/media/DUxYimZX0AADnDx.jpg"/>
          <p:cNvPicPr/>
          <p:nvPr/>
        </p:nvPicPr>
        <p:blipFill>
          <a:blip r:embed="rId1"/>
          <a:stretch/>
        </p:blipFill>
        <p:spPr>
          <a:xfrm>
            <a:off x="3765600" y="2895480"/>
            <a:ext cx="463068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00"/>
                </a:solidFill>
                <a:latin typeface="Comic Sans MS"/>
              </a:rPr>
              <a:t>Аналитические жанры.</a:t>
            </a:r>
            <a:br>
              <a:rPr sz="4800"/>
            </a:b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Корреспонденци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808000"/>
                </a:solidFill>
                <a:latin typeface="Comic Sans MS"/>
              </a:rPr>
              <a:t>Аналитические жанры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это широкое полотно фактов, которые трактуются, обобщаются, служат материалом для постановки определенной проблемы и ее всестороннего рассмотрения и истолко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Корреспонденц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анализирует группу фактов. Это делается с помощью описания фактов, их анализа и соответствующих вывод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Comic Sans MS"/>
              </a:rPr>
              <a:t>Стать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обобщение и анализ фактов и явлений. Если в корреспонденции события рассматриваются от частного к общему, то в статье все происходит наоборот – от общего к частному. Статья берет факты в глобальных масштабах, анализирует их, поднимая до научно обоснованных вывод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f0000"/>
                </a:solidFill>
                <a:latin typeface="Comic Sans MS"/>
              </a:rPr>
              <a:t>Художественно-публицистические жанры.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Очерк</a:t>
            </a:r>
            <a:r>
              <a:rPr b="1" lang="ru-RU" sz="4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66"/>
                </a:solidFill>
                <a:latin typeface="Comic Sans MS"/>
              </a:rPr>
              <a:t>Художественно-публицистические жанры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здесь конкретный документальный факт отходит на второй план. Главным становится авторское впечатление от факта, события, авторская мысл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Очерк – близость к малым формам художественной литературы – рассказу или короткой повести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кументальность воспроизведения              материала. Очерки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Comic Sans MS"/>
              </a:rPr>
              <a:t>событийны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путевы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Comic Sans MS"/>
              </a:rPr>
              <a:t>Фельетон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993300"/>
                </a:solidFill>
                <a:latin typeface="Comic Sans MS"/>
              </a:rPr>
              <a:t>Это литературный материал, проникнутый духом острой злободневной критики, с особыми приемами изложения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ля фельетона обязательны: живость, легкость, образность, юмор, ирония, насмешк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Comic Sans MS"/>
              </a:rPr>
              <a:t>Фельетон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6" descr="https://ic.pics.livejournal.com/larisa_yarusova/38658094/105877/105877_original.jpg"/>
          <p:cNvPicPr/>
          <p:nvPr/>
        </p:nvPicPr>
        <p:blipFill>
          <a:blip r:embed="rId1"/>
          <a:stretch/>
        </p:blipFill>
        <p:spPr>
          <a:xfrm>
            <a:off x="685800" y="990720"/>
            <a:ext cx="7686720" cy="5508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Comic Sans MS"/>
              </a:rPr>
              <a:t>Фельетон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http://www.gruzovikpress.ru/article/9885-avtomobili-fiat-v-sssr-20-30-h-godov-neizvestnye-fiaty/Images/05f.jpg"/>
          <p:cNvPicPr/>
          <p:nvPr/>
        </p:nvPicPr>
        <p:blipFill>
          <a:blip r:embed="rId1"/>
          <a:stretch/>
        </p:blipFill>
        <p:spPr>
          <a:xfrm>
            <a:off x="1600200" y="887400"/>
            <a:ext cx="5851440" cy="59706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Comic Sans MS"/>
              </a:rPr>
              <a:t>Фельетон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2" descr="https://transphoto.org/photo/03/84/08/384081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8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Памфле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382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Злободневное публицистическое произведение, цель и пафос которого – конкретное гражданское, преимущественно социально-политическое обличи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1523520"/>
            <a:ext cx="6718320" cy="441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cc"/>
                </a:solidFill>
                <a:uFillTx/>
                <a:latin typeface="Comic Sans MS"/>
              </a:rPr>
              <a:t>Жанр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– это группа произведений, характеризующаяся теми или иными сюжетными и стилистическими признаками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Comic Sans MS"/>
              </a:rPr>
              <a:t>Фельетон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5" descr="https://present5.com/presentation/3/39765002_333920050.pdf-img/39765002_333920050.pdf-20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Памфле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0" descr="http://900igr.net/up/datai/94645/0023-011-.jpg"/>
          <p:cNvPicPr/>
          <p:nvPr/>
        </p:nvPicPr>
        <p:blipFill>
          <a:blip r:embed="rId1"/>
          <a:stretch/>
        </p:blipFill>
        <p:spPr>
          <a:xfrm>
            <a:off x="152280" y="1066680"/>
            <a:ext cx="883944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Памфле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2" descr="https://3.bp.blogspot.com/-5P5PeC_37ew/U1BmEaOQz8I/AAAAAAAAMNM/d9rJ61f78Z8/s1600/v_suteev_smena_1924_19-20.JPG"/>
          <p:cNvPicPr/>
          <p:nvPr/>
        </p:nvPicPr>
        <p:blipFill>
          <a:blip r:embed="rId1"/>
          <a:stretch/>
        </p:blipFill>
        <p:spPr>
          <a:xfrm>
            <a:off x="4572000" y="990720"/>
            <a:ext cx="3787920" cy="5181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://www.omskcity.ru/images/periodika/gazeta/shvabra/06_1959-12_shvabra_1.jpg"/>
          <p:cNvPicPr/>
          <p:nvPr/>
        </p:nvPicPr>
        <p:blipFill>
          <a:blip r:embed="rId2"/>
          <a:stretch/>
        </p:blipFill>
        <p:spPr>
          <a:xfrm>
            <a:off x="457200" y="998640"/>
            <a:ext cx="3848040" cy="5554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Выразительные средства журналистских жанров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илистические фигу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7"/>
          <p:cNvSpPr/>
          <p:nvPr/>
        </p:nvSpPr>
        <p:spPr>
          <a:xfrm rot="945600">
            <a:off x="1800360" y="2329920"/>
            <a:ext cx="637920" cy="1032120"/>
          </a:xfrm>
          <a:prstGeom prst="upDownArrow">
            <a:avLst>
              <a:gd name="adj1" fmla="val 50000"/>
              <a:gd name="adj2" fmla="val 3575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8"/>
          <p:cNvSpPr/>
          <p:nvPr/>
        </p:nvSpPr>
        <p:spPr>
          <a:xfrm rot="20958000">
            <a:off x="6316560" y="2360160"/>
            <a:ext cx="725760" cy="1077840"/>
          </a:xfrm>
          <a:prstGeom prst="upDownArrow">
            <a:avLst>
              <a:gd name="adj1" fmla="val 50000"/>
              <a:gd name="adj2" fmla="val 3138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219320" y="350532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Фигуры мыс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5867280" y="36576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Фигуры сл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23623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99"/>
                </a:solidFill>
                <a:latin typeface="Comic Sans MS"/>
              </a:rPr>
              <a:t>Фигуры мысл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2666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"/>
          <p:cNvSpPr/>
          <p:nvPr/>
        </p:nvSpPr>
        <p:spPr>
          <a:xfrm flipH="1">
            <a:off x="1600200" y="3200400"/>
            <a:ext cx="533520" cy="38088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6705720" y="3124080"/>
            <a:ext cx="457200" cy="4572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4419720" y="3124080"/>
            <a:ext cx="0" cy="5335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3429000" y="35812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ксюморо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095880" y="35812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иторический вопро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10"/>
          <p:cNvSpPr/>
          <p:nvPr/>
        </p:nvSpPr>
        <p:spPr>
          <a:xfrm flipH="1" flipV="1">
            <a:off x="1905120" y="2133720"/>
            <a:ext cx="380880" cy="38088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1"/>
          <p:cNvSpPr/>
          <p:nvPr/>
        </p:nvSpPr>
        <p:spPr>
          <a:xfrm flipV="1">
            <a:off x="4419720" y="2057400"/>
            <a:ext cx="0" cy="5335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6553080" y="2133720"/>
            <a:ext cx="304920" cy="4572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457200" y="15238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молча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3352680" y="1523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дво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248520" y="1523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нверс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6"/>
          <p:cNvSpPr/>
          <p:nvPr/>
        </p:nvSpPr>
        <p:spPr>
          <a:xfrm flipH="1" flipV="1">
            <a:off x="2666880" y="1447560"/>
            <a:ext cx="533520" cy="11430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5410080" y="1447560"/>
            <a:ext cx="381240" cy="11430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066680" y="838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араллелиз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105520" y="838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рад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20"/>
          <p:cNvSpPr/>
          <p:nvPr/>
        </p:nvSpPr>
        <p:spPr>
          <a:xfrm flipH="1">
            <a:off x="2514600" y="3124080"/>
            <a:ext cx="533520" cy="16002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21"/>
          <p:cNvSpPr/>
          <p:nvPr/>
        </p:nvSpPr>
        <p:spPr>
          <a:xfrm>
            <a:off x="5638680" y="3124080"/>
            <a:ext cx="457200" cy="16002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1219320" y="48006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5029200" y="4800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200"/>
                </a:solidFill>
                <a:latin typeface="Comic Sans MS"/>
              </a:rPr>
              <a:t>Жанры журналистик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24080" y="1676520"/>
            <a:ext cx="2286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Аналитически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рреспонденц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ть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зо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ценз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28600" y="1447920"/>
            <a:ext cx="2590920" cy="65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Информационны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рон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рисов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тервью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ч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утевые замет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зр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портаж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5"/>
          <p:cNvSpPr/>
          <p:nvPr/>
        </p:nvSpPr>
        <p:spPr>
          <a:xfrm rot="1273800">
            <a:off x="1149120" y="871200"/>
            <a:ext cx="304560" cy="533520"/>
          </a:xfrm>
          <a:prstGeom prst="downArrow">
            <a:avLst>
              <a:gd name="adj1" fmla="val 70241"/>
              <a:gd name="adj2" fmla="val 7872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3962520" y="914400"/>
            <a:ext cx="304560" cy="533520"/>
          </a:xfrm>
          <a:prstGeom prst="downArrow">
            <a:avLst>
              <a:gd name="adj1" fmla="val 70241"/>
              <a:gd name="adj2" fmla="val 7872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7"/>
          <p:cNvSpPr/>
          <p:nvPr/>
        </p:nvSpPr>
        <p:spPr>
          <a:xfrm rot="20713200">
            <a:off x="6629400" y="914040"/>
            <a:ext cx="304920" cy="533520"/>
          </a:xfrm>
          <a:prstGeom prst="downArrow">
            <a:avLst>
              <a:gd name="adj1" fmla="val 70241"/>
              <a:gd name="adj2" fmla="val 7863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791320" y="1828800"/>
            <a:ext cx="2666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Художественно-публицистически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р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ельето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амфл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0" descr="C:\Users\антон\Documents\Школа 69\Трансляция 2020-2021\s1200.png"/>
          <p:cNvPicPr/>
          <p:nvPr/>
        </p:nvPicPr>
        <p:blipFill>
          <a:blip r:embed="rId1"/>
          <a:stretch/>
        </p:blipFill>
        <p:spPr>
          <a:xfrm>
            <a:off x="4800600" y="38098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512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Информационные жанры.</a:t>
            </a:r>
            <a:br>
              <a:rPr sz="2800"/>
            </a:br>
            <a:r>
              <a:rPr b="1" lang="ru-RU" sz="3600" spc="-1" strike="noStrike">
                <a:solidFill>
                  <a:srgbClr val="ff6600"/>
                </a:solidFill>
                <a:latin typeface="Comic Sans MS"/>
              </a:rPr>
              <a:t>Замет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из распространенных газетных и журнальных жанров. </a:t>
            </a:r>
            <a:r>
              <a:rPr b="0" i="1" lang="ru-RU" sz="2800" spc="-1" strike="noStrike">
                <a:solidFill>
                  <a:srgbClr val="bf0000"/>
                </a:solidFill>
                <a:latin typeface="Comic Sans MS"/>
              </a:rPr>
              <a:t>Это небольшой рассказ журналиста об одном факте, схваченном, как говорят, «на лету».</a:t>
            </a:r>
            <a:r>
              <a:rPr b="0" lang="ru-RU" sz="2800" spc="-1" strike="noStrike">
                <a:solidFill>
                  <a:srgbClr val="b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метить, то есть «поставить метку», - значит выделить что-то из окружающего, из встреченного и обратить на это внимание. Она может рассказать о положительном или отрицательном опыте, выражать чье-то мнение, чьи-то чувства. Разновидности материалов этого жанра –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заметка информацион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заметка-благодарност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 u="sng">
                <a:solidFill>
                  <a:srgbClr val="ffb800"/>
                </a:solidFill>
                <a:uFillTx/>
                <a:latin typeface="Comic Sans MS"/>
              </a:rPr>
              <a:t>заметка-просьб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</a:rPr>
              <a:t>обращени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5499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omic Sans MS"/>
              </a:rPr>
              <a:t>Информаци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Это короткий рассказ журналиста об одном событи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адача информации правдиво и своевременно осветить это событие. В информации журналист как бы отвечает на вопросы: что, где, когда, с кем и как произошло. Следует обратить внимание на то, что информация неразрывно связана с оперативностью. Новость должна быть сообщена своевременно, иначе она теряет свою ценность и будет никому неинтерес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Comic Sans MS"/>
              </a:rPr>
              <a:t>Интервью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Это разговор журналиста с собеседником, предназначенный для средств массовой информации, журналист задает вопросы, а собеседник на них отвечает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Журналист – интервьюёр, собеседник – интервьюируемый. Интервьюировать – взять интервью у кого-либо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го виды: </a:t>
            </a:r>
            <a:r>
              <a:rPr b="0" lang="ru-RU" sz="2800" spc="-1" strike="noStrike" u="sng">
                <a:solidFill>
                  <a:srgbClr val="a50021"/>
                </a:solidFill>
                <a:uFillTx/>
                <a:latin typeface="Comic Sans MS"/>
              </a:rPr>
              <a:t>интервью-монолог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</a:rPr>
              <a:t>интервью-диалог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 u="sng">
                <a:solidFill>
                  <a:srgbClr val="9900cc"/>
                </a:solidFill>
                <a:uFillTx/>
                <a:latin typeface="Comic Sans MS"/>
              </a:rPr>
              <a:t>интервью-зарисовк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800" spc="-1" strike="noStrike" u="sng">
                <a:solidFill>
                  <a:srgbClr val="ffb800"/>
                </a:solidFill>
                <a:uFillTx/>
                <a:latin typeface="Comic Sans MS"/>
              </a:rPr>
              <a:t>коллективное интервь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Comic Sans MS"/>
              </a:rPr>
              <a:t>анке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blest68"/>
          <p:cNvPicPr/>
          <p:nvPr/>
        </p:nvPicPr>
        <p:blipFill>
          <a:blip r:embed="rId1"/>
          <a:stretch/>
        </p:blipFill>
        <p:spPr>
          <a:xfrm>
            <a:off x="5638680" y="5322960"/>
            <a:ext cx="2210040" cy="1535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Comic Sans MS"/>
              </a:rPr>
              <a:t>Зарисовк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bf0000"/>
                </a:solidFill>
                <a:latin typeface="Comic Sans MS"/>
              </a:rPr>
              <a:t>Это художественное описание природы, обстановки, человека, мыслей. Короткий, живой и образный рассказ о своих впечатлениях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ель зарисовки – объективно отражать жизнь, а в жизни есть не только хорошее, но и плохое. Необходимо уметь не только быстро схватывать существо дела, но и видеть людей, вещи в их настоящем свете. Такая драгоценная для каждого газетчика способность называется наблюдательность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Comic Sans MS"/>
              </a:rPr>
              <a:t>Репортаж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Наглядное представление о том или ином событии через непосредственное восприятие журналиста – очевидца или действующего лиц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иды репортажа: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событий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тематически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 u="sng">
                <a:solidFill>
                  <a:srgbClr val="993300"/>
                </a:solidFill>
                <a:uFillTx/>
                <a:latin typeface="Comic Sans MS"/>
              </a:rPr>
              <a:t>постановоч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0000"/>
                </a:solidFill>
                <a:latin typeface="Comic Sans MS"/>
              </a:rPr>
              <a:t>Репортер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журналист, который пишет или делает репортажи. Главная задача репортера – помочь читателю или зрителю очень ярко, образно воссоздать картину происходящег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Хороший репортер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внимательный наблюдатель, который с помощью точно подмеченных деталей, верно переданных ощущений и ассоциаций создает в репортаже               так называемый    «эффект присутствия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Хроник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акт без подробносте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Небольшие (порой из одной – двух фраз) сообщения, не имеющие заголовка. Чаще публикуются подборк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9" descr="http://storage.inovaco.ru/media/cache/d8/b9/ca/d4/9f/8a/d8b9cad49f8aa4ccd11b1bf5a2c1b81e.jpg"/>
          <p:cNvPicPr/>
          <p:nvPr/>
        </p:nvPicPr>
        <p:blipFill>
          <a:blip r:embed="rId1"/>
          <a:srcRect l="0" t="17707" r="57659" b="2569"/>
          <a:stretch/>
        </p:blipFill>
        <p:spPr>
          <a:xfrm>
            <a:off x="5181480" y="76320"/>
            <a:ext cx="2438640" cy="6664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</cp:lastModifiedBy>
  <dcterms:modified xsi:type="dcterms:W3CDTF">2020-11-15T18:20:2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