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792-ABA1-4223-B1EA-62747FA7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807-62E9-4C7E-9D73-48F0482E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C568-7269-47B4-9510-5FD066D5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11F2-2B6B-4DE9-8DEA-F52C0082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8A5C-F8B5-4A89-A35A-67AC87F8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87AC-8B15-4CB0-B1F7-303E6DC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D7B5-1A18-48E9-89B5-8949D25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F981-350B-4CC6-A3DB-AD44FEF4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C4B0-9CCD-4912-9B7F-04FC15B0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2F07-FD85-4C83-BA04-09492733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AAD6-D3FA-4E58-8913-5BD9D1C6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B6D1-0E62-4EC1-96D7-49B367FE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EF3-346A-4CE5-BA26-EF68C99C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EEC4-B7F6-4351-B45E-80D1C456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2A5E-BB31-4517-8065-A4F6EDBC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A534-2A57-46C8-B905-75506CF7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6DF7-56F9-4C8B-B556-1BA99E0F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2A12-8B1D-4027-A63F-D48462F7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D72A7-4A82-4BA1-9CB4-366E880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3836-5C54-4903-B9F0-75635480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0DEB8-206B-4050-A1A6-3E6D2EC7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4DFCD-6264-4BAD-B755-88AF288E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822A-8009-4CDE-B19B-212030F1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FA5-C847-4FA7-A052-339541CB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F6A15-BE41-496F-8FAB-130A9A16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9F98-DA33-4D52-B594-88DD1C51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8FDA8-3E2F-45F0-8D61-489F535B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96163-E3E9-4646-89B5-342E6E76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6709-B018-42AA-B562-6B7DBD1F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71C5-31BA-40EE-9BC8-6F387361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BFBBC-FE57-4006-9CD6-B2A284C5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B5160-EF63-4289-B65F-DDEF54F2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1118A-598A-4141-AC54-D60ACF33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79852-D66D-458C-8357-8002558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4D5E-D2C4-48E2-91B2-947D3BAD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144D8-4D09-4AC4-BEF1-ACA5CE36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0F028-4584-4190-9DEA-542E0EC3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B642-909C-464E-98DC-EB432DD7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DC993-72A8-4A97-A67F-B0A094B1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5936B-31C3-4747-BF54-F9B5A455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4E696-3A99-4ED3-B395-A1E3044D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699B9-7C00-4916-AF21-EA06BB21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787B2-258E-418C-AD2A-52273B4E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F22A7-8B5E-45AA-AB50-F9104676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9AC5B-651D-4906-9D1F-CD20BAB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708F-EE7D-4B4C-8A8D-4A69518E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A3D64-B581-4B6C-8315-EBD9FCF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16110-57D8-4A54-97A0-9EA4AA76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844AA-4FCC-4B15-9E89-CE86EBD9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BEF2-0BB7-49A3-A589-D8C16687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5EA37-4FE2-4D36-B2D2-CF4CD16F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64821-7EFE-4F50-988F-B3D4C8FA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4C514-9FCA-4C7C-83CC-1FD40DF7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BB604-E772-4B3D-8BA9-CC923282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9C2E-E494-46A0-B0E2-9C5E1AD1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65156-44D1-4A75-A127-18C40865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29F4-E2AC-4EB7-A791-067D744F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97AC-9CC3-4D5B-A2D8-8FBC8649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0C934-C687-411A-9C41-7274BD67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81E89-3105-4FC6-8257-3DC5EA93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40A1-8336-4E5B-811A-B397A434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050F-47CA-4D24-8D8F-5AFE5675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EF0D3-B741-4BD1-8F12-B5809686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C42F3-5FA5-4FDA-A8F8-5EE1170B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6DD81-CE69-4295-8E74-2D4779DF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69D93-52DA-425D-A943-61F37CBA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E8DA8-AEB9-4A0A-9699-DB54E997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4912-F9DD-4069-ADBC-AF88D4AE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9B05-7A5D-4DF7-8506-D5331D92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6375F-496D-4762-85A0-DE501702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D010-1128-4864-9958-DBE0ACD5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F8109-BE1E-4CBD-8EA7-CA687CB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61207-0FA0-4BA1-B314-CDFF016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0B140-EE57-4092-932D-DBF2FEA5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37D1A-5F67-4340-99C8-98C593BB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4FF92-C33C-41B8-B02D-F923C332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3C016-4085-4229-8D06-C113C729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BF4B2-2BA4-45F1-9104-637BF01D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4C6D-981A-469B-B946-63EDEF26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E8D23-CFD0-4012-8C6B-6BA187F7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36751-A94B-4384-8F64-F0E9B42A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75514-51FA-4082-BFE5-1676EE86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61DA8-0021-4CA7-A274-D4FCDE4D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44656-FA13-4CE2-B795-36C198D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E923A-C325-42AB-A133-DAF0F7E0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8CA48-7B24-4346-9B60-C79D5C4E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489FE-2F10-464D-9F90-789A8C7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7993C-DD2D-406B-AF9A-F513230F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FE505-623F-4A10-BCBE-0068A9CD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B0AB-7E2B-4D26-82BC-E2591C52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7454F-5187-4A6F-8B32-C9BD0BEB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59D93-DDD2-4A29-9A90-85F202C9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5698A-0E48-46EB-8C90-155CCFFD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3CF85-EB29-40BD-BFDC-A73A793E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CC527-3D51-40A3-8ACB-B4214F3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95FFC-086E-484B-BBBC-8782A598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19EF6-7628-4C87-9DF0-5917CA6C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06AA7-81FA-49A4-9813-502DE7D4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3986E-91C7-41D2-B45E-98D74A1A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798C7-739C-4F89-9ECD-53FA631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0BF5-EB27-4DA0-843D-1183C57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68386-5BA3-4F0C-B56D-7BA2A194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60B18-9828-434E-8318-A4C9BF7F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EA1F0-8418-4B31-B8CB-BEE9A286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7B1CD-BD54-4C6D-8B56-6299E238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A675C-3D45-46D9-B56D-2D216A81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DBE00-119A-4248-AE92-42FF53B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5365B-4425-4138-A6AF-173945D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119E-A7AE-42E8-9038-A3CF56CE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8C5B6-BEEB-459E-A7EB-6D5E7273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DF493-0009-43B0-BA47-CC4FB672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D05-52FC-4A5B-8D41-8B64CD29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19B5-F595-411F-BB5C-F7961AC6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F973B-3D85-4734-8427-3CA04917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D8F84-BA06-4BE2-8390-CB828FC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3388F-730D-48E7-8D1C-7AD06390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2F51A-3D8B-4266-896D-7E74DCEC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FE2B1-2499-4B08-9781-CE70DE29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DE84B-03EC-45BE-9135-76C12DDA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C3E7F-6E89-4E6C-AAE2-5496C1F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3D7CF-068D-42BA-9F8E-0DC2A938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5F795-405E-4281-BA93-7845682D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C0FD9-01CA-489E-8603-61245297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14AC-9194-4858-B135-9BBCE0B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9CE3F-AD34-4B77-90E0-A839DD19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D1A3D-B021-4252-920C-B782F804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601C5-AA6F-49D8-BE82-56CB248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36269-47A7-44C0-8F58-F7048866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68779-D924-44A2-9DFC-0E7F43AE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938AC-349C-4F20-A781-1F4E0891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7434F-25A6-4C15-BAD6-70CFB4B4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F0C93-E1CB-43B4-99E1-6BE059C5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D00EC-673A-45CE-B9D0-BAC35B1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365AE-30CF-4BE4-A241-EBB95711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63F9-475A-464C-8EF9-A581D09F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05292-1843-42DD-8888-53882EFD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E342F-7E4D-4335-B2F0-FAC2EC17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D1E81-18C2-48F7-A21E-B406B1DD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B034C-14AE-4266-9621-6546250D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21424-38D7-4938-B38B-27341B6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E5BB2-55D1-4B93-8963-D4227CFC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45351-6E18-40F9-8A8E-C2A24917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E7D8A-1593-453D-B6D4-A1F51314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F4AC5-1079-4589-A185-203CBEFE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228D9-281B-471D-8FA7-03D0C150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B3C1-A60B-4E48-87C1-7282B8E9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B531C-432F-4443-A370-03EDB509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EBF52-4B0F-4F48-B68A-43E98874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90C6E-6628-4452-BDE8-F65CAD35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892F9-C685-42A4-A11E-EBD3009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E6261-A74F-412A-8CF0-721D0484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BF36C-CD1E-41CD-AB77-F044894D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58A38-2F50-4BE4-9A27-74B0437C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C94E5-563A-4D05-8A55-FEE9BF4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E7FAC-95C2-4361-8EFA-085A12DE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57842-E893-432A-83A2-B6435F14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DEFF-6FAC-44EE-B88C-3950AFD1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31DB2-A4A0-4933-B273-472494BE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550A4-8117-4C97-95FA-B967B101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BE38EF-8E8B-4B62-90CC-955C798B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5193C-0EF0-4360-8050-04D3D1DE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E4995-CB07-464A-8A50-2BA7DDDD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20244-5A3A-496A-96A8-C893AE75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4B861-66CC-432A-A938-3CE174BA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FEA0E-731B-4F2A-AC4A-E9DCE09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186B00-EBEB-430D-BCED-D5F2F277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00B96C-D0B4-46B3-B3B1-9F7A0BD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1D0CF-E556-433F-9ED6-D545D4B6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F5C1B-7EF5-4C3A-87CF-E8507C4E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D40A2-B824-42DC-8290-F063ED74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FA1-B277-418F-B824-3D4B1D32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B42-5750-4FEF-B8BC-7885E0F4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A18-1573-46A6-AC3C-1C2AB7B4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7C5-C057-493F-A2D7-76C34115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604-DF1A-47B5-A627-A87759F7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7B8-FE9E-4C25-B72D-CD92DAD3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266-3327-403D-9B88-FBB12C1B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388D-075A-4714-B912-267E5AB1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0352D-AAB6-49EF-8E28-FDF5FFF0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D9267-4E70-40CA-A5FE-48710B88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EE20-1BFF-42C7-AC04-53DC65A7E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C6E8-D017-4BF0-A2BA-24E6EB468A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A605-54A3-43BE-A4B2-52B7E5D60A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4EA4-8069-41E9-9D8A-9B47977B95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1816-EB86-4317-B568-8819B45F4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5A9E-71A5-46A7-9B0A-A9A0B29E30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C6DA-5E24-4744-B529-EF868F6A55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B17C-8630-417E-8DA5-138BCA5E5E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A734-15A7-4B6B-8721-3BF8A4F85E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2003-2DB9-46EC-8194-7CECBF40C3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4A73-4438-461F-8D0A-E9A9E4BC2D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2F6-7CEF-498C-B488-5D9572A16E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6EB7-34DB-493F-8DEA-D5503EC558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7803-4BE1-475D-A266-70FF6C8221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07B0-9DBC-4E78-B9A0-6459A3DAB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крутой.mp3" descr=""/>
          <p:cNvPicPr/>
          <p:nvPr/>
        </p:nvPicPr>
        <p:blipFill>
          <a:blip r:embed="rId1"/>
          <a:stretch/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4"/>
          <p:cNvSpPr/>
          <p:nvPr/>
        </p:nvSpPr>
        <p:spPr>
          <a:xfrm>
            <a:off x="2550960" y="1341360"/>
            <a:ext cx="644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5"/>
          <p:cNvSpPr/>
          <p:nvPr/>
        </p:nvSpPr>
        <p:spPr>
          <a:xfrm>
            <a:off x="-571680" y="428760"/>
            <a:ext cx="10117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Bookman Old Style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Bookman Old Style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сть каждый д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каждый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ам новое до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сть будет добрым ум у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сердце добр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707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7707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0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накрепко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858080" cy="50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ли, большие, от, справа, дороги, камн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, сосновый, слева, стоит</a:t>
            </a:r>
            <a:br>
              <a:rPr sz="4400"/>
            </a:br>
            <a:br>
              <a:rPr sz="4400"/>
            </a:br>
            <a:br>
              <a:rPr sz="20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4" descr="C:\Users\1\Desktop\1300334814_deti2.png"/>
          <p:cNvPicPr/>
          <p:nvPr/>
        </p:nvPicPr>
        <p:blipFill>
          <a:blip r:embed="rId1"/>
          <a:srcRect l="74558" t="-1331" r="0" b="69225"/>
          <a:stretch/>
        </p:blipFill>
        <p:spPr>
          <a:xfrm rot="21268200">
            <a:off x="7243920" y="3509640"/>
            <a:ext cx="1374480" cy="9936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5" descr="C:\Users\1\Desktop\1300334814_deti2.png"/>
          <p:cNvPicPr/>
          <p:nvPr/>
        </p:nvPicPr>
        <p:blipFill>
          <a:blip r:embed="rId2"/>
          <a:srcRect l="78631" t="33450" r="577" b="30538"/>
          <a:stretch/>
        </p:blipFill>
        <p:spPr>
          <a:xfrm rot="20867400">
            <a:off x="112320" y="37573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11"/>
          <p:cNvSpPr/>
          <p:nvPr/>
        </p:nvSpPr>
        <p:spPr>
          <a:xfrm>
            <a:off x="214200" y="285840"/>
            <a:ext cx="692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цени свою рабо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2"/>
          <p:cNvSpPr/>
          <p:nvPr/>
        </p:nvSpPr>
        <p:spPr>
          <a:xfrm>
            <a:off x="1214280" y="1500120"/>
            <a:ext cx="70009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е мне был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ому ч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е я работал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обенн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142920" y="4786200"/>
            <a:ext cx="8786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ошо, ужасно, интересно, скучно, страшно, сначала, сегодня, правильно, отлично, бесполе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Рисунок 9" descr="D:\Natalia\ЖОНКИНА ПИСАНИНА\картинки\школьное\Рисунок2.jpg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236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Рисунок 7" descr="D:\Natalia\ЖОНКИНА ПИСАНИНА\1194003338_cementtonnel.png"/>
          <p:cNvPicPr/>
          <p:nvPr/>
        </p:nvPicPr>
        <p:blipFill>
          <a:blip r:embed="rId1"/>
          <a:stretch/>
        </p:blipFill>
        <p:spPr>
          <a:xfrm>
            <a:off x="5572080" y="3983040"/>
            <a:ext cx="3411720" cy="2846520"/>
          </a:xfrm>
          <a:prstGeom prst="rect">
            <a:avLst/>
          </a:prstGeom>
          <a:ln w="0">
            <a:noFill/>
          </a:ln>
        </p:spPr>
      </p:pic>
      <p:pic>
        <p:nvPicPr>
          <p:cNvPr id="891" name="Рисунок 8" descr="D:\Natalia\ЖОНКИНА ПИСАНИНА\картинки\дети\malch85.jpg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2548080"/>
          </a:xfrm>
          <a:prstGeom prst="rect">
            <a:avLst/>
          </a:prstGeom>
          <a:ln w="0">
            <a:noFill/>
          </a:ln>
        </p:spPr>
      </p:pic>
      <p:sp>
        <p:nvSpPr>
          <p:cNvPr id="892" name="TextBox 10"/>
          <p:cNvSpPr/>
          <p:nvPr/>
        </p:nvSpPr>
        <p:spPr>
          <a:xfrm>
            <a:off x="214200" y="2786040"/>
            <a:ext cx="8786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Box 3"/>
          <p:cNvSpPr/>
          <p:nvPr/>
        </p:nvSpPr>
        <p:spPr>
          <a:xfrm>
            <a:off x="2916360" y="4724280"/>
            <a:ext cx="4968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Прямоугольник 4" descr=""/>
          <p:cNvPicPr/>
          <p:nvPr/>
        </p:nvPicPr>
        <p:blipFill>
          <a:blip r:embed="rId1"/>
          <a:stretch/>
        </p:blipFill>
        <p:spPr>
          <a:xfrm>
            <a:off x="3067200" y="426960"/>
            <a:ext cx="5832360" cy="603360"/>
          </a:xfrm>
          <a:prstGeom prst="rect">
            <a:avLst/>
          </a:prstGeom>
          <a:ln w="0">
            <a:noFill/>
          </a:ln>
        </p:spPr>
      </p:pic>
      <p:sp>
        <p:nvSpPr>
          <p:cNvPr id="852" name="Прямоугольник 6"/>
          <p:cNvSpPr/>
          <p:nvPr/>
        </p:nvSpPr>
        <p:spPr>
          <a:xfrm>
            <a:off x="2786040" y="1285920"/>
            <a:ext cx="621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вори вполгол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говорит - другие слуш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бивай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уважением относись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говор должен идти только о предмет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Прямоугольник 3"/>
          <p:cNvSpPr/>
          <p:nvPr/>
        </p:nvSpPr>
        <p:spPr>
          <a:xfrm>
            <a:off x="3071880" y="1357200"/>
            <a:ext cx="5857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авописание суффиксов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-а, и -о  в наречиях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 пристав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5"/>
          <p:cNvSpPr/>
          <p:nvPr/>
        </p:nvSpPr>
        <p:spPr>
          <a:xfrm>
            <a:off x="3429000" y="21420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56" name="TextBox 2"/>
          <p:cNvSpPr/>
          <p:nvPr/>
        </p:nvSpPr>
        <p:spPr>
          <a:xfrm>
            <a:off x="1187280" y="301680"/>
            <a:ext cx="59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7"/>
          <p:cNvSpPr/>
          <p:nvPr/>
        </p:nvSpPr>
        <p:spPr>
          <a:xfrm>
            <a:off x="-973080" y="428760"/>
            <a:ext cx="101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Bookman Old Style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571760" y="214200"/>
          <a:ext cx="6095880" cy="50720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0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е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ух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рост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репк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емн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а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о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глух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а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ыт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гк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ух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о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редк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чист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давн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0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запрост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4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изредк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снов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72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дочист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76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вправ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Таня</cp:lastModifiedBy>
  <dcterms:modified xsi:type="dcterms:W3CDTF">2018-02-15T16:54:32Z</dcterms:modified>
  <cp:revision>104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