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476-3D97-43D2-94CF-A4CDF858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F32-C2B5-4138-95ED-E10EAA6B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8D6-02E1-4850-97BB-8FE37E41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37A-89BC-442D-9251-6D03DB03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51E9-0083-4D4A-BA15-59024550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8C2F-F3BF-4AF6-8570-EE7B6534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35DF-BEE3-48F4-935C-DD38B88D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0362-10EC-46EF-B059-A7E1D6C1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1171-CEC4-44BE-B7B7-0884F72B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5DC5-AD47-4C00-8B45-E8B1668B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3301-D2CC-40CE-AC90-A3FB134F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750-50FB-4306-A805-B6B31853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8C37-AF5D-474E-8F8C-8264188E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4B77-EF08-4441-AD38-0929BF4F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5DC9-7B14-45AC-9491-C9CA255F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0DDF-BF71-403B-80B0-26B765F0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A79B-B8FE-4BA6-BFF1-54226C41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1C3F-41A2-4C96-BC61-88007478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ECFC-518E-4AF9-A7F0-A4EFF1FC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7B8DC-488E-4ED2-9483-CE260294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4A95-FA11-4B33-ADD7-41CEFA59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DEC1-B5DC-43C5-AD8A-071AB61C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915-A560-4969-BB65-2EDA1473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18C8-2206-4D00-8E24-2E81B843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B8A9-00AC-410F-BC5B-A63AF004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4399-5EDD-49C8-A1EE-D168438A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A9F8D-9800-4B36-96BC-B24FFC9C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A83C-ECD2-4A5F-BA79-759DE0DA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E31B-C9A0-4DAB-A6D2-5B9F8A32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57AA-A0ED-4CA1-9774-EE52A41C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68648-BF6A-418F-B949-B0B341FB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C675C-A645-4DD1-BE05-3723637D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4AC1-0575-4588-9E48-0CCA7F1E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DB5-9BCA-4473-8119-4EB7E1F1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EB73-AA7F-4398-BF35-42EF94FC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70304-6C75-4E5C-A385-72ADECA3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C145-E9C3-4D5D-A242-52D0C08E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8CACA-87F6-4DCF-ABC2-D82DB559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BBA19-B6C0-40F0-8DB5-8A0CE128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C7CBB-D653-4A47-8F9E-E9DA3C1F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E3F5-55E1-4AE4-A23A-C759BA83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62ED-D265-4C65-975A-8EA49FF0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5EE3A-457A-4429-B995-3407924C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6D7BE-9F81-410B-9F8B-9299CC4D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C9B-238E-4038-A837-8FC12DF5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14E55-F49F-46F4-8BFB-D202C042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3BC75-01BB-436E-8FF6-DDF63612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1B88E-62B9-4BAE-830C-87CE3C1C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ABB75-7440-4D31-B1C2-8F0324C9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E6B79-5C63-414C-810C-9A753A27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64863-122F-4865-B9D9-55CCCA49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5D287-9C26-47FC-892D-FBB25C63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BD142-0B8C-4CBC-B8C8-90607728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F1DEF-B9B6-4F10-88FB-75D3FEE6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F860F-18EA-466D-82B0-A632AEE3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470-968F-484C-BBE7-EB011DE5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B841F-833C-447E-9449-31EB01DA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29191-6B9D-41D6-A84C-3C50FE22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874BD-B654-4C2C-9D10-C230FB94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E4622-048C-4FD4-8CDA-592DFB0B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67A01-FB1A-4319-AC87-2FE2FC5B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8E93B-E9FC-42E0-ACBC-32B421A2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FBB81-39FD-459A-9022-7B3BC2BB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A3203-26FF-4C2C-831D-3E13DFDC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50D73-5DF7-450A-80C8-E2EA5CB9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EFFA8-7052-405B-9F40-0C7D869A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039-9D8C-4E55-B981-D20EE67E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32E6B-F018-49C5-9D26-D1A843A9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657C4-0B91-450C-981A-051CCFC4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A884C-FD17-48B8-9930-E4556C4C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DB0D-343D-4231-970C-68C917C5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13FE0-9A72-496A-AAC2-ABE9496B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54E31-A07F-4D19-AD27-32BADE9F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FA2ED-8776-418E-A2B6-9D1BC952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7C816-5E66-439B-876B-AED8B2FB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F6B37-A2AD-45A4-8AB0-C1A7EE20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83654-5DE5-486C-B7D7-1FCC9805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903-700B-4604-ADAB-DD3A3562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D547A-C59C-4533-89B4-6FA94FB8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07792-3A1F-4EDC-8675-F65F0F52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5EDAC-8088-4726-9587-DA8F81E4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2FF5D-2FB1-4EEC-B9CC-8D6D3E57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47197-6958-484E-9034-D00EBD66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17F-392E-4D7E-80DA-07202209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F17598-6AAA-473C-9490-562C39DE8A48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80F038-9B6C-4EF1-8D10-60404EBA444F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7BCAD5-F32F-42AC-BB35-AA5633178F35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965F1C-D2FF-48E3-B547-07C57F550207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3C5FE0-CCA1-46C1-A7D4-8BA82D601F62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1F6177-7B18-4CFE-98BA-3EC6E0EF927B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32DC92-BBC2-4A6C-BDC8-3D292A6279D4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420840" y="512640"/>
            <a:ext cx="8437320" cy="36514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2"/>
          <p:cNvSpPr/>
          <p:nvPr/>
        </p:nvSpPr>
        <p:spPr>
          <a:xfrm>
            <a:off x="107172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Picture 6" descr="https://nz1.ru/wp-content/uploads/posts/2016-08/medium/1472293406_30-interesnyh-faktov-o-kurenii-2.jpg"/>
          <p:cNvPicPr/>
          <p:nvPr/>
        </p:nvPicPr>
        <p:blipFill>
          <a:blip r:embed="rId2"/>
          <a:stretch/>
        </p:blipFill>
        <p:spPr>
          <a:xfrm>
            <a:off x="3419640" y="4221000"/>
            <a:ext cx="2790720" cy="1970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3"/>
          <p:cNvSpPr/>
          <p:nvPr/>
        </p:nvSpPr>
        <p:spPr>
          <a:xfrm>
            <a:off x="468360" y="620640"/>
            <a:ext cx="86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543466"/>
                </a:solidFill>
                <a:latin typeface="Arial Narrow"/>
              </a:rPr>
              <a:t>Самое пагубное воздействие оказывает курение на детский организм. Курящие ученики отстают в учебе, становятся рассеянными, ленивыми, грубы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543466"/>
                </a:solidFill>
                <a:latin typeface="Arial Narrow"/>
              </a:rPr>
              <a:t>У них ухудшается память, зрение, умственная работоспособность. Они отстают в развитии от своих сверст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6" descr="https://sun9-23.userapi.com/impg/j3wGIBVozZpQpIb99dpevQxdIJH1di0xCIBL2w/cPtJNK-AFVk.jpg?size=1024x677&amp;quality=96&amp;sign=c8af771d341419cff8b1f94696ac135e&amp;type=album"/>
          <p:cNvPicPr/>
          <p:nvPr/>
        </p:nvPicPr>
        <p:blipFill>
          <a:blip r:embed="rId1"/>
          <a:stretch/>
        </p:blipFill>
        <p:spPr>
          <a:xfrm>
            <a:off x="1619280" y="3429000"/>
            <a:ext cx="3921120" cy="2592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174600"/>
            <a:ext cx="82296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0" y="285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43466"/>
                </a:solidFill>
                <a:latin typeface="Tahoma"/>
              </a:rPr>
              <a:t>По данным Всемирной Организации Здравоохранени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43466"/>
                </a:solidFill>
                <a:latin typeface="Tahoma"/>
              </a:rPr>
              <a:t>ЕЖЕГОДНО  ОТ КУРЕНИЯ УМИРАЮ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 algn="ctr">
              <a:lnSpc>
                <a:spcPct val="100000"/>
              </a:lnSpc>
              <a:spcBef>
                <a:spcPts val="20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3 миллиона человек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1"/>
          <a:stretch/>
        </p:blipFill>
        <p:spPr>
          <a:xfrm>
            <a:off x="-122400" y="-36360"/>
            <a:ext cx="9522000" cy="163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2428920" y="1428840"/>
            <a:ext cx="4214880" cy="40719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0" y="5286240"/>
            <a:ext cx="93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Никогда  не  курите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2"/>
          <p:cNvSpPr/>
          <p:nvPr/>
        </p:nvSpPr>
        <p:spPr>
          <a:xfrm>
            <a:off x="3857760" y="1428840"/>
            <a:ext cx="4829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9680">
              <a:spcBef>
                <a:spcPts val="799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1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997760" cy="2219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6"/>
          <p:cNvSpPr/>
          <p:nvPr/>
        </p:nvSpPr>
        <p:spPr>
          <a:xfrm>
            <a:off x="4067280" y="400536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Россию табак был завезён англичан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 немцами в начале 17 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30240" y="268200"/>
            <a:ext cx="9399600" cy="63086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"/>
          <p:cNvSpPr/>
          <p:nvPr/>
        </p:nvSpPr>
        <p:spPr>
          <a:xfrm>
            <a:off x="457200" y="6143760"/>
            <a:ext cx="8229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457200" y="174600"/>
            <a:ext cx="82296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4429080" y="571680"/>
            <a:ext cx="4429080" cy="57862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142920" y="642960"/>
            <a:ext cx="4325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43466"/>
                </a:solidFill>
                <a:latin typeface="Times New Roman"/>
              </a:rPr>
              <a:t>С приходом к власти Петра </a:t>
            </a:r>
            <a:r>
              <a:rPr b="1" lang="en-US" sz="3200" spc="-1" strike="noStrike">
                <a:solidFill>
                  <a:srgbClr val="543466"/>
                </a:solidFill>
                <a:latin typeface="Book Antiqua"/>
              </a:rPr>
              <a:t>I</a:t>
            </a:r>
            <a:r>
              <a:rPr b="1" lang="ru-RU" sz="3200" spc="-1" strike="noStrike">
                <a:solidFill>
                  <a:srgbClr val="543466"/>
                </a:solidFill>
                <a:latin typeface="Times New Roman"/>
              </a:rPr>
              <a:t> был отменён запрет на курение. Люди постепенно пристрастились к курению. Произошло это потому, что в состав табака входят вещества, способные вызвать зависимость от не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"/>
          <p:cNvPicPr/>
          <p:nvPr/>
        </p:nvPicPr>
        <p:blipFill>
          <a:blip r:embed="rId1"/>
          <a:stretch/>
        </p:blipFill>
        <p:spPr>
          <a:xfrm>
            <a:off x="414360" y="1206360"/>
            <a:ext cx="8265960" cy="15670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"/>
          <p:cNvSpPr/>
          <p:nvPr/>
        </p:nvSpPr>
        <p:spPr>
          <a:xfrm>
            <a:off x="755640" y="2852640"/>
            <a:ext cx="7777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533ea9"/>
                </a:solidFill>
                <a:latin typeface="Arial"/>
              </a:rPr>
              <a:t>В целях снижения вредного воздействия табачного дыма запрещается курение табака на рабочих местах, в городском и пригородном транспорте, на воздушном транспорте при продолжительности полета менее трех часов, в закрытых спортивных сооружениях, организациях здравоохранения, организациях культуры, на территориях и в помещениях образовательных организаций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324000" y="33336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 ОГРАНИЧЕНИИ КУРЕНИЯ ТАБАК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457200" y="174600"/>
            <a:ext cx="82296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0" y="285840"/>
            <a:ext cx="914400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9680">
              <a:lnSpc>
                <a:spcPct val="80000"/>
              </a:lnSpc>
              <a:spcBef>
                <a:spcPts val="924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</a:rPr>
              <a:t> </a:t>
            </a:r>
            <a:r>
              <a:rPr b="1" lang="ru-RU" sz="3700" spc="-1" strike="noStrike">
                <a:solidFill>
                  <a:srgbClr val="c00000"/>
                </a:solidFill>
                <a:latin typeface="Arial Narrow"/>
              </a:rPr>
              <a:t>В дыме  сигарет содержится более 30 отравляющих организм человека веществ: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никотин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аммиак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угарный  газ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синильная  кислота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пиридин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метанол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формальдегид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 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радиоактивные вещества: полоний, свинец, висмут, смолы, деготь и другие.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"/>
          <p:cNvSpPr/>
          <p:nvPr/>
        </p:nvSpPr>
        <p:spPr>
          <a:xfrm>
            <a:off x="0" y="1428840"/>
            <a:ext cx="8686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 Курение загрязняет лёгк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Курение затрудняет проникновение  кислорода в организ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 Курение затрудняет нормальную работу сердца, оно быстро изнашива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От курения желтеют зуб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 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появляется дурной запах  во рт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Каждая сигарета отнимает от 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 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до 15 минут жи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6572160" y="4429080"/>
            <a:ext cx="2286000" cy="21448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457200" y="-825480"/>
            <a:ext cx="82296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214200" y="2928960"/>
            <a:ext cx="4143600" cy="3571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4714920" y="2928960"/>
            <a:ext cx="4125960" cy="3517920"/>
          </a:xfrm>
          <a:prstGeom prst="rect">
            <a:avLst/>
          </a:prstGeom>
          <a:ln w="0">
            <a:noFill/>
          </a:ln>
        </p:spPr>
      </p:pic>
      <p:sp>
        <p:nvSpPr>
          <p:cNvPr id="392" name="Line 4"/>
          <p:cNvSpPr/>
          <p:nvPr/>
        </p:nvSpPr>
        <p:spPr>
          <a:xfrm flipH="1">
            <a:off x="4497120" y="1357200"/>
            <a:ext cx="4680" cy="5216760"/>
          </a:xfrm>
          <a:prstGeom prst="line">
            <a:avLst/>
          </a:prstGeom>
          <a:ln cap="sq" w="633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0" y="13572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Лёгкие здоровог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челове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5294520" y="1357200"/>
            <a:ext cx="312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Лёгк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курильщ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42920" y="285840"/>
            <a:ext cx="908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Больше всего от курения страдают лёгкие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-244440" y="-30240"/>
            <a:ext cx="9948960" cy="14572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4"/>
          <p:cNvSpPr/>
          <p:nvPr/>
        </p:nvSpPr>
        <p:spPr>
          <a:xfrm>
            <a:off x="250920" y="119700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и пассивном курении люди получают дозу так называемого бокового дыма. При этом при пассивном и активном курении в организм попадают практически одни и те же вещества, нахождение (особенно долговременное) в клубах дыма рядом с курящими людьми может привести к тем же неприятным последствиям, что и активное кур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324000" y="299736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ассивное курение может приводить к усугублению аллергии, всевозможным ЛОР-патологиям, патологиям сердца и сосудов, развитию хронической болезни легких и увеличению риска онкологических заболеваний. Чаще всего злокачественные образования локализуются в молочных железах, легких и почках. Чтобы избежать таких последствий, необходимо избегать нахождения в курящих компаниях и прокуренных помещени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7:50:33Z</dcterms:created>
  <dc:creator>к</dc:creator>
  <dc:description/>
  <dc:language>en-US</dc:language>
  <cp:lastModifiedBy>Пользователь Windows</cp:lastModifiedBy>
  <cp:lastPrinted>2013-11-12T06:06:46Z</cp:lastPrinted>
  <dcterms:modified xsi:type="dcterms:W3CDTF">2021-10-28T07:04:16Z</dcterms:modified>
  <cp:revision>71</cp:revision>
  <dc:subject/>
  <dc:title>О  вреде курения</dc:title>
</cp:coreProperties>
</file>