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6.jpeg" ContentType="image/jpeg"/>
  <Override PartName="/ppt/media/image3.png" ContentType="image/pn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2.png" ContentType="image/png"/>
  <Override PartName="/ppt/media/image23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1.png" ContentType="image/png"/>
  <Override PartName="/ppt/media/image9.jpeg" ContentType="image/jpeg"/>
  <Override PartName="/ppt/media/image4.wmf" ContentType="image/x-wmf"/>
  <Override PartName="/ppt/media/image10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E04-6782-4256-B361-08B8E34F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31D-F39D-4D60-B86F-885C9403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564-83CE-4FA4-A4C9-E5FFC673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406-6955-4BC6-B052-943AEB9A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A347-706E-4AC7-81BE-B83CAE0D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EA4A-66A4-4744-8750-446CD95F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7E2F-CC66-43EB-BE60-A29746CC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7AD5-497D-4E46-B756-71819CC5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0B5B-5399-43D2-B1BF-264DD46A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45A4-1EBD-44CD-AE3E-1A19526B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0C10-1CD4-4012-BD59-ADDF6FFF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0B9-D52E-4E57-AEE8-1266150B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51AD-49F0-43CD-92ED-CED860E6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4CC6-0A6A-472C-9394-C1CB769E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AAE8-D842-414C-A06A-7452AB77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33AB-29C9-48D6-9562-2B07903F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9719-B346-4AAC-AE53-B77DB317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3FAF4-CB08-465D-B8EB-518B919A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BF55C-4BE4-4014-ACB7-4FB4793B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FBEF9-C41B-48A1-93D0-D5394B87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C87B-0BE0-479E-8C0D-CF1BE0F4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2C8F-4652-43DD-88DE-040C96F1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2AA-3D23-48F5-B5E7-2F33078D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42AF5-19F6-438A-AC20-553D2CE0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C955-5C1A-4AB4-98ED-F447162D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72A29-B2CE-42E3-B35A-43274BC6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283AD-45E1-4A9C-A65E-B6EB6D5D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91D11-A090-47FA-B204-A471E6FD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EC71-F286-40E8-9E2A-D63AF794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4399-422F-4B05-8226-B115DCC4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D531F-1645-4FBE-9320-D4C8DC98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ABB9A-3FB2-42AC-B83E-9E7EAA5E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EE154-ED71-430C-8031-C21C444E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F06-DBFB-4852-9217-AC993871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50217-FE99-40C4-AA27-9B6798D0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37409-C84F-4108-8CC3-440B8334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6F1A1-3C54-40C4-854D-880FE741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B0CCD-E327-42B6-B813-D2C604B0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7EEA1-04DF-4040-A6ED-D8D22A48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B99F8-F709-4AD5-AD37-D51AD012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EA8F7-06A1-446A-A801-800807FB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992C8-4F05-4880-99AE-020003FF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69B3D-2A83-4ED5-83E0-AE403AB7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CB8D4-58A8-4D11-AED7-EAE75240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7DA-DBFE-4104-8FBE-29BE13F8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006A3-25C8-4819-9F7D-8AE88681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42E44-ED41-447C-A915-7C4F0A31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B03E9-5569-4253-8BF9-F91410B3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C5FFF-9FA7-4FC4-A6ED-EA8588A0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D2EBB-7429-4F2A-BC4E-CF015A02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13DCF-116C-4EFC-B6AE-E710BA54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E7022-BD90-4B16-825D-2979EA2F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4E66-EB90-4CA9-9836-2FFDAD5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96901-4888-4905-972E-7A8FA171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A998D-DAFC-4AC4-B39F-A1D9F18D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F08-02CC-4A79-97E8-78BC05F2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DF26A-D3FA-4DBC-A0F1-834FD97C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2DAF5-706A-4E2F-BECB-7A62E38D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23548-2C80-4960-9E06-40DDCB04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91020-CCF6-4BA5-901B-833496E0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CE359-2CF1-437F-A016-1BE2EDAA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DF4DE-D8F8-4D6E-9DC7-206278FD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1D63C-F4EC-4C65-B56D-65CF3A70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69C09-9117-4EB5-91D3-2CBCBEF5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D6B19-F385-4B57-871E-B1C1576C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0B441-4268-4EE5-B2F6-FE4FC426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09D-C574-4E8C-89C0-41BCF0EB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BA6A7-9F22-4FA0-8B91-463159C4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10BC3-CA91-48D9-9990-8DBE2E54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48844-05DC-4EB9-B7EE-34311333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58E-B298-4F19-BC65-9384A36D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ED37-3986-405A-94CC-FC2926D1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3709-9B43-4AA1-9256-2E2351E34EA7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99F5-8587-403F-973C-334FC9FCC981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0754-B8E5-4092-9E34-1FA3BDA24912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6e7f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6e7f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6e7f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6e7f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6e7f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6e7f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6e7f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6e7f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570F-940A-485C-845D-DEAF7A7C0CAB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45EC-F97A-41F0-8824-E3D8EEA30AD2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9115-313E-4993-BC0B-E74ADF017778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"/>
          <p:cNvSpPr/>
          <p:nvPr/>
        </p:nvSpPr>
        <p:spPr>
          <a:xfrm>
            <a:off x="108000" y="201600"/>
            <a:ext cx="892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Урок изобразительного искусст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Театральная афиш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5" descr="C:\Program Files (x86)\Microsoft Office\MEDIA\CAGCAT10\j0216516.wmf"/>
          <p:cNvPicPr/>
          <p:nvPr/>
        </p:nvPicPr>
        <p:blipFill>
          <a:blip r:embed="rId1"/>
          <a:stretch/>
        </p:blipFill>
        <p:spPr>
          <a:xfrm>
            <a:off x="2884320" y="2422440"/>
            <a:ext cx="355932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3640" y="235440"/>
            <a:ext cx="866772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596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e87"/>
                </a:solidFill>
                <a:latin typeface="Times New Roman"/>
              </a:rPr>
              <a:t>Виды афиш: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театральные,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цирковые,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музыкальные,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афиши кинофильмов,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</a:rPr>
              <a:t>афиши, которые приглашают на выступление выдающихся людей.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8920" y="235440"/>
            <a:ext cx="881244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1835280" y="0"/>
            <a:ext cx="539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920" y="154440"/>
            <a:ext cx="87408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1"/>
          <a:stretch/>
        </p:blipFill>
        <p:spPr>
          <a:xfrm>
            <a:off x="2195640" y="0"/>
            <a:ext cx="48974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23640" y="154440"/>
            <a:ext cx="866772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46" name="Рисунок 1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460872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4920" y="154440"/>
            <a:ext cx="859644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48" name="Рисунок 1" descr=""/>
          <p:cNvPicPr/>
          <p:nvPr/>
        </p:nvPicPr>
        <p:blipFill>
          <a:blip r:embed="rId1"/>
          <a:stretch/>
        </p:blipFill>
        <p:spPr>
          <a:xfrm>
            <a:off x="2556000" y="549360"/>
            <a:ext cx="41828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8920" y="154440"/>
            <a:ext cx="881244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50" name="Рисунок 1" descr=""/>
          <p:cNvPicPr/>
          <p:nvPr/>
        </p:nvPicPr>
        <p:blipFill>
          <a:blip r:embed="rId1"/>
          <a:stretch/>
        </p:blipFill>
        <p:spPr>
          <a:xfrm>
            <a:off x="2109960" y="0"/>
            <a:ext cx="492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000" y="280080"/>
            <a:ext cx="854244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52" name="Рисунок 1" descr=""/>
          <p:cNvPicPr/>
          <p:nvPr/>
        </p:nvPicPr>
        <p:blipFill>
          <a:blip r:embed="rId1"/>
          <a:stretch/>
        </p:blipFill>
        <p:spPr>
          <a:xfrm>
            <a:off x="0" y="203040"/>
            <a:ext cx="9144000" cy="64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Arial"/>
              </a:rPr>
              <a:t>Колобковый шрифт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1979640" y="1103400"/>
            <a:ext cx="51292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Arial"/>
              </a:rPr>
              <a:t>Мультяшный шрифт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56" name="Рисунок 1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Arial"/>
              </a:rPr>
              <a:t>Шрифт кирпичиком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358" name="Рисунок 1" descr=""/>
          <p:cNvPicPr/>
          <p:nvPr/>
        </p:nvPicPr>
        <p:blipFill>
          <a:blip r:embed="rId1"/>
          <a:stretch/>
        </p:blipFill>
        <p:spPr>
          <a:xfrm>
            <a:off x="108000" y="1279440"/>
            <a:ext cx="895032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Прямоугольник 3" descr=""/>
          <p:cNvPicPr/>
          <p:nvPr/>
        </p:nvPicPr>
        <p:blipFill>
          <a:blip r:embed="rId1"/>
          <a:stretch/>
        </p:blipFill>
        <p:spPr>
          <a:xfrm>
            <a:off x="1893960" y="-316080"/>
            <a:ext cx="5308560" cy="15973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1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772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Объект 1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962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4"/>
          <p:cNvSpPr/>
          <p:nvPr/>
        </p:nvSpPr>
        <p:spPr>
          <a:xfrm>
            <a:off x="500040" y="214200"/>
            <a:ext cx="8643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706d"/>
                </a:solidFill>
                <a:latin typeface="Arial"/>
              </a:rPr>
              <a:t>Афиша</a:t>
            </a:r>
            <a:r>
              <a:rPr b="0" lang="ru-RU" sz="2400" spc="-1" strike="noStrike">
                <a:solidFill>
                  <a:srgbClr val="03706d"/>
                </a:solidFill>
                <a:latin typeface="Arial"/>
              </a:rPr>
              <a:t> – графический рекламоноситель, печатается на плотной бумаге или карт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706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3706d"/>
                </a:solidFill>
                <a:latin typeface="Arial"/>
              </a:rPr>
              <a:t>Афиши</a:t>
            </a:r>
            <a:r>
              <a:rPr b="0" lang="ru-RU" sz="2400" spc="-1" strike="noStrike">
                <a:solidFill>
                  <a:srgbClr val="03706d"/>
                </a:solidFill>
                <a:latin typeface="Arial"/>
              </a:rPr>
              <a:t> расклеивают по улицам гор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706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1116000" y="1676520"/>
            <a:ext cx="6913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3"/>
          <p:cNvSpPr/>
          <p:nvPr/>
        </p:nvSpPr>
        <p:spPr>
          <a:xfrm>
            <a:off x="857160" y="714240"/>
            <a:ext cx="707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706d"/>
                </a:solidFill>
                <a:latin typeface="Arial"/>
              </a:rPr>
              <a:t>Преимущества</a:t>
            </a:r>
            <a:r>
              <a:rPr b="0" lang="ru-RU" sz="2400" spc="-1" strike="noStrike">
                <a:solidFill>
                  <a:srgbClr val="03706d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706d"/>
                </a:solidFill>
                <a:latin typeface="Arial"/>
              </a:rPr>
              <a:t>1.Эффективно информируют жителей города о предстоящем собы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706d"/>
                </a:solidFill>
                <a:latin typeface="Arial"/>
              </a:rPr>
              <a:t>2. Возможность размещения большого количества в разных частях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Рисунок 5" descr=""/>
          <p:cNvPicPr/>
          <p:nvPr/>
        </p:nvPicPr>
        <p:blipFill>
          <a:blip r:embed="rId1"/>
          <a:stretch/>
        </p:blipFill>
        <p:spPr>
          <a:xfrm>
            <a:off x="395280" y="2944800"/>
            <a:ext cx="2436840" cy="345600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6" descr=""/>
          <p:cNvPicPr/>
          <p:nvPr/>
        </p:nvPicPr>
        <p:blipFill>
          <a:blip r:embed="rId2"/>
          <a:stretch/>
        </p:blipFill>
        <p:spPr>
          <a:xfrm>
            <a:off x="3348000" y="2722680"/>
            <a:ext cx="2616120" cy="367344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7" descr=""/>
          <p:cNvPicPr/>
          <p:nvPr/>
        </p:nvPicPr>
        <p:blipFill>
          <a:blip r:embed="rId3"/>
          <a:stretch/>
        </p:blipFill>
        <p:spPr>
          <a:xfrm>
            <a:off x="6372360" y="2892600"/>
            <a:ext cx="248112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-30240"/>
            <a:ext cx="9137880" cy="1103400"/>
          </a:xfrm>
          <a:prstGeom prst="rect">
            <a:avLst/>
          </a:prstGeom>
          <a:ln w="0">
            <a:noFill/>
          </a:ln>
        </p:spPr>
      </p:pic>
      <p:sp>
        <p:nvSpPr>
          <p:cNvPr id="323" name="Стрелка влево 6"/>
          <p:cNvSpPr/>
          <p:nvPr/>
        </p:nvSpPr>
        <p:spPr>
          <a:xfrm>
            <a:off x="3995640" y="3429000"/>
            <a:ext cx="1785960" cy="3571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Прямоугольник 8" descr=""/>
          <p:cNvPicPr/>
          <p:nvPr/>
        </p:nvPicPr>
        <p:blipFill>
          <a:blip r:embed="rId2"/>
          <a:stretch/>
        </p:blipFill>
        <p:spPr>
          <a:xfrm>
            <a:off x="4243320" y="4005360"/>
            <a:ext cx="4473720" cy="201132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2" descr=""/>
          <p:cNvPicPr/>
          <p:nvPr/>
        </p:nvPicPr>
        <p:blipFill>
          <a:blip r:embed="rId3"/>
          <a:stretch/>
        </p:blipFill>
        <p:spPr>
          <a:xfrm>
            <a:off x="250920" y="1260360"/>
            <a:ext cx="34639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Стрелка влево 2"/>
          <p:cNvSpPr/>
          <p:nvPr/>
        </p:nvSpPr>
        <p:spPr>
          <a:xfrm>
            <a:off x="4067280" y="3641760"/>
            <a:ext cx="2309760" cy="50004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Прямоугольник 3" descr=""/>
          <p:cNvPicPr/>
          <p:nvPr/>
        </p:nvPicPr>
        <p:blipFill>
          <a:blip r:embed="rId1"/>
          <a:stretch/>
        </p:blipFill>
        <p:spPr>
          <a:xfrm>
            <a:off x="6278400" y="1639800"/>
            <a:ext cx="390600" cy="932040"/>
          </a:xfrm>
          <a:prstGeom prst="rect">
            <a:avLst/>
          </a:prstGeom>
          <a:ln w="0">
            <a:noFill/>
          </a:ln>
        </p:spPr>
      </p:pic>
      <p:pic>
        <p:nvPicPr>
          <p:cNvPr id="328" name="Прямоугольник 5" descr=""/>
          <p:cNvPicPr/>
          <p:nvPr/>
        </p:nvPicPr>
        <p:blipFill>
          <a:blip r:embed="rId2"/>
          <a:stretch/>
        </p:blipFill>
        <p:spPr>
          <a:xfrm>
            <a:off x="6386400" y="3193920"/>
            <a:ext cx="2603520" cy="118908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1" descr=""/>
          <p:cNvPicPr/>
          <p:nvPr/>
        </p:nvPicPr>
        <p:blipFill>
          <a:blip r:embed="rId3"/>
          <a:stretch/>
        </p:blipFill>
        <p:spPr>
          <a:xfrm>
            <a:off x="272880" y="1268280"/>
            <a:ext cx="3586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Прямоугольник 2" descr=""/>
          <p:cNvPicPr/>
          <p:nvPr/>
        </p:nvPicPr>
        <p:blipFill>
          <a:blip r:embed="rId1"/>
          <a:stretch/>
        </p:blipFill>
        <p:spPr>
          <a:xfrm>
            <a:off x="5742000" y="938160"/>
            <a:ext cx="3225960" cy="1189080"/>
          </a:xfrm>
          <a:prstGeom prst="rect">
            <a:avLst/>
          </a:prstGeom>
          <a:ln w="0">
            <a:noFill/>
          </a:ln>
        </p:spPr>
      </p:pic>
      <p:sp>
        <p:nvSpPr>
          <p:cNvPr id="331" name="Стрелка влево 3"/>
          <p:cNvSpPr/>
          <p:nvPr/>
        </p:nvSpPr>
        <p:spPr>
          <a:xfrm>
            <a:off x="4427640" y="2174760"/>
            <a:ext cx="3033720" cy="57168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Рисунок 1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375768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Прямоугольник 2" descr=""/>
          <p:cNvPicPr/>
          <p:nvPr/>
        </p:nvPicPr>
        <p:blipFill>
          <a:blip r:embed="rId1"/>
          <a:stretch/>
        </p:blipFill>
        <p:spPr>
          <a:xfrm>
            <a:off x="-158760" y="79200"/>
            <a:ext cx="6730920" cy="1189080"/>
          </a:xfrm>
          <a:prstGeom prst="rect">
            <a:avLst/>
          </a:prstGeom>
          <a:ln w="0">
            <a:noFill/>
          </a:ln>
        </p:spPr>
      </p:pic>
      <p:sp>
        <p:nvSpPr>
          <p:cNvPr id="334" name="Стрелка вправо 4"/>
          <p:cNvSpPr/>
          <p:nvPr/>
        </p:nvSpPr>
        <p:spPr>
          <a:xfrm>
            <a:off x="1397160" y="2276640"/>
            <a:ext cx="2354040" cy="4284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Рисунок 1" descr=""/>
          <p:cNvPicPr/>
          <p:nvPr/>
        </p:nvPicPr>
        <p:blipFill>
          <a:blip r:embed="rId2"/>
          <a:stretch/>
        </p:blipFill>
        <p:spPr>
          <a:xfrm>
            <a:off x="3851280" y="1216080"/>
            <a:ext cx="367344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Прямоугольник 3" descr=""/>
          <p:cNvPicPr/>
          <p:nvPr/>
        </p:nvPicPr>
        <p:blipFill>
          <a:blip r:embed="rId1"/>
          <a:stretch/>
        </p:blipFill>
        <p:spPr>
          <a:xfrm>
            <a:off x="-92160" y="-60480"/>
            <a:ext cx="6201000" cy="2011680"/>
          </a:xfrm>
          <a:prstGeom prst="rect">
            <a:avLst/>
          </a:prstGeom>
          <a:ln w="0">
            <a:noFill/>
          </a:ln>
        </p:spPr>
      </p:pic>
      <p:sp>
        <p:nvSpPr>
          <p:cNvPr id="337" name="Стрелка вправо 4"/>
          <p:cNvSpPr/>
          <p:nvPr/>
        </p:nvSpPr>
        <p:spPr>
          <a:xfrm>
            <a:off x="900000" y="3716280"/>
            <a:ext cx="3857760" cy="7858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1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52728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42:35Z</dcterms:created>
  <dc:creator>Admin</dc:creator>
  <dc:description/>
  <dc:language>en-US</dc:language>
  <cp:lastModifiedBy>Juli Mars</cp:lastModifiedBy>
  <dcterms:modified xsi:type="dcterms:W3CDTF">2018-10-11T10:30:33Z</dcterms:modified>
  <cp:revision>47</cp:revision>
  <dc:subject/>
  <dc:title>Слайд 1</dc:title>
</cp:coreProperties>
</file>