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BD2D-8C31-4333-9B42-55E0ED44B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6A08-13FF-41D5-94BB-7FD9F212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5BA8-A818-447D-B2EF-AA406CE0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EB39-E3C7-44D6-87BC-75AD92E94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ECF1-4F31-4C8C-A881-B7D9A6A75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C407-E556-4825-9622-D1BD86B6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9DD7-AF95-45BB-BC5F-F6AFFB2C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04EC-A250-4B70-9433-FDD5B199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4898-AAF7-460D-BAFB-3F52D327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A625-BEE8-4038-A060-206BFE23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E364-4706-40BC-B380-B9ED83FA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3885-954E-4859-88F2-3CD8122C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BC7D-1052-48D1-A880-85516F1E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5763-66A9-420C-BBDB-5838EAFD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6853-B829-41F1-AA4C-F45D741E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C34B-2AF6-47C4-B25B-FB7BF9B2F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61E0-EA69-4C25-A595-383AA4ADE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ED49-B64F-49A4-B67B-9B418A27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1F99-61E0-4F1F-BFCF-5F33B3DD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F07D-EB2C-4AD8-AB07-13727844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DD82-A58D-43DD-A70C-411FA96E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FBD1-4D86-4823-AAE7-7C2246C1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989B-307E-499F-9EC8-4925259A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C1B7-704F-4286-90E4-98DA782A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862E-B5BD-4B47-9B8F-5692E80A3D6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D479-2E71-4647-A051-5D6DD0C8EE2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920" y="198864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comic"/>
              </a:rPr>
              <a:t>ENGLISH-SPEAKING COUNTRIE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USTRALI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country occupies the whole contin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capital is Canb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native people are Aborig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most of population  came from Brit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C:\Users\Kamil\Desktop\turystyka-119.jpg"/>
          <p:cNvPicPr/>
          <p:nvPr/>
        </p:nvPicPr>
        <p:blipFill>
          <a:blip r:embed="rId1"/>
          <a:stretch/>
        </p:blipFill>
        <p:spPr>
          <a:xfrm>
            <a:off x="4917960" y="2643120"/>
            <a:ext cx="392760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USTRALI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official language is Engl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nickname of Australia is “Oz” or “Lucky Countr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8" descr="C:\Users\Kamil\Desktop\australia-sydney-opera-house.jpg"/>
          <p:cNvPicPr/>
          <p:nvPr/>
        </p:nvPicPr>
        <p:blipFill>
          <a:blip r:embed="rId1"/>
          <a:stretch/>
        </p:blipFill>
        <p:spPr>
          <a:xfrm>
            <a:off x="4917960" y="2428920"/>
            <a:ext cx="39276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Documents and Settings\cj\Bureau\Australie\ausztralia-0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EW ZEALAN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country consists of two big islands and some small 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capital is Welling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re are two official languages – English and Ma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917960" y="1905120"/>
            <a:ext cx="39276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NEW ZEALAN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country is often called “The World’s Biggest Farm” because it’s famous for milk and meat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917960" y="1905120"/>
            <a:ext cx="39276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ANAD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anada is the second largest country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capital is Ottaw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country has two official languages – English and Fren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917960" y="1905120"/>
            <a:ext cx="39276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5T09:34:08Z</dcterms:created>
  <dc:creator>123</dc:creator>
  <dc:description/>
  <dc:language>en-US</dc:language>
  <cp:lastModifiedBy>123</cp:lastModifiedBy>
  <dcterms:modified xsi:type="dcterms:W3CDTF">2015-03-05T10:20:36Z</dcterms:modified>
  <cp:revision>3</cp:revision>
  <dc:subject/>
  <dc:title>ENGLISH-SPEAKING COUNTRIES</dc:title>
</cp:coreProperties>
</file>