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F23-CCC6-44CA-9CB6-24C2C330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73D-9537-439F-AEE2-A94EFBC6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2E8-F98D-4B13-8232-EA7A1D26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025-E999-4D55-A19E-9AE9F427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4C1E-EF2F-4DF2-ABF4-BE0253B8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6024-7CB9-4328-87EF-BAEBC97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5556-BB80-4059-A8C6-0F64F2A8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16FD-D523-4E24-9F61-930F3094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F36A-23AA-458F-B8D0-89CEE123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F79A-958C-41D4-807F-C6537171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306D-8E57-457C-9553-30468A7D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691-50DE-46B8-9948-B25ED236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6548-D679-4C33-8AC6-615B16D4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07B2-55DB-4121-9E31-4B2A07C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1878-9369-4144-972D-C09F5786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A727-AEAB-4FD0-A6D5-E353165F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82AE-9F1E-4628-8383-4A1D8E91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6A6-4DE7-486A-99BB-4504D2BB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0B8-38B4-46B0-9B67-A0494687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9E0-217E-410C-AB89-66B95180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6C4-14F1-4378-971C-E003E247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645-C33C-4EDF-8488-5B25C6F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717-743B-4215-B7B4-9B7D9722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7B9-311B-4ED1-B205-18F204B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0660-9975-412A-BF1E-29EBC8077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BB32-38A1-4A11-8116-F8DC17B63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988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"/>
              </a:rPr>
              <a:t>ENGLISH-SPEAKING COUNTRI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United Kingdom of Great Britain and Northern Irelan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untry consists of four parts  - Great Britain, Scotland, Wales and northern Ire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official language is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-36776" t="-12664" r="-10107" b="-41473"/>
          <a:stretch/>
        </p:blipFill>
        <p:spPr>
          <a:xfrm>
            <a:off x="3484440" y="2036880"/>
            <a:ext cx="57499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EAT BRITA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apital of the country is London – one of the oldest capitals in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head of the country is Queen Elizabeth the Sec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78440" y="1905120"/>
            <a:ext cx="3805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United States of                  Ame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’s one of the most powerful and advanced countries in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untry consists of 50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USA has the third largest population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Рисунок 11" descr="us_flag.jpg"/>
          <p:cNvPicPr/>
          <p:nvPr/>
        </p:nvPicPr>
        <p:blipFill>
          <a:blip r:embed="rId1"/>
          <a:stretch/>
        </p:blipFill>
        <p:spPr>
          <a:xfrm>
            <a:off x="4917960" y="2181240"/>
            <a:ext cx="39276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U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apital of the USA is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biggest city is New York – the financial and cultural center of th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C:\Users\Лена\Desktop\US Symbols\whitehouse_front.jpg"/>
          <p:cNvPicPr/>
          <p:nvPr/>
        </p:nvPicPr>
        <p:blipFill>
          <a:blip r:embed="rId1"/>
          <a:stretch/>
        </p:blipFill>
        <p:spPr>
          <a:xfrm>
            <a:off x="5533920" y="1905120"/>
            <a:ext cx="2695680" cy="201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Лена\Desktop\US Symbols\P7110283.JPG"/>
          <p:cNvPicPr/>
          <p:nvPr/>
        </p:nvPicPr>
        <p:blipFill>
          <a:blip r:embed="rId2"/>
          <a:stretch/>
        </p:blipFill>
        <p:spPr>
          <a:xfrm>
            <a:off x="5535720" y="4076640"/>
            <a:ext cx="2692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U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untry’s motto is “In God We Tru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symbol of the country is the Bald Ea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USA is a real melting pot – people of different nationalities liv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Символ США"/>
          <p:cNvPicPr/>
          <p:nvPr/>
        </p:nvPicPr>
        <p:blipFill>
          <a:blip r:embed="rId1"/>
          <a:stretch/>
        </p:blipFill>
        <p:spPr>
          <a:xfrm>
            <a:off x="4917960" y="2654280"/>
            <a:ext cx="39276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09:34:08Z</dcterms:created>
  <dc:creator>123</dc:creator>
  <dc:description/>
  <dc:language>en-US</dc:language>
  <cp:lastModifiedBy>123</cp:lastModifiedBy>
  <dcterms:modified xsi:type="dcterms:W3CDTF">2015-03-05T10:17:03Z</dcterms:modified>
  <cp:revision>3</cp:revision>
  <dc:subject/>
  <dc:title>ENGLISH-SPEAKING COUNTRIES</dc:title>
</cp:coreProperties>
</file>