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gif" ContentType="image/gif"/>
  <Override PartName="/ppt/media/image29.png" ContentType="image/png"/>
  <Override PartName="/ppt/media/image36.gif" ContentType="image/gif"/>
  <Override PartName="/ppt/media/image26.gif" ContentType="image/gif"/>
  <Override PartName="/ppt/media/image19.png" ContentType="image/png"/>
  <Override PartName="/ppt/media/image22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15.png" ContentType="image/png"/>
  <Override PartName="/ppt/media/image14.jpeg" ContentType="image/jpeg"/>
  <Override PartName="/ppt/media/image21.gif" ContentType="image/gif"/>
  <Override PartName="/ppt/media/image1.png" ContentType="image/png"/>
  <Override PartName="/ppt/media/image31.png" ContentType="image/png"/>
  <Override PartName="/ppt/media/image10.png" ContentType="image/png"/>
  <Override PartName="/ppt/media/image9.jpeg" ContentType="image/jpeg"/>
  <Override PartName="/ppt/media/image11.jpeg" ContentType="image/jpeg"/>
  <Override PartName="/ppt/media/image40.png" ContentType="image/png"/>
  <Override PartName="/ppt/media/image20.png" ContentType="image/png"/>
  <Override PartName="/ppt/media/image33.gif" ContentType="image/gif"/>
  <Override PartName="/ppt/media/image34.gif" ContentType="image/gif"/>
  <Override PartName="/ppt/media/image39.png" ContentType="image/png"/>
  <Override PartName="/ppt/media/image41.png" ContentType="image/png"/>
  <Override PartName="/ppt/media/image37.gif" ContentType="image/gif"/>
  <Override PartName="/ppt/media/image42.png" ContentType="image/png"/>
  <Override PartName="/ppt/media/image38.gif" ContentType="image/gif"/>
  <Override PartName="/ppt/media/image30.png" ContentType="image/png"/>
  <Override PartName="/ppt/media/image8.jpeg" ContentType="image/jpeg"/>
  <Override PartName="/ppt/media/image6.jpeg" ContentType="image/jpeg"/>
  <Override PartName="/ppt/media/image18.png" ContentType="image/png"/>
  <Override PartName="/ppt/media/image25.gif" ContentType="image/gif"/>
  <Override PartName="/ppt/media/image35.gif" ContentType="image/gif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8F9E-30CE-493A-8EB3-5C8C6FBCE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87D5-32AF-4D2B-B973-E8440B33AE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18BC-2CA9-4CB7-B8F9-3CB79FDD92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28C9-B53A-4F6C-B99C-6FD9DF64C0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8F9C-41BF-402F-A17F-C9E79972009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85B4-A5BE-4CB3-AC9A-EADDF255B0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E648-E648-467A-A0A8-B0310CFB67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CE1E-B667-4EB1-B1E5-6C9DBB6E4B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73C6-92A2-4B62-8D40-0776AD96CF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1813-14CA-4E72-8A99-9CEFCD0EA1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E059-3B97-4FCF-B3EE-BE23923803C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87CD1-6ED0-4B7B-A5BF-C6D78251F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7DB4-DE0A-4852-9E71-96A239E8FD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D1EB4-5869-4768-8AF4-2F2A399F161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127D0-2564-4DFF-8B19-C39D0874A8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2F410-DAAE-4B0D-A7EE-9CFEC3E722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075483-2D0C-4585-988B-82514315A0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B1176-C875-4797-A579-292E5675587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AF400-6E7E-4A53-B724-88EF5A4AE3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0AD08-7F9D-4B02-9328-6F1AAC652B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5A15D-BC20-49D2-AFCE-638D20766E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76A29-29F9-4394-B9AC-367C6965A4E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A21F8-E91F-40AE-8938-EA56615AA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F18E-5278-44C9-9847-BDD553D6EB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8A639-207B-48DA-8345-DBF15263EC7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38CFA-C4EA-4880-AB6E-C1E8F428133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8FB0C-EAF9-4297-9509-641258FD2B9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CF2EB-F556-471C-91A0-E8029837F03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B7A3F-CE2C-4BDA-B451-E05A2C695E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E5870-41F0-47DE-A4A7-CDB7AEF7BDC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8D9C8-236B-4E3E-A8B1-791917638C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9A552-3E39-49BC-AC4A-19284CE1B9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A1E7F-8482-4D33-BBD6-49E76580AE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3A460-99CD-44AF-961E-5CF525595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0425-9BB9-4651-AA91-95D64A7566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70889-4CF5-4624-B07E-8CD8267B14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BEF3E-F5FD-465A-9A23-86E02568D2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CBB6F-85E2-4114-B8BA-FB0381B6A2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3FFB-8138-4586-A055-DA24C069CE8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274C-BC25-46B0-B932-3D7F80269E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24BF8-403E-4553-99A4-CDFF56A938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48CB-D7C8-441D-B5CC-B81F72CC6D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544B-3695-407E-95ED-D34CBB72BB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3D73-FB54-4EE5-820D-A761E79390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CDE7-CFFB-4F85-BF6C-35A3D4928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5BB1-027A-44AD-A256-B9DF20510A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4FBE-27E6-4C55-B631-3E3E675E64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AEA8-9F46-484E-8B5F-2054E6F9A8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FA46-49B8-4C6B-B960-8663B612B5E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176C-A41E-48F9-A3F7-DD292F6A838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2066-BC6F-4B4A-8877-97E980ACB7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5D511-6A6E-4012-ACF0-3D1403D534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8C4D8C-4377-4FE8-B005-0C737F1981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566C53-6731-4FB7-B5D1-C804FBF6073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123E33-0B83-442A-B042-4AB90731897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F5B72-047B-4F98-8F63-5154621C9E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DE3E-2D56-4B63-B12B-46F88B90FB9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FE9E8-31AA-4B5C-A6EE-175C2528DE2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FF669-9471-42BB-8F04-174805AB606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DC3E33-A234-422D-B152-102FF572CDB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2612C-4AF8-4BEA-930B-142D5182167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D0E69-F96A-4C37-9CB1-7DEEE2355D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788BD-8415-4C4A-8328-3294BB11635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19EC2-CFED-4CE9-8A67-308D21B4B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CD1A-4061-4063-BD52-198573A53F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6128-A9AF-4B75-9F36-3D485C8100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A918-5765-4BCC-ACB5-429071813D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3992-AE58-4FC5-8F40-A0D354E24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BCAA-26DD-4C3C-A009-0EF4744B0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977C-467D-4F26-849A-9C0FD6C5A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4F24-D566-4B63-BD8F-57B4913D68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5FBB-88D6-4A97-AF2E-ED4EDB9412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E9BA-EE42-440F-9C5D-C0743E120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64CE-1E14-4282-8E60-A6690A8441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D50-1559-4B4C-8B51-810BD28F61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A89-EAF4-4366-B9B5-522C1402DC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470-8F4A-473F-8B13-66A5D229A0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084-839C-4E3B-A6CC-3D00D87B01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0AF-D93A-4099-BEE9-960CD191B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30B0-68DA-41B8-97BE-0CFAA132BE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8BE-B636-4364-92AB-E9DE259FF9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D68-871C-4A32-86FB-83D6683530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B65-1A38-4C2F-A7EC-90251F4646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5F5-D65F-45F0-9C92-324E69350C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22A-D886-463C-AE49-6D950CC88F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DBA-C7C6-474C-96F9-42E4027F05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339-78AC-4F82-9A44-28B3966369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3E77F-1DFA-4282-ADCF-AA2D844535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F7DD9-F109-4219-B2D3-DBCCE5A8EA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7935E-716C-4042-B48F-73C83A84F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C7EC-ADB9-47B7-932D-65257C3B5D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B2DDB-09A8-433A-AFB3-3AAAFFA8E3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0F3F6-F3E1-4EFC-B9D7-366F7F9B18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DECB4-563C-4764-908E-F9797F6B58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8EEB9-B703-4E45-8172-8DC8C64854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E682C-92AD-421D-B52D-E7A5B4A5B1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C9348-DEFE-4983-9305-D17436055D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18432-34AA-4F4B-84B4-D01D128D63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ED41F-3300-4025-9BC2-1D03D37544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97D3F-F6AD-4A4D-AB64-9A84A4D7D8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379BB-A074-4D61-9F1B-8CA43C0F7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FA41-3F98-40F4-AC5E-A0D1986D6F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4886F-FECB-4ABA-B5D8-DFA9D412A8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61439-FE7C-4D8D-98AF-42F0F81688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92C35-1F5D-4A47-844F-600E992C5B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26996-7766-47F1-9E32-13B856D5AF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247A0-5F52-4F87-A2C8-978A0877BA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D01C4-2473-4011-B810-1E2FAE361F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6DB1-8068-4290-BCC6-E944A565BB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9BF97-A7B6-46B7-8A6A-885D86D3C9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C607A-FE29-4E6A-90D4-172636FC76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9EB4-1678-4780-A64B-460955D81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55ED-278F-48AC-999D-B501A127F5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D479B-7241-4518-97F6-2A8A981BFF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D736-E6CD-44C1-9CEE-FE661BD784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3CA2-EECC-42A2-9E78-312EC83CE4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D0AE-2C59-4EAF-B9C1-80F9E3F0F0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7CB-CE8C-4A30-A421-E0A14C5CAC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35EA-15F7-4862-894D-4598CA4E03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F2A-FE58-442B-B58F-A537947999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92FF-578C-4D6E-95D0-ED83C43414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C35A-2CE9-4999-B377-B438FE4F85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59D-3861-4155-8738-B55DE513D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6A65-DBB6-48D9-B645-370D93B417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C958-FABE-4EDF-A8BC-3D67D4FA09E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0BC7-6AB9-4FE7-9E6C-0E1B0B30E4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0B84-DD99-4597-B246-8DCEA0431B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D5CC3-7705-4C5F-8AFE-47B950EE8F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8FDF5-8DF2-43EA-9A9A-477F8D5F43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682E8-0373-4920-9133-4C8DF70370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7C7EF-B882-452A-912B-D95A815E45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B8FDF-9327-44B1-958B-A745772EC2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7EEE9-8241-4852-80BD-49528EECA7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C712D-9B00-481B-8028-5384DD3EE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BC86-E9B2-4BA1-AB5F-30BEAD68F4E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951FB-4409-46C8-A6FB-FFB0307BA8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9F50C-32D6-4768-B21A-231C676A11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1092E-BA90-44E4-8DF1-343E643A9E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01E44-E581-47CE-A360-C3129D84AA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9BE47-8CCD-40EC-9E27-CBC5473E1C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8F85F-6BBF-4B82-90CC-151F055DD2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CAEF8-2830-494B-A6BE-F9DC0532B5D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9B0F9-5284-4DE4-A0B2-4575DEB3DE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B64D3-6640-4CB3-AD0D-816ED0FE72F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DB29D-E538-4D7F-8B3F-6B54EB329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3A4E-A299-41E5-BDBF-0EDCFA6455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810CA-FE01-4AA8-8D7D-FD8CDABAD20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7AE15-613B-42B0-A642-2EA1DD2A7B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63466-792A-46E9-B5D1-3769297B5C7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AF302-D074-4C90-AFC1-0DAC745F6C7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E6CF1-18D0-4AC3-A20B-C98A2EDD510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98D32-B0FB-4480-8BC2-31EC31A9E6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56712-2CC2-401F-94F3-FA43786461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49BE-A297-4E5B-A020-02D3416463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D5B7-2788-4DDA-92BE-D73477B817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7E6E-8076-40F3-B17F-8622F96E7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1FD98-E22A-4E8F-9845-87C7D804F9E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FEC1139-B717-4FE6-B94E-E663F5E3B743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512640" y="5846760"/>
            <a:ext cx="8628120" cy="7920"/>
            <a:chOff x="512640" y="5846760"/>
            <a:chExt cx="8628120" cy="7920"/>
          </a:xfrm>
        </p:grpSpPr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28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1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271EC55-0E88-4C12-AFAF-0DE77141C483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7174E64-27CA-4A21-B5FA-CD1E0CC4DEE6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3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3C0D028-A91C-405F-9817-A0F9DB86DE34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5DFAB5-1663-4FA8-A8FD-B879124E227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3AA6AF2-2CD3-4116-B0E1-506B5B9DC07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D56B0A-C985-460F-8604-52A6B0715155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8475840" cy="6170760"/>
            <a:chOff x="0" y="0"/>
            <a:chExt cx="8475840" cy="617076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6129360" cy="617076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0"/>
              <a:ext cx="5384880" cy="51134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1840" y="0"/>
              <a:ext cx="4535640" cy="405432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49920" y="0"/>
              <a:ext cx="3625920" cy="3363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BCD6C1-E787-4996-ABEF-7B12E1FB3B2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12640" y="5346720"/>
            <a:ext cx="8628120" cy="7920"/>
            <a:chOff x="512640" y="5346720"/>
            <a:chExt cx="8628120" cy="7920"/>
          </a:xfrm>
        </p:grpSpPr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28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B6D80A0-DA27-4648-99CB-D7AB761F67ED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7"/>
          </p:nvPr>
        </p:nvSpPr>
        <p:spPr>
          <a:xfrm>
            <a:off x="8229240" y="647352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F8C513A-1EAE-40C1-A611-3D2B4A5D5CD8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512640" y="3438360"/>
            <a:ext cx="8628120" cy="8280"/>
            <a:chOff x="512640" y="3438360"/>
            <a:chExt cx="8628120" cy="8280"/>
          </a:xfrm>
        </p:grpSpPr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28120" cy="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41DB536-3802-4F45-AF6E-F9F9A39CAD9D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512640" y="6016680"/>
            <a:ext cx="8628120" cy="9360"/>
            <a:chOff x="512640" y="6016680"/>
            <a:chExt cx="8628120" cy="9360"/>
          </a:xfrm>
        </p:grpSpPr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280961-5C3F-4B5F-A6CB-05CFB25B187E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1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6.gif"/><Relationship Id="rId14" Type="http://schemas.openxmlformats.org/officeDocument/2006/relationships/image" Target="../media/image27.gif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slide" Target="slide1.xml"/><Relationship Id="rId19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35.gif"/><Relationship Id="rId9" Type="http://schemas.openxmlformats.org/officeDocument/2006/relationships/image" Target="../media/image36.gif"/><Relationship Id="rId10" Type="http://schemas.openxmlformats.org/officeDocument/2006/relationships/image" Target="../media/image37.gif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5800" y="18252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На встречу  дружбе!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6416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оусова Е.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,педагог-психол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У «Нюксенская СОШ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5688000" cy="52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771640" y="1246320"/>
            <a:ext cx="3240360" cy="42004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rcRect l="0" t="0" r="0" b="9147"/>
          <a:stretch/>
        </p:blipFill>
        <p:spPr>
          <a:xfrm>
            <a:off x="7218360" y="318960"/>
            <a:ext cx="165888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714240" y="500040"/>
            <a:ext cx="2211480" cy="1711440"/>
            <a:chOff x="714240" y="500040"/>
            <a:chExt cx="2211480" cy="1711440"/>
          </a:xfrm>
        </p:grpSpPr>
        <p:pic>
          <p:nvPicPr>
            <p:cNvPr id="571" name="" descr=""/>
            <p:cNvPicPr/>
            <p:nvPr/>
          </p:nvPicPr>
          <p:blipFill>
            <a:blip r:embed="rId2"/>
            <a:srcRect l="0" t="2937" r="0" b="4129"/>
            <a:stretch/>
          </p:blipFill>
          <p:spPr>
            <a:xfrm>
              <a:off x="714240" y="500040"/>
              <a:ext cx="221148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14240" y="500040"/>
              <a:ext cx="221148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3"/>
          <a:srcRect l="0" t="5340" r="50025" b="3684"/>
          <a:stretch/>
        </p:blipFill>
        <p:spPr>
          <a:xfrm>
            <a:off x="6107040" y="39384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3456000" y="4956120"/>
            <a:ext cx="1428840" cy="1338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714240" y="4214880"/>
            <a:ext cx="2357640" cy="14810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6"/>
          <a:srcRect l="16643" t="5487" r="15126" b="33816"/>
          <a:stretch/>
        </p:blipFill>
        <p:spPr>
          <a:xfrm>
            <a:off x="5106960" y="2424240"/>
            <a:ext cx="2714760" cy="15714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7"/>
          <a:srcRect l="0" t="0" r="0" b="9147"/>
          <a:stretch/>
        </p:blipFill>
        <p:spPr>
          <a:xfrm>
            <a:off x="3508200" y="3209760"/>
            <a:ext cx="1214640" cy="1357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8"/>
          <a:stretch/>
        </p:blipFill>
        <p:spPr>
          <a:xfrm>
            <a:off x="714240" y="2500200"/>
            <a:ext cx="2214720" cy="14288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9"/>
          <a:srcRect l="8364" t="2759" r="9425" b="59332"/>
          <a:stretch/>
        </p:blipFill>
        <p:spPr>
          <a:xfrm>
            <a:off x="5535720" y="4583160"/>
            <a:ext cx="2286000" cy="17319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10"/>
          <a:srcRect l="50025" t="5340" r="0" b="3684"/>
          <a:stretch/>
        </p:blipFill>
        <p:spPr>
          <a:xfrm>
            <a:off x="3500280" y="428760"/>
            <a:ext cx="17146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717920" cy="24368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7297560" y="580716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8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14200" y="4470480"/>
            <a:ext cx="7526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  <a:ea typeface="Microsoft YaHei"/>
              </a:rPr>
              <a:t>	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  <a:ea typeface="Microsoft YaHei"/>
              </a:rPr>
              <a:t>П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16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619280" y="476280"/>
            <a:ext cx="424800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134136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Попробуй не наступить, 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захвати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кулак показа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спрята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крича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разорвать,..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 fill="hold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18252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кспертная оценка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стоящий друг-э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16416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.Добрый советч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.Рядом и в беде, и в рад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.Интересный собеседн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Часто груби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.Хранитель секре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Любит подра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2004840" cy="15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396720" y="299556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cap="sq" w="255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cap="sq" w="255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cap="sq" w="255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687564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1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2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3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5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629160" y="1736640"/>
            <a:ext cx="1296720" cy="1368360"/>
          </a:xfrm>
          <a:prstGeom prst="sun">
            <a:avLst>
              <a:gd name="adj" fmla="val 25000"/>
            </a:avLst>
          </a:prstGeom>
          <a:blipFill rotWithShape="0">
            <a:blip r:embed="rId1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>
            <a:hlinkClick r:id="rId18" action="ppaction://hlinksldjump"/>
          </p:cNvPr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86120" y="296640"/>
            <a:ext cx="5105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i="1" lang="ru-RU" sz="1200" spc="-1" strike="noStrike">
                <a:solidFill>
                  <a:srgbClr val="3333cc"/>
                </a:solidFill>
                <a:latin typeface="Arial"/>
                <a:ea typeface="Arial"/>
              </a:rPr>
              <a:t>П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fill="hold">
          <p:childTnLst>
            <p:seq>
              <p:cTn id="33" dur="indefinite" nodeType="mainSeq">
                <p:childTnLst>
                  <p:par>
                    <p:cTn id="34" dur="indefinite" nodeType="clickEffect" fill="hold">
                      <p:stCondLst>
                        <p:cond delay="0"/>
                      </p:stCondLst>
                      <p:childTnLst>
                        <p:par>
                          <p:cTn id="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" dur="indefinite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 -6 -7.40741 -7 L 0.05486 0.05324 C 0.06632 0.06528 0.08351 0.07199 0.10157 0.07199 C 0.12205 0.07199 0.13837 0.06528 0.14983 0.05324 L 0.20486 -7.40741 -7">
                                      <p:cBhvr>
                                        <p:cTn id="4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nodeType="click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2.59259 -6 L -0.06997 0.03125 C -0.08455 0.03819 -0.1066 0.04213 -0.129 0.04213 C -0.15504 0.04213 -0.17587 0.03819 -0.19045 0.03125 L -0.2599 2.59259 -6">
                                      <p:cBhvr>
                                        <p:cTn id="50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nodeType="click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" dur="indefinite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4.81481 -6 L 0.11685 0.05324 C 0.14132 0.06527 0.17813 0.07199 0.21667 0.07199 C 0.26007 0.07199 0.29497 0.06527 0.31945 0.05324 L 0.43716 4.81481 -6">
                                      <p:cBhvr>
                                        <p:cTn id="53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nodeType="click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nodeType="click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2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5255 L 0.02812 -0.00995 C 0.03403 -0.02407 0.04288 -0.03148 0.05208 -0.03148 C 0.0625 -0.03148 0.07101 -0.02407 0.07691 -0.00995 L 0.10538 0.05255">
                                      <p:cBhvr>
                                        <p:cTn id="73" dur="1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nodeType="click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 fill="hold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nodeType="click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-2.59259 -6 L 0.07535 -0.08611 C 0.09132 -0.10555 0.11511 -0.11551 0.13993 -0.11551 C 0.16806 -0.11551 0.1908 -0.10555 0.20677 -0.08611 L 0.28351 -2.59259 -6">
                                      <p:cBhvr>
                                        <p:cTn id="83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nodeType="click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 fill="hold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nodeType="click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 -6 L 1.85185 -6 L 0.08542 -0.0507 C 0.10348 -0.06273 0.12743 -0.06366 0.15052 -0.05556 C 0.17639 -0.04653 0.19618 -0.03009 0.20764 -0.00764 L 0.26407 0.09282 E">
                                      <p:cBhvr>
                                        <p:cTn id="93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nodeType="click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nodeType="click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nodeType="click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nodeType="click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 fill="hold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nodeType="click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nodeType="click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dur="indefinite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nodeType="click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1" dur="indefinite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-3.33333 -6 C 0.00052 0.16042 0.09566 0.28797 0.21337 0.28797 C 0.33021 0.28797 0.425 0.16042 0.42517 -3.33333 -6 C 0.42517 -0.1581 0.33021 -0.28935 0.21215 -0.28935 C 0.09601 -0.28796 2.77778 -7 -0.15926 2.77778 -7 -3.33333 -6 Z">
                                      <p:cBhvr>
                                        <p:cTn id="132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nodeType="click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 fill="hold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nodeType="click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3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 fill="hold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4.81481 -6 L -0.32274 -0.20486 E">
                                      <p:cBhvr>
                                        <p:cTn id="142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dur="indefinite" nodeType="click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46" dur="indefinite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nodeType="click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3" dur="indefinite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nodeType="click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 fill="hold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dur="indefinite" nodeType="click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nodeType="click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6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nodeType="click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" dur="indefinite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nodeType="click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2" dur="indefinite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nodeType="click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9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nodeType="click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 fill="hold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6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16860000">
            <a:off x="173520" y="50932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6860000">
            <a:off x="173520" y="3005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6860000">
            <a:off x="173520" y="70056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618f0"/>
              </a:gs>
              <a:gs pos="100000">
                <a:srgbClr val="3333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540000">
            <a:off x="1765440" y="26028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ee8f8"/>
              </a:gs>
              <a:gs pos="100000">
                <a:srgbClr val="3333cc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540000">
            <a:off x="3997440" y="2602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ee8f8"/>
              </a:gs>
              <a:gs pos="100000">
                <a:srgbClr val="6e74ee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540000">
            <a:off x="6229440" y="2602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cc99"/>
              </a:gs>
              <a:gs pos="100000">
                <a:srgbClr val="6e74ee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61800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0cc99"/>
              </a:gs>
              <a:gs pos="100000">
                <a:srgbClr val="3366ff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1800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618f0"/>
              </a:gs>
              <a:gs pos="100000">
                <a:srgbClr val="ffffff"/>
              </a:gs>
            </a:gsLst>
            <a:lin ang="27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61800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27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1160000">
            <a:off x="6159600" y="58780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89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1160000">
            <a:off x="4070160" y="587808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189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Ребята, давайте жить друж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8"/>
          <a:stretch/>
        </p:blipFill>
        <p:spPr>
          <a:xfrm>
            <a:off x="1332000" y="2492280"/>
            <a:ext cx="1054080" cy="11430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9"/>
          <a:stretch/>
        </p:blipFill>
        <p:spPr>
          <a:xfrm>
            <a:off x="7257960" y="3454560"/>
            <a:ext cx="1027080" cy="13683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 rot="11160000">
            <a:off x="1695240" y="587808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79280" y="9079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lang="ru-RU" sz="4000" spc="-1" strike="noStrike">
                <a:solidFill>
                  <a:srgbClr val="4e3b30"/>
                </a:solidFill>
                <a:latin typeface="Franklin Gothic Medium"/>
              </a:rPr>
              <a:t>Физкультминут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fill="hold">
          <p:childTnLst>
            <p:seq>
              <p:cTn id="197" dur="indefinite" nodeType="mainSeq">
                <p:childTnLst>
                  <p:par>
                    <p:cTn id="198" dur="indefinite" nodeType="clickEffect" fill="hold">
                      <p:stCondLst>
                        <p:cond delay="0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 fill="hold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 fill="hold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 fill="hold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 fill="hold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 fill="hold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 fill="hold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dur="indefinite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dur="indefinite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dur="indefinite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nodeType="click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dur="indefinite" nodeType="click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dur="indefinite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nodeType="click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dur="indefinite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93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dur="indefinite" nodeType="click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5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96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nodeType="click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dur="indefinite" nodeType="click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3" dur="indefinite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 fill="hold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nodeType="click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07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nodeType="click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nodeType="click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17" dur="indefinite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dur="indefinite" nodeType="click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22" dur="indefinite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nodeType="click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 fill="hold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dur="indefinite" nodeType="click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 fill="hold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dur="indefinite" nodeType="click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 fill="hold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dur="indefinite" nodeType="click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dur="indefinite" nodeType="click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dur="indefinite" nodeType="click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dur="indefinite" nodeType="click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dur="indefinite" nodeType="click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62" dur="indefinite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363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nodeType="click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5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dur="indefinite" nodeType="click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0" dur="indefinite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371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nodeType="click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3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авила дружб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16416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сори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груб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уп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жаднич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г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прощ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честн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зли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85800" y="30240"/>
            <a:ext cx="7772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.Чюрленис </a:t>
            </a:r>
            <a:br>
              <a:rPr sz="4000"/>
            </a:b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(1875-1911)</a:t>
            </a:r>
            <a:br>
              <a:rPr sz="14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ружба»</a:t>
            </a:r>
            <a:br>
              <a:rPr sz="2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900000" y="1833480"/>
            <a:ext cx="3306960" cy="4173480"/>
            <a:chOff x="900000" y="1833480"/>
            <a:chExt cx="3306960" cy="417348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900000" y="1833480"/>
              <a:ext cx="3306960" cy="41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900000" y="1833480"/>
              <a:ext cx="3306960" cy="41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508720" y="2060640"/>
            <a:ext cx="3240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– это корабл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вместе плыве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рослея и люб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– это детский сме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етская иг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- это солнц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на ладонях дружбы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*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лнце на ладоня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янутое тебе 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"Дружба" Чюрленис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232000" cy="15177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3600360" y="1944720"/>
            <a:ext cx="1944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44:35Z</dcterms:created>
  <dc:creator>user</dc:creator>
  <dc:description/>
  <dc:language>en-US</dc:language>
  <cp:lastModifiedBy>1</cp:lastModifiedBy>
  <dcterms:modified xsi:type="dcterms:W3CDTF">2021-08-27T07:41:16Z</dcterms:modified>
  <cp:revision>25</cp:revision>
  <dc:subject/>
  <dc:title>Методика подготовки  и проведения урока «Подготовка творческих проектов»</dc:title>
</cp:coreProperties>
</file>