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357-48EA-4F5B-82B2-491899E4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C63-39D1-465B-9679-C3639EE0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28E-B677-4CEE-BD25-201CE88F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990-C2AF-4372-B1D7-B23E158B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026-E372-4D58-AA16-13615548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38F-AF00-401D-AAF0-8F67EBB2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E9D-566D-4C9D-B25F-21EFCAF3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059-9744-4FB0-ADD1-4E547589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5BF-8088-4FFA-9E2F-C88F83FA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66D-6E33-4EDC-A52A-CCBA9466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387-7D0C-4284-A7B3-512B7259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85E-2B37-4C3B-823A-639CA860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9B8-2744-4F65-9982-05FBFD6DB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5228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0" t="12817" r="1321" b="15251"/>
          <a:stretch/>
        </p:blipFill>
        <p:spPr>
          <a:xfrm>
            <a:off x="2436840" y="2666880"/>
            <a:ext cx="4545000" cy="19972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547560" y="728640"/>
            <a:ext cx="794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КНШ Д/С №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и преимущества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платформы Учи.ру  для дистанцион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обра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438280" y="5551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ыш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368600" cy="32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rcRect l="0" t="3313" r="0" b="5909"/>
          <a:stretch/>
        </p:blipFill>
        <p:spPr>
          <a:xfrm>
            <a:off x="3809880" y="3301920"/>
            <a:ext cx="4876920" cy="294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277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 обучение, на данный момент, стало играть немаловажную роль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множество причин, по которым ребёнок не посещает дошкольное учреждение: больничный лист, выезд на соревнования,  , когда ребёнок находится на домашнем режиме, дети с ОВЗ, экстренные ситуации, например карантин и т.д., поэтому  в таких случаях очень хорошим инструментом для дистанционного обучения является платформа Учи. 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курсы полностью соответствуют ФГОС, а содержание предметов соответствует программам образовательных учре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1"/>
          <a:srcRect l="68624" t="11629" r="22093" b="71791"/>
          <a:stretch/>
        </p:blipFill>
        <p:spPr>
          <a:xfrm>
            <a:off x="7162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4800" y="380880"/>
            <a:ext cx="579780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0" t="3872" r="0" b="4183"/>
          <a:stretch/>
        </p:blipFill>
        <p:spPr>
          <a:xfrm>
            <a:off x="2846520" y="2814480"/>
            <a:ext cx="6205320" cy="38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43080" y="3689280"/>
            <a:ext cx="3828960" cy="2870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rcRect l="12934" t="9633" r="14231" b="17528"/>
          <a:stretch/>
        </p:blipFill>
        <p:spPr>
          <a:xfrm>
            <a:off x="4535640" y="3657600"/>
            <a:ext cx="4375080" cy="290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rcRect l="2942" t="7202" r="46409" b="35447"/>
          <a:stretch/>
        </p:blipFill>
        <p:spPr>
          <a:xfrm>
            <a:off x="1981080" y="208080"/>
            <a:ext cx="4572000" cy="323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447920" y="2430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 Учи.р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 - деятельн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957240" y="117324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ребят повышается во время проведения марафонов - соревнований по количеству решённых карточек на Учи.ру между ребятами одновременно внутри одного класса и среди всех груп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2913" t="3193" r="1882" b="7663"/>
          <a:stretch/>
        </p:blipFill>
        <p:spPr>
          <a:xfrm>
            <a:off x="1982880" y="2637000"/>
            <a:ext cx="5408640" cy="356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143000" y="1371600"/>
            <a:ext cx="716292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айте появились новые сервисы для дистанционного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лайн-уроки - готовые видеоуроки, на которых учителя разбирают сложные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иртуальный класс» - это сервис, в котором педагог может провести урок онлай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Задания от учителя» - ученики закрепляют знания, решая карточки, а результаты проверяются автомати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могает повышать образовательные результ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сваивать материал без пробе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вышает интерес к об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Даёт доступ к образованию детям с особыми образовательными потребност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Помогает осваивать компьютер и компьютерные технологии в непринуждённой игровой фор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Формирует навык смыслового чт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Развивает логическ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219320" y="4572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Stencil Std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2498" r="1526" b="16790"/>
          <a:stretch/>
        </p:blipFill>
        <p:spPr>
          <a:xfrm>
            <a:off x="838080" y="1828800"/>
            <a:ext cx="6502680" cy="397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инягина</dc:creator>
  <dc:description/>
  <dc:language>en-US</dc:language>
  <cp:lastModifiedBy>1</cp:lastModifiedBy>
  <dcterms:modified xsi:type="dcterms:W3CDTF">2021-04-20T07:28:4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