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gif" ContentType="image/gif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20.gif" ContentType="image/gif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dt" idx="2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A1B88-BA24-40E6-8280-C5821D44FD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5A1DC-A620-4551-AC26-1DA5D6F60A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5C5DA-25DC-4171-970A-1DBEDBE09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9D880-7FA4-41B0-97C9-A50A531184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F02B6-5657-41EC-A8F7-B59BB486AC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23F0C-28AA-4297-893F-FF9F186C0A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B8B-53A1-48B4-B485-4000F7E4E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307-A5C4-44EC-93B5-3EA8CDD9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DD5-E879-40E5-BB64-58182CA9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AB7-B5A4-4091-9AC2-AB994AAC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4872-DC9C-41FA-AA76-3F45613F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51DC-37F4-4C66-A80E-5E76DC46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CDDF-FF8B-4A5B-AC67-C3354F8B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3AB9-C40C-4D82-8351-944A320D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1E84-62E9-4F04-AB1C-0BA83F36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18EF-19BE-48DE-A68E-6A489F86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564A-1A11-4CC9-A155-9136B594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D66-C897-466A-BCA1-1AA7D80F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263D-1BCF-4BD8-8C64-CADC4180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C980-6B2D-415F-9FA2-93EB69E5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FB07-DF20-4C31-8CFD-928E3E4A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892E-4246-4642-B7D6-0BAAA734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8369-ADEE-4275-96D9-2B3235A3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A4B76-4EBC-488C-BC94-D5FA60FD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29BD8-8442-42C7-9ED8-47D974011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5641A-26FE-4997-A697-108AB6B4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861B3-86FD-44A7-94DE-751C167D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DFEF9-4DD2-43D5-8B9A-C5307D5B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AFE7-5603-41B6-A193-CEAA163E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6152F-50AC-4E3C-9987-E1EDACE5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B0473-91ED-4F4F-9FF5-934F1D5B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176DD-9D3C-4A02-923D-AD7A0684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BB74F-18D6-4E69-B2DC-F10673B0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0E99C-BB28-4A9A-A999-C105A258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EFA4B-FC74-42D8-9B75-CACD6938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CEF62-A2AE-4532-9A87-B708FB97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133A6-585C-4911-8002-FB02E04A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104EE-2244-4F6C-8C55-52E902D1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37B8D-304B-4A65-8DFF-096631CB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3A40-6876-498E-97B0-A0556494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3DE17-D44B-4E92-8E47-A550B62B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6698F-4BD4-4FE4-A929-9D26072C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987F6-C302-4243-A10B-562E956C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90426-DB5A-4D42-A54A-2C088516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EA542-9385-4F75-B2A8-59A3372D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A74D8-0770-46CA-BA5A-ED617AC5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B4619-5FE8-47B4-A833-BDE887B9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A9992-D0B4-4CB9-AEF9-DE09F44F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D1F58-804E-4AA8-9DA1-4DC69DA3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29036-99BD-473C-8BAF-573DA1AC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81E-05C0-41D4-BE0E-B7394A55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B350D-58FF-4D77-953E-DE7BD501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4A54C-0D71-479F-8960-2F6DCBC7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A8B06-BF7D-4B8A-B615-60DA1910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673F4-D133-4D2D-B7E4-5A3A2B78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DE982-340D-4B2A-BB29-BBCAF5BB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2C33B-2648-4267-8532-2BA8FB67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76D2E-A46E-48AF-99AB-44DD5A10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D172C-258F-4999-8779-E433CE0D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76773-22EB-417D-9DE6-D8206C55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B3B75-6167-4337-A9BC-7FB62B8C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CEAA-1B7B-4EDC-A57B-7936F683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7444D-FB1E-4391-AFD7-E9451380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3F58C-48FE-4370-A94F-B1DE104A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7594B-E737-4F0F-B139-7715A961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B9455-C11B-4EA5-AEB2-D016C40D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0395E-096D-47A0-A190-1D8A4149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263F3-65F5-4EFB-9CA8-7E1253DF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19557-791E-4D74-8D0B-9965CF95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4A0C7-50FB-44B9-83BE-9B227EB2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3A934-38F5-4FDF-97C4-3211D08E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19EDF-9BE6-49D1-8ED6-73E37F9A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511-9235-485E-B8DC-5FD68282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CC1AC-EF0B-49B8-824F-76D2FED9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7E4CA-A844-41F8-9651-907B33003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EDA76-82CC-4638-852C-8006CA238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D6B55-3D93-4072-ABB7-8EA8D582B0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F297B7-3624-474B-B649-BCF521B7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888AB2-04BD-4F74-827C-34F74309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49EE22-1581-473B-BF0F-05AC8410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D669C5-5ED2-4393-BF6F-6710081E0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91DF4A-F9DB-4C64-BAE9-39619530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9966DD-155E-46A8-9C5A-17EDAA08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AC7-5FAC-4A9F-A832-612EB1D8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E78DE-8E17-44D8-9BB4-FDFED70B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806D6E-089C-4365-82AF-649CB2A2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244D7E-3FCA-4629-A430-619A3563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5C55D-5B00-42DC-B458-DD9056F3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A8A4A7-1AFA-4659-A62F-2D2A9C98BC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9E4-0C71-4C4E-A9E3-7F235F0E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6D954-667D-48D6-8189-3C944546B9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A37C8-28B3-4ADD-BCDE-DAAFEAFA39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B071D-34B8-4576-86EA-9A09CDB801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1CAB38-303C-45F3-AA0E-6746FF1B6A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DDE044-345E-4D1F-B431-BA94639C43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E9B0C-A891-4FED-B4BD-5EC1F6F095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0226CC-78AF-41B7-8F87-E5DF2655F6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1" descr=""/>
          <p:cNvPicPr/>
          <p:nvPr/>
        </p:nvPicPr>
        <p:blipFill>
          <a:blip r:embed="rId1"/>
          <a:stretch/>
        </p:blipFill>
        <p:spPr>
          <a:xfrm>
            <a:off x="689040" y="1249200"/>
            <a:ext cx="7772400" cy="25909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"/>
          <p:cNvSpPr/>
          <p:nvPr/>
        </p:nvSpPr>
        <p:spPr>
          <a:xfrm>
            <a:off x="5735160" y="5889600"/>
            <a:ext cx="32439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 «НОС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енко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особенность такого вида вязания - использование рук в качестве инструмента вязания, вместо привычных спиц. При помощи такой необычной техники можно связать  изделие большого размера из ниток большого диаметра, например, шарф, покрывало или плед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3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C:\Users\малыш\Елена\вяжем\технолог\работа\m-_B8gSRtkA.jpg"/>
          <p:cNvPicPr/>
          <p:nvPr/>
        </p:nvPicPr>
        <p:blipFill>
          <a:blip r:embed="rId2"/>
          <a:stretch/>
        </p:blipFill>
        <p:spPr>
          <a:xfrm>
            <a:off x="2700360" y="3645000"/>
            <a:ext cx="4319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обучения и воспитания слепых и слабовидящих: Сб. науч. трудов. / Под ред. А.Г. Литвака. — Л., 1981. — 122 с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вязания электронный ресурс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http://www.myjane.ru/articles/text/?id=257 , - 2017. - 02.02.2017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ратов А.М. Восстановление трудоспособности слепых: Учебно-методическое пособие.— М.: Из-во ВОС, 1976.—143 с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агин Ю.А. Восприятие средств наглядности учащимися школы слепых.— М.: Просвещение, 1969.—Гл. IV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вак А.Г. Теоретические вопросы тифлопсихологии: Учеб. Пособие.— Л.: ЛГПИ им. А.И. Герцена, 1973.—155 с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ва Л.И. Модели интегрированного обучения детей с нарушениями зрения //Дефектология. - 1997.- № 2.- С. 8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моленко А.В. Осязание в процессе познания и труда.— М.: Из-во АПН РСФСР, 1959.—Гл. 1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Дата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https://st.stranamam.ru/data/cache/2017nov/01/09/23266824_88570.jpg"/>
          <p:cNvPicPr/>
          <p:nvPr/>
        </p:nvPicPr>
        <p:blipFill>
          <a:blip r:embed="rId1"/>
          <a:stretch/>
        </p:blipFill>
        <p:spPr>
          <a:xfrm>
            <a:off x="539640" y="387684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https://st.stranamam.ru/data/cache/2017nov/01/09/23266824_88570.jpg"/>
          <p:cNvPicPr/>
          <p:nvPr/>
        </p:nvPicPr>
        <p:blipFill>
          <a:blip r:embed="rId2"/>
          <a:stretch/>
        </p:blipFill>
        <p:spPr>
          <a:xfrm>
            <a:off x="6804000" y="4005360"/>
            <a:ext cx="2063880" cy="2063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https://www.chitalnya.ru/upload2/365/58c09ef93bbd623991f906f72d3b7ade.jpg"/>
          <p:cNvPicPr/>
          <p:nvPr/>
        </p:nvPicPr>
        <p:blipFill>
          <a:blip r:embed="rId3"/>
          <a:stretch/>
        </p:blipFill>
        <p:spPr>
          <a:xfrm>
            <a:off x="1258920" y="2133720"/>
            <a:ext cx="73645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611280" y="620640"/>
            <a:ext cx="806436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Истоки и дарования детей на кончиках пальцев. От пальцев, образно говоря, идут тончайшие нити-ручейки, которые питают источник творческой мысли». Другими словами, чем больше мастерства в детской руке, тем умнее ребёнок.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.А. Сухом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онечно, в процессе освоения творческой деятельности любые дети сталкиваются со сложностями, а мы в свою очередь их поправляем и помогаем. Но есть категория слепых и слабовидящих детей, которым особенно нужна не толь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аша  физическая помощь, но и моральная поддержка, вера в их способ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еобходимо только помочь таким детям поверить в свои силы, раскрыть их возможности, дать нужные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39280" y="836280"/>
            <a:ext cx="8147160" cy="5040360"/>
          </a:xfrm>
          <a:prstGeom prst="rect">
            <a:avLst/>
          </a:prstGeom>
          <a:noFill/>
          <a:ln w="9360">
            <a:solidFill>
              <a:srgbClr val="d488c5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дети с нарушениями зрения нуждаются в развитии мелкой моторики, т. к. хорошо развитые движения и тактильная чувствительность пальцев в значительной степени компенсирует недостаточность зр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занятий по развитию мелкой моторики является формирование у детей с нарушением зрения умений и навыков осязательного восприятия предметов и явлений окружающего мир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Центром всей учебно-воспитательной работы является трудовое воспитание учащихся. Дети занимаются самыми разнообразными видами практической деятельности, имеющими общественно-полезное 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4360" y="2133360"/>
            <a:ext cx="7858080" cy="1803240"/>
          </a:xfrm>
          <a:prstGeom prst="rect">
            <a:avLst/>
          </a:prstGeom>
          <a:noFill/>
          <a:ln w="9360">
            <a:solidFill>
              <a:srgbClr val="d488c5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2754"/>
                </a:solidFill>
                <a:latin typeface="Arial"/>
                <a:ea typeface="Arial"/>
              </a:rPr>
              <a:t>ВАШЕМУ ВНИМАНИЮ ПРЕДЛАГАЮ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2754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772754"/>
                </a:solidFill>
                <a:latin typeface="Arial"/>
                <a:ea typeface="Arial"/>
              </a:rPr>
              <a:t>СЛЕДУЮЩИЕ ВИДЫ РУЧНОГО ТРУДА С ДЕТЬМ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sp>
        <p:nvSpPr>
          <p:cNvPr id="339" name="Дата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Содержимое 6" descr="Как слепить гусеницу из пластилина поэтапно - шаг 1"/>
          <p:cNvPicPr/>
          <p:nvPr/>
        </p:nvPicPr>
        <p:blipFill>
          <a:blip r:embed="rId2"/>
          <a:srcRect l="0" t="0" r="0" b="11642"/>
          <a:stretch/>
        </p:blipFill>
        <p:spPr>
          <a:xfrm>
            <a:off x="928800" y="1500120"/>
            <a:ext cx="2928960" cy="18050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Как слепить гусеницу из пластилина поэтапно - шаг 2"/>
          <p:cNvPicPr/>
          <p:nvPr/>
        </p:nvPicPr>
        <p:blipFill>
          <a:blip r:embed="rId3"/>
          <a:srcRect l="0" t="0" r="0" b="11584"/>
          <a:stretch/>
        </p:blipFill>
        <p:spPr>
          <a:xfrm>
            <a:off x="5000760" y="1500120"/>
            <a:ext cx="3071520" cy="17859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Гусеница своими руками: как сделать поделку из цветной бумаги, носка,  пластилина | Все о рукоделии"/>
          <p:cNvPicPr/>
          <p:nvPr/>
        </p:nvPicPr>
        <p:blipFill>
          <a:blip r:embed="rId4"/>
          <a:stretch/>
        </p:blipFill>
        <p:spPr>
          <a:xfrm>
            <a:off x="2786040" y="3857760"/>
            <a:ext cx="40719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, которая еще называется рисование нитью. В ее основе лежит последовательное заполнение контуров выбранных изображений при помощи шнурков либо толстых ниток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4" name="Заголовок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45" name="Дата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4" descr="https://www.maam.ru/upload/blogs/detsad-251176-1516444953.jpg"/>
          <p:cNvPicPr/>
          <p:nvPr/>
        </p:nvPicPr>
        <p:blipFill>
          <a:blip r:embed="rId2"/>
          <a:srcRect l="17633" t="36428" r="8455" b="4967"/>
          <a:stretch/>
        </p:blipFill>
        <p:spPr>
          <a:xfrm>
            <a:off x="642960" y="2857680"/>
            <a:ext cx="2914560" cy="182880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5" descr="C:\Users\User\Pictures\20201015_122204.jpg"/>
          <p:cNvPicPr/>
          <p:nvPr/>
        </p:nvPicPr>
        <p:blipFill>
          <a:blip r:embed="rId3"/>
          <a:srcRect l="22822" t="13887" r="7112" b="20602"/>
          <a:stretch/>
        </p:blipFill>
        <p:spPr>
          <a:xfrm>
            <a:off x="3786120" y="2643120"/>
            <a:ext cx="1984320" cy="253368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6" descr="Поделки из ниток. Помпоны, пряжа, изонить, ниткография в старшей группе -  Страница 2. Воспитателям детских садов, школьным учителям и педагогам -  Маам.ру"/>
          <p:cNvPicPr/>
          <p:nvPr/>
        </p:nvPicPr>
        <p:blipFill>
          <a:blip r:embed="rId4"/>
          <a:srcRect l="15813" t="2817" r="34389" b="66969"/>
          <a:stretch/>
        </p:blipFill>
        <p:spPr>
          <a:xfrm>
            <a:off x="6000840" y="2857680"/>
            <a:ext cx="278604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1"/>
          <p:cNvSpPr/>
          <p:nvPr/>
        </p:nvSpPr>
        <p:spPr>
          <a:xfrm>
            <a:off x="468360" y="1341360"/>
            <a:ext cx="77040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этим видом работы справляются как слабовидящие дети, так и слепые. Простое перекатывание бусин или бисера на кончиках пальцев дает хороши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2"/>
          <a:stretch/>
        </p:blipFill>
        <p:spPr>
          <a:xfrm>
            <a:off x="2987640" y="2852640"/>
            <a:ext cx="3537000" cy="303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24T23:28:26Z</dcterms:created>
  <dc:creator>User</dc:creator>
  <dc:description/>
  <dc:language>en-US</dc:language>
  <cp:lastModifiedBy>малыш</cp:lastModifiedBy>
  <dcterms:modified xsi:type="dcterms:W3CDTF">2021-10-10T11:29:04Z</dcterms:modified>
  <cp:revision>61</cp:revision>
  <dc:subject/>
  <dc:title>«Руки как инструмент познания окружающего мир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6</vt:r8>
  </property>
</Properties>
</file>