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812-C96B-46F8-9F7D-CEB3F89A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3EE2-3FA9-4D07-B28C-4A2A9EF6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FC0-D2A8-45B7-BF4C-DC9D5602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6AE4-D718-44F0-B89B-0C61313E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961D-9F8E-43B9-BCD2-6907F8C3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4EFA-11D7-42D3-867E-EE944944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D9CF-710F-4029-9F48-A3F21E57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6A89-4AEE-4CE2-8BAC-9FB90B5C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2ABA-95B0-4FF8-A0EA-5163C56C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486A-BA4A-409B-8CD4-4419B201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D2FA-F4D7-40C1-95A8-349BEC4E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F3D6-CBAC-4553-AE2B-4510DDD2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96B7-9A3A-4617-B1A7-4906FE17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88FC-C3B4-4573-AEC9-049C71E1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54C1-BBBA-492B-AFDE-9B72AB99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ABE6-850C-46EC-95AB-1A3D9B0E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1223-824C-4A68-9248-4AE33AEB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E05D6-E07E-4CA1-BE21-BE849DBE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61EDA-453E-43A0-9EA9-AE704484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AFC89-F310-470F-81E7-2BB5387D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8CF37-7E42-4654-B74E-2373C889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60015-471E-48FC-ABA0-721605B4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D94-BCF9-4391-A7AF-2C842676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23F59-EC49-4390-B40D-D2C5AFCE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3A750-07C8-4B65-A8E5-09F30238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F548C-857C-4D70-9695-7885B03D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5EBAB-A2E7-46B2-BBB4-E5C25C75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5EA5F-18E6-4DF5-A955-FD0C7431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8D322-086F-4BFA-ADA6-5E76148B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EC514-3BAC-48D9-BA36-515D4705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08731-6CFD-4931-9543-965010B9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54D7D-4B9C-4EAC-A329-99208A7C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D4174-E6F3-4F75-B2E5-8B999F68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3C04-BAB3-407D-B212-3F5798FC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F0206-D790-4FCB-9A26-706478FE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5313D-23D2-464E-8715-93C22A58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56DD8-F0CE-4964-835B-5E3B57DF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A0948-AE4B-4FBB-8212-D40F7112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30A98-3AAD-4D29-BB3B-C202678A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C2D19-DDA5-4B3F-B598-EABDBA45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04E05-9B18-442A-8658-E0664E17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B7222-C654-470E-8956-80751EE1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BAD32-5F38-4A24-BA3F-4224F56F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9700-DF40-410C-A7AE-7AE503E7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D434-13CB-4AD9-95F0-CD46B7A9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202-654B-43C8-8059-87BDB47F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765-3E9F-4D8A-96D0-F9FD3A6D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4E43-6F47-4107-B2E4-251BF030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CC8A-EA1B-44D3-8AEE-ED44127E9FE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49DB-1D97-403B-AF3F-32CF84F5D0F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DFFE-2A46-40F4-9F6A-25A435BD8B1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827C-75FD-4492-9E3D-A48E3BBFCC5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helpline@detionline.com" TargetMode="External"/><Relationship Id="rId2" Type="http://schemas.openxmlformats.org/officeDocument/2006/relationships/hyperlink" Target="http://detionline.com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Trebuchet MS"/>
              </a:rPr>
              <a:t>Защита персональных данных</a:t>
            </a:r>
            <a:endParaRPr b="0" lang="en-US" sz="4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«ЛИЧНОЕ-ПУБЛИЧНОЕ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age5.jpeg" descr=""/>
          <p:cNvPicPr/>
          <p:nvPr/>
        </p:nvPicPr>
        <p:blipFill>
          <a:blip r:embed="rId1"/>
          <a:stretch/>
        </p:blipFill>
        <p:spPr>
          <a:xfrm>
            <a:off x="88920" y="150840"/>
            <a:ext cx="896616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1143000" y="1859040"/>
            <a:ext cx="6286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авильный ответ: Нет, не может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анные, которые содержатся в Вашем аккаунте – это Ваше личное пространство, которое содержит огромное количество не только данных о Вас, но и тех людей, с которыми Вы общаетесь. Предоставив кому-то доступ к своему аккаунту, Вы даете возможность другу не только посмотреть какой-то конкретный файл, но также доступ ко всей информации из Вашего аккаунт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image6.jpeg" descr=""/>
          <p:cNvPicPr/>
          <p:nvPr/>
        </p:nvPicPr>
        <p:blipFill>
          <a:blip r:embed="rId1"/>
          <a:stretch/>
        </p:blipFill>
        <p:spPr>
          <a:xfrm>
            <a:off x="46080" y="84240"/>
            <a:ext cx="9051840" cy="66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2286000" y="213660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авильный ответ: ФИО; адрес, где Вы живете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Эти данные позволяют установить Вашу личность в реальной жизни и дают возможность для вторжения в Ваше личное пространство, а также для использования Вас как объекта навязчивой рекламы или противоправных действ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image7.jpeg" descr=""/>
          <p:cNvPicPr/>
          <p:nvPr/>
        </p:nvPicPr>
        <p:blipFill>
          <a:blip r:embed="rId1"/>
          <a:stretch/>
        </p:blipFill>
        <p:spPr>
          <a:xfrm>
            <a:off x="60480" y="1440"/>
            <a:ext cx="902304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"/>
          <p:cNvSpPr/>
          <p:nvPr/>
        </p:nvSpPr>
        <p:spPr>
          <a:xfrm>
            <a:off x="2286000" y="199692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авильный ответ: Массовое распространение фотографии в сети, если не настроена приватность учетной записи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ы никогда не узнаете точно, что имеет доступ к такой информации. Более того, вполне возможно, что Ваш друг не хочет, чтобы фотография, на которой Вы его отметили, увидели другие люди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image8.jpeg" descr=""/>
          <p:cNvPicPr/>
          <p:nvPr/>
        </p:nvPicPr>
        <p:blipFill>
          <a:blip r:embed="rId1"/>
          <a:stretch/>
        </p:blipFill>
        <p:spPr>
          <a:xfrm>
            <a:off x="187200" y="1440"/>
            <a:ext cx="87696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1428840" y="1859040"/>
            <a:ext cx="650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авильный ответ: Расскажешь взрослому и попросишь совет; Не отдашь личные данные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Не стоит сообщать незнакомым людям в сети много информации о себе. Вы не можете точно знать, что за человек с Вами общается в Интернете и как он будет использовать Ваши персональные данные. Старайтесь советоваться со взрослыми, как Вам лучше поступить в таком случае.»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ермины и опреде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рсональные данны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любая информация, относящаяся к определенному или определяемому на основании такой информации физическому лицу (субъекту персональных данных), в том числе его фамилий, имя, отчество, год, месяц, дата и место рождения, адрес, семейное, социальное, имущественное положение, образование, профессия, доходы, другая информаци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ормативные документ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едеральный закон РФ от 27.07.2006г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52-ФЗ «О персональных данных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57920" y="3210480"/>
            <a:ext cx="817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(в ред. Федеральных законов от 25.11.2009 N 266-ФЗ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от 27.12.2009 N 363-ФЗ, от 28.06.2010 N 123-ФЗ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от 27.07.2010 N 204-ФЗ, от 27.07.2010 N 227-ФЗ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от 29.11.2010 N 313-ФЗ от 23.12.2010 N 359-ФЗ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от 04.06.2011 N 123-ФЗ, от 25.07.2011 N 261-ФЗ)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image1.jpeg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68817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"/>
          <p:cNvSpPr/>
          <p:nvPr/>
        </p:nvSpPr>
        <p:spPr>
          <a:xfrm>
            <a:off x="0" y="39564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6920" rIns="64116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1f20"/>
                </a:solidFill>
                <a:latin typeface="Times New Roman"/>
                <a:ea typeface="Calibri"/>
              </a:rPr>
              <a:t>ИНФОРМАЦИЯ О ВСЕРОССИЙСКОЙ ЛИНИИ ПОМОЩИ </a:t>
            </a:r>
            <a:r>
              <a:rPr b="1" lang="ru-RU" sz="1800" spc="-1" strike="noStrike">
                <a:solidFill>
                  <a:srgbClr val="231f20"/>
                </a:solidFill>
                <a:latin typeface="Garamond"/>
                <a:ea typeface="Calibri"/>
              </a:rPr>
              <a:t>«</a:t>
            </a:r>
            <a:r>
              <a:rPr b="1" lang="ru-RU" sz="1800" spc="-1" strike="noStrike">
                <a:solidFill>
                  <a:srgbClr val="231f20"/>
                </a:solidFill>
                <a:latin typeface="Times New Roman"/>
                <a:ea typeface="Calibri"/>
              </a:rPr>
              <a:t>ДЕТИ ОНЛАЙН</a:t>
            </a:r>
            <a:r>
              <a:rPr b="1" lang="ru-RU" sz="1800" spc="-1" strike="noStrike">
                <a:solidFill>
                  <a:srgbClr val="231f20"/>
                </a:solidFill>
                <a:latin typeface="Garamond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20"/>
                </a:solidFill>
                <a:latin typeface="Garamond"/>
                <a:ea typeface="Calibri"/>
              </a:rPr>
              <a:t>Сталкиваясь с проблемами в сети, дети и подростки часто не знают, как поступить в неприятной или опасной ситуации   и куда можно обратиться за помощью. В 2009 г. в рамках Года Безопасного Интернета в России была создана Линия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20"/>
                </a:solidFill>
                <a:latin typeface="Garamond"/>
                <a:ea typeface="Calibri"/>
              </a:rPr>
              <a:t>«Дети Онлайн» для оказания психологической и информационной поддержки детям и подросткам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20"/>
                </a:solidFill>
                <a:latin typeface="Garamond"/>
                <a:ea typeface="Calibri"/>
              </a:rPr>
              <a:t>Линия помощи «Дети Онлайн» — это служба телефонного и онлайн-консультирования по вопросам безопасного использования интернета и мобильной связи для детей, подростков, родителей и работников образовательных учреждений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20"/>
                </a:solidFill>
                <a:latin typeface="Garamond"/>
                <a:ea typeface="Calibri"/>
              </a:rPr>
              <a:t>На Линии помощи работают профессиональные психологи- эксперты Фонда Развития Интернет и факультета психологии МГУ имени М.В. Ломоносова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20"/>
                </a:solidFill>
                <a:latin typeface="Garamond"/>
                <a:ea typeface="Calibri"/>
              </a:rPr>
              <a:t>Обратиться на Линию помощи можно как по телефону, так и по электронной почте или в онлайн-чате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1f20"/>
                </a:solidFill>
                <a:latin typeface="Garamond"/>
                <a:ea typeface="Calibri"/>
              </a:rPr>
              <a:t>Часы работы: </a:t>
            </a:r>
            <a:r>
              <a:rPr b="0" lang="ru-RU" sz="1800" spc="-1" strike="noStrike">
                <a:solidFill>
                  <a:srgbClr val="231f20"/>
                </a:solidFill>
                <a:latin typeface="Garamond"/>
                <a:ea typeface="Calibri"/>
              </a:rPr>
              <a:t>с 9 до 18 часов в будние дни (перерыв с 13 до 14 часов), звонок по России бесплатный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1f20"/>
                </a:solidFill>
                <a:latin typeface="Times New Roman"/>
                <a:ea typeface="Calibri"/>
              </a:rPr>
              <a:t>Телефон: </a:t>
            </a:r>
            <a:r>
              <a:rPr b="0" lang="ru-RU" sz="1800" spc="-1" strike="noStrike">
                <a:solidFill>
                  <a:srgbClr val="231f20"/>
                </a:solidFill>
                <a:latin typeface="Times New Roman"/>
                <a:ea typeface="Calibri"/>
              </a:rPr>
              <a:t>8-800-25-000-15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1f20"/>
                </a:solidFill>
                <a:latin typeface="Times New Roman"/>
                <a:ea typeface="Calibri"/>
              </a:rPr>
              <a:t>Электронная почта: </a:t>
            </a:r>
            <a:r>
              <a:rPr b="1" lang="ru-RU" sz="1800" spc="-1" strike="noStrike" u="sng">
                <a:solidFill>
                  <a:srgbClr val="67afbd"/>
                </a:solidFill>
                <a:uFillTx/>
                <a:latin typeface="Times New Roman"/>
                <a:ea typeface="Calibri"/>
                <a:hlinkClick r:id="rId1"/>
              </a:rPr>
              <a:t>helpline@detionline.co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1f20"/>
                </a:solidFill>
                <a:latin typeface="Times New Roman"/>
                <a:ea typeface="Calibri"/>
              </a:rPr>
              <a:t>Онлайн-чат: </a:t>
            </a:r>
            <a:r>
              <a:rPr b="1" lang="ru-RU" sz="1800" spc="-1" strike="noStrike" u="sng">
                <a:solidFill>
                  <a:srgbClr val="67afbd"/>
                </a:solidFill>
                <a:uFillTx/>
                <a:latin typeface="Times New Roman"/>
                <a:ea typeface="Calibri"/>
                <a:hlinkClick r:id="rId2"/>
              </a:rPr>
              <a:t>http://detionline.com/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0" y="92628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360" rIns="111564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1f20"/>
                </a:solidFill>
                <a:latin typeface="Times New Roman"/>
                <a:ea typeface="Calibri"/>
              </a:rPr>
              <a:t>ПРАВИЛА СОСТАВЛЕНИЯ НАДЕЖНЫХ ПАРОЛЕЙ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1f20"/>
                </a:solidFill>
                <a:latin typeface="Garamond"/>
                <a:ea typeface="Calibri"/>
              </a:rPr>
              <a:t>Признаки надежного пароля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179280">
              <a:lnSpc>
                <a:spcPct val="100000"/>
              </a:lnSpc>
              <a:buClr>
                <a:srgbClr val="231f20"/>
              </a:buClr>
              <a:buFont typeface="Times New Roman"/>
              <a:buChar char="•"/>
              <a:tabLst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Calibri"/>
              </a:rPr>
              <a:t>Надежный пароль должен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179280">
              <a:lnSpc>
                <a:spcPct val="100000"/>
              </a:lnSpc>
              <a:buClr>
                <a:srgbClr val="231f20"/>
              </a:buClr>
              <a:buFont typeface="Times New Roman"/>
              <a:buChar char="•"/>
              <a:tabLst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Calibri"/>
              </a:rPr>
              <a:t>состоять из 8</a:t>
            </a:r>
            <a:r>
              <a:rPr b="0" lang="ru-RU" sz="2000" spc="-1" strike="noStrike">
                <a:solidFill>
                  <a:srgbClr val="231f20"/>
                </a:solidFill>
                <a:latin typeface="Garamond"/>
                <a:ea typeface="Calibri"/>
              </a:rPr>
              <a:t>–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Calibri"/>
              </a:rPr>
              <a:t>16 символов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179280">
              <a:lnSpc>
                <a:spcPct val="100000"/>
              </a:lnSpc>
              <a:buClr>
                <a:srgbClr val="231f20"/>
              </a:buClr>
              <a:buFont typeface="Times New Roman"/>
              <a:buChar char="•"/>
              <a:tabLst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Calibri"/>
              </a:rPr>
              <a:t>включать в себя буквы, цифры и специальные символы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179280">
              <a:lnSpc>
                <a:spcPct val="100000"/>
              </a:lnSpc>
              <a:buClr>
                <a:srgbClr val="231f20"/>
              </a:buClr>
              <a:buFont typeface="Times New Roman"/>
              <a:buChar char="•"/>
              <a:tabLst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Calibri"/>
              </a:rPr>
              <a:t>включать в себя символы в верхнем и нижнем регистре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179280">
              <a:lnSpc>
                <a:spcPct val="100000"/>
              </a:lnSpc>
              <a:buClr>
                <a:srgbClr val="231f20"/>
              </a:buClr>
              <a:buFont typeface="Times New Roman"/>
              <a:buChar char="•"/>
              <a:tabLst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Calibri"/>
              </a:rPr>
              <a:t>Не следует использовать слова, словосочетания, а также комбинации, которые можно легко угадать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179280">
              <a:lnSpc>
                <a:spcPct val="100000"/>
              </a:lnSpc>
              <a:buClr>
                <a:srgbClr val="231f20"/>
              </a:buClr>
              <a:buFont typeface="Times New Roman"/>
              <a:buChar char="•"/>
              <a:tabLst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Calibri"/>
              </a:rPr>
              <a:t>Целесообразно использовать двухэтапную аутентификацию с помощью мобильного телефона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179280">
              <a:lnSpc>
                <a:spcPct val="100000"/>
              </a:lnSpc>
              <a:buClr>
                <a:srgbClr val="231f20"/>
              </a:buClr>
              <a:buFont typeface="Times New Roman"/>
              <a:buChar char="•"/>
              <a:tabLst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Calibri"/>
              </a:rPr>
              <a:t>Для каждого аккаунта необходимо иметь свой пароль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179280">
              <a:lnSpc>
                <a:spcPct val="100000"/>
              </a:lnSpc>
              <a:buClr>
                <a:srgbClr val="231f20"/>
              </a:buClr>
              <a:buFont typeface="Times New Roman"/>
              <a:buChar char="•"/>
              <a:tabLst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Calibri"/>
              </a:rPr>
              <a:t>Необходимо менять пароли ко всем аккаунтам раз в 3</a:t>
            </a:r>
            <a:r>
              <a:rPr b="0" lang="ru-RU" sz="2000" spc="-1" strike="noStrike">
                <a:solidFill>
                  <a:srgbClr val="231f20"/>
                </a:solidFill>
                <a:latin typeface="Garamond"/>
                <a:ea typeface="Calibri"/>
              </a:rPr>
              <a:t>–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Calibri"/>
              </a:rPr>
              <a:t>6 месяцев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1f20"/>
                </a:solidFill>
                <a:latin typeface="Garamond"/>
                <a:ea typeface="Calibri"/>
              </a:rPr>
              <a:t>При столкновении с попыткой взлома одного из аккаунтов необходимо поменять пароли на всех аккаунта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500040" y="857160"/>
          <a:ext cx="8143920" cy="4934160"/>
        </p:xfrm>
        <a:graphic>
          <a:graphicData uri="http://schemas.openxmlformats.org/drawingml/2006/table">
            <a:tbl>
              <a:tblPr/>
              <a:tblGrid>
                <a:gridCol w="3914640"/>
                <a:gridCol w="4229280"/>
              </a:tblGrid>
              <a:tr h="13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424456"/>
                          </a:solidFill>
                          <a:latin typeface="Arial"/>
                          <a:ea typeface="Arial"/>
                        </a:rPr>
                        <a:t>1. Старайтесь не выкладывать в Интернет личную информацию (фотографии, видео, ФИО, дату рождения, адрес дома, номер школы, телефоны и иные данные) или существенно сократите объем данных, которые публикуете в Интернет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424456"/>
                          </a:solidFill>
                          <a:latin typeface="Arial"/>
                          <a:ea typeface="Arial"/>
                        </a:rPr>
                        <a:t>2. Не выкладывайте личную информацию (совместные фотографии, видео, иные данные) о ваших друзьях в Интернет без их разрешения. Прежде чем разместить информацию о друзьях в Сети, узнайте, не возражают ли они, чтобы вы выложили данны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424456"/>
                          </a:solidFill>
                          <a:latin typeface="Arial"/>
                          <a:ea typeface="Arial"/>
                        </a:rPr>
                        <a:t>3. Не отправляйте свои персональные данные, а также свои видео и фото людям, с которыми вы познакомились в Интернете, тем более если вы не знаете их в реальной жизн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424456"/>
                          </a:solidFill>
                          <a:latin typeface="Arial"/>
                          <a:ea typeface="Arial"/>
                        </a:rPr>
                        <a:t>4. При общении с другими пользователями старайтесь быть вежливыми, деликатными, тактичными и дружелюбными. Не пишите грубостей, оскорблений, матерных слов – читать такие высказывания так же неприятно, как и слышать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41" name="Рисунок 11" descr=""/>
          <p:cNvPicPr/>
          <p:nvPr/>
        </p:nvPicPr>
        <p:blipFill>
          <a:blip r:embed="rId1"/>
          <a:stretch/>
        </p:blipFill>
        <p:spPr>
          <a:xfrm>
            <a:off x="1214280" y="2286000"/>
            <a:ext cx="2530800" cy="10875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9" descr=""/>
          <p:cNvPicPr/>
          <p:nvPr/>
        </p:nvPicPr>
        <p:blipFill>
          <a:blip r:embed="rId2"/>
          <a:stretch/>
        </p:blipFill>
        <p:spPr>
          <a:xfrm>
            <a:off x="5072040" y="928800"/>
            <a:ext cx="2730600" cy="11109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2" descr=""/>
          <p:cNvPicPr/>
          <p:nvPr/>
        </p:nvPicPr>
        <p:blipFill>
          <a:blip r:embed="rId3"/>
          <a:stretch/>
        </p:blipFill>
        <p:spPr>
          <a:xfrm>
            <a:off x="1571760" y="4714920"/>
            <a:ext cx="1995480" cy="98424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0" descr=""/>
          <p:cNvPicPr/>
          <p:nvPr/>
        </p:nvPicPr>
        <p:blipFill>
          <a:blip r:embed="rId4"/>
          <a:stretch/>
        </p:blipFill>
        <p:spPr>
          <a:xfrm>
            <a:off x="5643720" y="3643200"/>
            <a:ext cx="1947600" cy="84312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6"/>
          <p:cNvSpPr/>
          <p:nvPr/>
        </p:nvSpPr>
        <p:spPr>
          <a:xfrm>
            <a:off x="3208320" y="50004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ак общаться в Сети?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500040" y="714240"/>
          <a:ext cx="8215200" cy="5786640"/>
        </p:xfrm>
        <a:graphic>
          <a:graphicData uri="http://schemas.openxmlformats.org/drawingml/2006/table">
            <a:tbl>
              <a:tblPr/>
              <a:tblGrid>
                <a:gridCol w="4308480"/>
                <a:gridCol w="3906720"/>
              </a:tblGrid>
              <a:tr h="196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424456"/>
                          </a:solidFill>
                          <a:latin typeface="Arial"/>
                        </a:rPr>
                        <a:t>5. Старайтесь не реагировать на обидные комментарии, хамство и грубость других пользователей. Всегда пытайтесь уладить конфликты с пользователями мирным путем, переведите все в шутку или прекратите общение с агрессивными пользователями. Ни в коем случае не отвечайте на агрессию тем же способо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71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424456"/>
                          </a:solidFill>
                          <a:latin typeface="Arial"/>
                        </a:rPr>
                        <a:t>6. Если решить проблему мирным путем не удалось, напишите жалобу администратору сайта, потребуйте заблокировать обидчик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2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424456"/>
                          </a:solidFill>
                          <a:latin typeface="Arial"/>
                        </a:rPr>
                        <a:t>7. Если администратор сайта отказался вам помочь, прекратите пользоваться таким ресурсом и удалите оттуда свои данны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7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424456"/>
                          </a:solidFill>
                          <a:latin typeface="Arial"/>
                        </a:rPr>
                        <a:t>8. Не используйте Сеть для распространения сплетен, угроз или хулиганств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424456"/>
                          </a:solidFill>
                          <a:latin typeface="Arial"/>
                        </a:rPr>
                        <a:t>9. Не встречайтесь в реальной жизни с онлайн-знакомыми без разрешения родителей или в отсутствие взрослого человека. Если вы хотите встретиться с новым интернет-другом, постарайтесь пойти на встречу в сопровождении взрослого, которому вы доверяет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ередача и хране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 сообщать персональные данные третьей стороне без письменного согласия работника (ученика), за исключением случаев, когда это необходимо в целях предупреждения угрозы жизни и здоровью работника (ученика), а также в случаях, установленных федеральным законом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 сообщать персональные данные работника (ученика) в коммерческих целях без его письменного согласи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ередача и хране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упредить лиц, получивших персональные данные работника (ученика), о том, что эти данные могут быть использованы лишь в целях, для которых они сообщены, и требовать от этих лиц подтверждения того, что это правило соблюдено. Лица, получившие персональные данные работника (ученика), обязаны соблюдать режим секретности (конфиденциальности)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ередача и хранение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едупредить лиц, получивших персональные данные работника (ученика), о том, что эти данные могут быть использованы лишь в целях, для которых они сообщены, и требовать от этих лиц подтверждения того, что это правило соблюдено. Лица, получившие персональные данные работника (ученика), обязаны соблюдать режим секретности (конфиденциальности). Данное Положение не распространяется на обмен персональными данными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"/>
          <p:cNvSpPr/>
          <p:nvPr/>
        </p:nvSpPr>
        <p:spPr>
          <a:xfrm>
            <a:off x="500040" y="571680"/>
            <a:ext cx="8286840" cy="62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7afbd"/>
                </a:solidFill>
                <a:uFillTx/>
                <a:latin typeface="Arial"/>
              </a:rPr>
              <a:t>http://персональныеданные.дети/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8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ак защитить персональные данные в Сети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456"/>
                </a:solidFill>
                <a:latin typeface="Arial"/>
              </a:rPr>
              <a:t>1. Ограничьте объем информации о себе, находящейся в Интернете. Удалите лишние фотографии, видео, адреса, номера телефонов, дату рождения, сведения о родных и близких и иную личную информацию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456"/>
                </a:solidFill>
                <a:latin typeface="Arial"/>
              </a:rPr>
              <a:t>2. Не отправляйте видео и фотографии людям, с которыми вы познакомились в Интернете и не знаете их в реальной жизни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456"/>
                </a:solidFill>
                <a:latin typeface="Arial"/>
              </a:rPr>
              <a:t>3. Отправляя кому-либо свои персональные данные или конфиденциальную информацию, убедитесь в том, что адресат — действительно тот, за кого себя выдает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456"/>
                </a:solidFill>
                <a:latin typeface="Arial"/>
              </a:rPr>
              <a:t>4. Если в сети Интернет кто-то просит предоставить ваши персональные данные, например, место жительства или номер школы, класса иные данные, посоветуйтесь с родителями или взрослым человеком, которому вы доверяете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456"/>
                </a:solidFill>
                <a:latin typeface="Arial"/>
              </a:rPr>
              <a:t>5. Используйте только сложные пароли, разные для разных учетных записей и сервисов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456"/>
                </a:solidFill>
                <a:latin typeface="Arial"/>
              </a:rPr>
              <a:t>6. Старайтесь периодически менять пароли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456"/>
                </a:solidFill>
                <a:latin typeface="Arial"/>
              </a:rPr>
              <a:t>7. Заведите себе два адреса электронной почты — частный, для переписки (приватный и малоизвестный, который вы никогда не публикуете в общедоступных источниках), и публичный — для открытой деятельности (форумов, чатов и так далее)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1500120" y="714240"/>
            <a:ext cx="6429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afbd"/>
                </a:solidFill>
                <a:latin typeface="Garamond"/>
              </a:rPr>
              <a:t>Кибербуллинг или Интернет-травля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5" name="Picture 5" descr="upl_1518032976_192981"/>
          <p:cNvPicPr/>
          <p:nvPr/>
        </p:nvPicPr>
        <p:blipFill>
          <a:blip r:embed="rId1"/>
          <a:stretch/>
        </p:blipFill>
        <p:spPr>
          <a:xfrm>
            <a:off x="3143160" y="1285920"/>
            <a:ext cx="3400560" cy="191448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3"/>
          <p:cNvSpPr/>
          <p:nvPr/>
        </p:nvSpPr>
        <p:spPr>
          <a:xfrm>
            <a:off x="571680" y="3571920"/>
            <a:ext cx="785808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42445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намеренные оскорбления, угрозы, сообщения другим людям компрометирующих данных о Вас с помощью современных средств коммуникации, как правило, в течение продолжительного периода времени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Травля осуществляется путем распространения (угрозы в распространении) компрометирующих материалов в информационном пространстве через информационно-коммуникационные каналы и средства, в том числе в Интернете, посредством электронной почты, программ для мгновенного обмена сообщениями, в социальных сетях, а также через размещение на видеопорталах либо посредством мобильного телефона (СМС – сообщения или надоедливые звонки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3"/>
          <p:cNvSpPr/>
          <p:nvPr/>
        </p:nvSpPr>
        <p:spPr>
          <a:xfrm>
            <a:off x="1428840" y="1071720"/>
            <a:ext cx="635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авильный ответ: Все вышеперечисленное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еречень данных, который можно отнести к персональным, четко не определен в законах. Поэтому набор данных, позволяющий определить или идентифицировать тебя среди множества других людей, является персональными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rcRect l="0" t="3927" r="23466" b="57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2143080" y="714240"/>
            <a:ext cx="52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7afbd"/>
                </a:solidFill>
                <a:uFillTx/>
                <a:latin typeface="Arial"/>
              </a:rPr>
              <a:t>http://персональныеданные.дети/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Прямоугольник 2"/>
          <p:cNvSpPr/>
          <p:nvPr/>
        </p:nvSpPr>
        <p:spPr>
          <a:xfrm>
            <a:off x="1500120" y="150012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456"/>
                </a:solidFill>
                <a:latin typeface="Garamond"/>
              </a:rPr>
              <a:t>- </a:t>
            </a:r>
            <a:r>
              <a:rPr b="1" lang="ru-RU" sz="1800" spc="-1" strike="noStrike">
                <a:solidFill>
                  <a:srgbClr val="424456"/>
                </a:solidFill>
                <a:latin typeface="Garamond"/>
              </a:rPr>
              <a:t>информационно-развлекательный сайт о персональных данных и их защит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2143080" y="2000160"/>
            <a:ext cx="53895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image2.jpeg" descr=""/>
          <p:cNvPicPr/>
          <p:nvPr/>
        </p:nvPicPr>
        <p:blipFill>
          <a:blip r:embed="rId1"/>
          <a:stretch/>
        </p:blipFill>
        <p:spPr>
          <a:xfrm>
            <a:off x="92160" y="81000"/>
            <a:ext cx="89596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2286000" y="213660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авильный ответ: Нет, не можешь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опадая в Интернет информация о тебе будет доступна другим пользователям, которые могут ее загружать, изменять и использовать по своему усмотрению. Поэтому важно не публиковать о себе лишнюю информацию и обеспечить свою приватность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age3.jpeg" descr=""/>
          <p:cNvPicPr/>
          <p:nvPr/>
        </p:nvPicPr>
        <p:blipFill>
          <a:blip r:embed="rId1"/>
          <a:stretch/>
        </p:blipFill>
        <p:spPr>
          <a:xfrm>
            <a:off x="127080" y="114480"/>
            <a:ext cx="88898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1928880" y="2274840"/>
            <a:ext cx="4929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авильный ответ: Нет, не правильно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оступ неограниченного круга лиц к такой информации может повлиять на Вашу личную безопасность и безопасность Ваших друзей, родных и знакомых. Вы не можете быть уверены в том, что эти сведения не будут использованы против Вас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image4.jpeg" descr=""/>
          <p:cNvPicPr/>
          <p:nvPr/>
        </p:nvPicPr>
        <p:blipFill>
          <a:blip r:embed="rId1"/>
          <a:stretch/>
        </p:blipFill>
        <p:spPr>
          <a:xfrm>
            <a:off x="39600" y="1440"/>
            <a:ext cx="90648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1714680" y="1582560"/>
            <a:ext cx="621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авильный ответ: Сначала подумаете, будете ли Вы чувствовать себя комфортно, если другие увидят Вашу публикацию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Информация о Вас в Интернете помогает людям составить о Вас свое впечатление, о Вашей личности и о том, как Вы ведете себя в реальной жизни, влияет на Вашу репутацию. Эта информация доступна для Ваших учителей, родителей, друзей. Поэтому нужно задуматься, готовы ли Вы открыть для всех информацию о своей частной жизн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4:53:09Z</dcterms:created>
  <dc:creator>User</dc:creator>
  <dc:description/>
  <dc:language>en-US</dc:language>
  <cp:lastModifiedBy>hp</cp:lastModifiedBy>
  <dcterms:modified xsi:type="dcterms:W3CDTF">2020-03-05T06:58:28Z</dcterms:modified>
  <cp:revision>9</cp:revision>
  <dc:subject/>
  <dc:title>Защита персональных данных</dc:title>
</cp:coreProperties>
</file>