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6038-EFF0-4700-BE88-0D1C7C06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D644C-7F6A-4734-89A5-4AB2FD78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F554-5C2F-4E6B-B9FE-A61A4B75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6495-EA0E-4158-96FB-96A8FAE1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A6C8-044F-4763-8960-61E721F2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3605-9A29-4B1E-B766-C03C0B20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7EF2-3FE1-49FB-B439-5B37D9E4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701B-9C3E-4522-9BEE-A0D1DEFB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FA6A-DCD8-4428-B07A-FA9093DE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6A54-46C7-4E1B-8A5C-EC6B3598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A5AB-B8CE-4B65-AC9E-F8F18026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BA37-FB15-43E4-A108-DE930DD6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EC04-7A22-44AD-AC81-B678260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4C12-5C51-4148-ACDA-40D76D8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5C58-676D-4F5D-9FBF-CA48DD99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3ACA-AD41-4664-9133-8856608D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CBAC-90B9-470D-BAB4-25A547B5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4FE5-7BD6-498E-9455-F9C0F50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8097-859F-4F49-A12B-8E4FE398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0C06-4578-4518-8A10-00FEB9E0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700C-0792-49FF-B3B3-BA72AAF6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EC45-235F-46D6-89DF-C54A11E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6DB0-195F-4E56-B30C-E8162D4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CD2D-CB28-4D56-8D6B-49333FE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8FAAB4-5343-4317-BC23-8C68AFB4E98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A1CBD9-B70E-45C7-9674-FD1C475E57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2971800" y="4267080"/>
            <a:ext cx="601812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Для добавления текста щелкните мышью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Чему важно научиться, для того, чтобы стать менее агрессивным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99760"/>
            <a:ext cx="82281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первых, научиться распознавать и регулировать некоторые формы своего пове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о-вторых, разряжать подавленную агрессию в приемлемых форм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рессия присуща, всем людям без исключения, так как это естественная защитная реакция. Поэтому проявлять агрессию очень легко, а преодолевать и заменять ее другими формами поведения гораздо сложн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1"/>
          <p:cNvSpPr txBox="1"/>
          <p:nvPr/>
        </p:nvSpPr>
        <p:spPr>
          <a:xfrm>
            <a:off x="762120" y="1905120"/>
            <a:ext cx="8076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latin typeface="Times New Roman"/>
              <a:ea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000160" y="264636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Прогоняя з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нтролируем агрессию)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8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авила работы в групп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43040"/>
            <a:ext cx="822816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(активная работа на занятии каждого участн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Один в эфире" (не перебивать того, кто говори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Равные права" (не критиковать  высказывания другого участника, каждый имеет право на своё мнени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Я" (говорить только от своего имени, за себ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топ" (каждый имеет право прекратить обсуждение его проблем, если это ему неприя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371600" y="7621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Что такое агресс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838080" y="1428840"/>
            <a:ext cx="80200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грессия – "   поведение, направленное на нанесение физического или морального  ущерба кому-либо"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Басс и А. Дарки выделяют 5 видов агресс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848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Физическая агрессия (физические действия против кого-либ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здражение (вспыльчивость, груб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ербальная агрессия (угрозы, крики, ругань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освенная агрессия:(сплетни, злобные шутки, крики в толпе, топание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егативизм (оппозиционная манера пове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ти виды агрессии можно наблюдать у людей разных  возра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Притчи Иисуса Христа. Новый завет - YouTube"/>
          <p:cNvPicPr/>
          <p:nvPr/>
        </p:nvPicPr>
        <p:blipFill>
          <a:blip r:embed="rId1"/>
          <a:stretch/>
        </p:blipFill>
        <p:spPr>
          <a:xfrm>
            <a:off x="428760" y="642960"/>
            <a:ext cx="84294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бщие причины возникновения агресс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скорбления, унижение, агрессия со стороны други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пятствия в достижении ц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нутренний дискомфорт, неувер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умение контролировать свои эмо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ревожность, отверж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адекватная самооц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желание привлечь внимани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8227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ртрет агрессивного подростка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42848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жает другим людям словами, жестами, взгляд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инициатором дра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спытывает сострадания, может намеренно делать больно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ий, не раскаивается в содеян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читается с мнением родителей, их запрет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ивает уроки, конфликтует с учителями, сверс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286080" y="4643280"/>
            <a:ext cx="292896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785520"/>
            <a:ext cx="82281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дведем 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чувствова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еня получилось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пробу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захоте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1-06-15T05:50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