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106-E093-40E7-84EB-39196CFB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E62-8123-449F-B2A6-CE9186EB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565-907B-430A-8F26-394E1790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181-48E4-4FC5-8DE1-46A0C774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C10-4CD4-4AA0-A0B8-DE2FC5F2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2C1-0446-4701-9DAA-99AF263D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586-C6F4-436E-8852-3B64A3A7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7D0-CBA2-428F-9955-52371197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3FC-C439-4785-91AF-BC9E31F5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978-F92F-4E05-A1B6-483BC50A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DDCD-1275-4E69-9AC5-0F3CB3C4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25C-585C-4568-B755-CD00C0C8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40E0-882B-4899-8890-E83BFFB30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pedsovet.su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net21.com/filestore/&#1082;&#1086;&#1089;&#1084;&#1086;&#1089;.png" TargetMode="External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908000" y="765000"/>
            <a:ext cx="685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Constantia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1692360" y="39225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908000" y="155736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e46c0a"/>
                </a:solidFill>
                <a:uFillTx/>
                <a:latin typeface="Calibri"/>
              </a:rPr>
              <a:t>«ЧАСТИ РЕЧИ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1908000" y="297324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1"/>
          <p:cNvSpPr/>
          <p:nvPr/>
        </p:nvSpPr>
        <p:spPr>
          <a:xfrm>
            <a:off x="1908000" y="765000"/>
            <a:ext cx="685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Constantia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1692360" y="392256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254061"/>
                </a:solidFill>
                <a:latin typeface="Arial"/>
                <a:ea typeface="Arial"/>
              </a:rPr>
              <a:t>закрепить знания учащихся о частях речи, дать общее представление о том, на основе каких признаков слова объединяются в части речи, формировать умение осознанно распознавать слова, относящиеся к различным частям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908000" y="155736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e46c0a"/>
                </a:solidFill>
                <a:uFillTx/>
                <a:latin typeface="Calibri"/>
              </a:rPr>
              <a:t>«ЧАСТИ РЕЧИ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1908000" y="297324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1908000" y="1484280"/>
            <a:ext cx="6850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DAY\Documents\Lightshot\педсовет су.png"/>
          <p:cNvPicPr/>
          <p:nvPr/>
        </p:nvPicPr>
        <p:blipFill>
          <a:blip r:embed="rId2"/>
          <a:stretch/>
        </p:blipFill>
        <p:spPr>
          <a:xfrm>
            <a:off x="3708360" y="5589720"/>
            <a:ext cx="3219480" cy="657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4511520" y="616572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http://pedsovet.su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Физкультминутка для глаз (космос).mp4" descr=""/>
          <p:cNvPicPr/>
          <p:nvPr/>
        </p:nvPicPr>
        <p:blipFill>
          <a:blip r:embed="rId4"/>
          <a:stretch/>
        </p:blipFill>
        <p:spPr>
          <a:xfrm>
            <a:off x="-23760" y="92160"/>
            <a:ext cx="925992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1"/>
          <p:cNvSpPr/>
          <p:nvPr/>
        </p:nvSpPr>
        <p:spPr>
          <a:xfrm>
            <a:off x="2771640" y="1628640"/>
            <a:ext cx="532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Constantia"/>
              </a:rPr>
              <a:t>Интернет ресурс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771640" y="2276640"/>
          <a:ext cx="6096240" cy="35049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4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http://inet21.com/filestore/%D0%BA%D0%BE%D1%81%D0%BC%D0%BE%D1%81.png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onstantia"/>
                        </a:rPr>
                        <a:t>- рак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ttp://www.birmaga.ru/dostc/%D0%A1.+%D0%92.+%D0%92%D0%B0%D1%81%D0%B8%D0%BB%D1%8C%D0%B5%D0%B2%D0%B0+%D0%B2%D0%BE%D1%81%D0%BF%D0%B8%D1%82%D0%B0%D1%82%D0%B5%D0%BB%D1%8C+%D0%B2%D1%8B%D1%81%D1%88%D0%B5%D0%B9c/70146_html_25676311.png</a:t>
                      </a:r>
                      <a:r>
                        <a:rPr b="1" lang="ru-RU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onstantia"/>
                        </a:rPr>
                        <a:t>-  план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tp://www.angelstarcreations.com/linda/holidays/bday/design2.gif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onstantia"/>
                        </a:rPr>
                        <a:t>- звез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ttp://barselit.ru/images/males/gf.gif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 </a:t>
                      </a: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Constantia"/>
                        </a:rPr>
                        <a:t>звезды - аним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http://barselit.ru/images/males/gf.gif"/>
          <p:cNvPicPr/>
          <p:nvPr/>
        </p:nvPicPr>
        <p:blipFill>
          <a:blip r:embed="rId4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3273480" y="1987560"/>
            <a:ext cx="547380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2987640" y="4797360"/>
            <a:ext cx="56484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66"/>
                </a:solidFill>
                <a:latin typeface="Constantia"/>
              </a:rPr>
              <a:t>Болжеларская Наталья Александров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66"/>
                </a:solidFill>
                <a:latin typeface="Constantia"/>
              </a:rPr>
              <a:t>Учитель начальных классо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66"/>
                </a:solidFill>
                <a:latin typeface="Constantia"/>
              </a:rPr>
              <a:t>МАОУ СОШ 1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66"/>
                </a:solidFill>
                <a:latin typeface="Constantia"/>
              </a:rPr>
              <a:t>п. Южный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3273480" y="1987560"/>
            <a:ext cx="5473800" cy="1657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87800" y="1844640"/>
            <a:ext cx="56484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с     ракета     запускали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навт   летает   космический   прилетят       первое       приземляются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ланетные         космическ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ёздное           плане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3273480" y="1987560"/>
            <a:ext cx="5473800" cy="706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779640" y="549000"/>
            <a:ext cx="50562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с     ракета     запускали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навт   летает   космический   прилетят       первое       приземляются 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ланетные         космическая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ёздное           планет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763800" y="2389320"/>
          <a:ext cx="4553280" cy="2768400"/>
        </p:xfrm>
        <a:graphic>
          <a:graphicData uri="http://schemas.openxmlformats.org/drawingml/2006/table">
            <a:tbl>
              <a:tblPr/>
              <a:tblGrid>
                <a:gridCol w="2276640"/>
                <a:gridCol w="2276640"/>
              </a:tblGrid>
              <a:tr h="691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e46c0a"/>
                          </a:solidFill>
                          <a:uFillTx/>
                          <a:latin typeface="Calibri"/>
                        </a:rPr>
                        <a:t>КТО? ЧТО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К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1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50" name="Овал 6"/>
          <p:cNvGrpSpPr/>
          <p:nvPr/>
        </p:nvGrpSpPr>
        <p:grpSpPr>
          <a:xfrm>
            <a:off x="1736640" y="3352680"/>
            <a:ext cx="4084560" cy="2097360"/>
            <a:chOff x="1736640" y="3352680"/>
            <a:chExt cx="4084560" cy="2097360"/>
          </a:xfrm>
        </p:grpSpPr>
        <p:pic>
          <p:nvPicPr>
            <p:cNvPr id="51" name="Овал 6" descr=""/>
            <p:cNvPicPr/>
            <p:nvPr/>
          </p:nvPicPr>
          <p:blipFill>
            <a:blip r:embed="rId3"/>
            <a:stretch/>
          </p:blipFill>
          <p:spPr>
            <a:xfrm>
              <a:off x="1736640" y="3352680"/>
              <a:ext cx="4084560" cy="20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506680" y="3832200"/>
              <a:ext cx="254628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ПРЕДМЕТ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Овал 7"/>
          <p:cNvGrpSpPr/>
          <p:nvPr/>
        </p:nvGrpSpPr>
        <p:grpSpPr>
          <a:xfrm>
            <a:off x="3389400" y="4863960"/>
            <a:ext cx="5821200" cy="1835280"/>
            <a:chOff x="3389400" y="4863960"/>
            <a:chExt cx="5821200" cy="1835280"/>
          </a:xfrm>
        </p:grpSpPr>
        <p:pic>
          <p:nvPicPr>
            <p:cNvPr id="54" name="Овал 7" descr=""/>
            <p:cNvPicPr/>
            <p:nvPr/>
          </p:nvPicPr>
          <p:blipFill>
            <a:blip r:embed="rId4"/>
            <a:stretch/>
          </p:blipFill>
          <p:spPr>
            <a:xfrm>
              <a:off x="3389400" y="4863960"/>
              <a:ext cx="582120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416480" y="5305320"/>
              <a:ext cx="376704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ИМЯ СУЩЕСТВИТЕЛЬ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3273480" y="1987560"/>
            <a:ext cx="5473800" cy="706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779640" y="549000"/>
            <a:ext cx="50562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с     ракета     запускали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навт   летает   космический   прилетят       первое       приземляются 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ланетные         космическая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ёздное           планет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276720" y="2389320"/>
          <a:ext cx="5040360" cy="2768400"/>
        </p:xfrm>
        <a:graphic>
          <a:graphicData uri="http://schemas.openxmlformats.org/drawingml/2006/table">
            <a:tbl>
              <a:tblPr/>
              <a:tblGrid>
                <a:gridCol w="1944720"/>
                <a:gridCol w="3095640"/>
              </a:tblGrid>
              <a:tr h="69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e46c0a"/>
                          </a:solidFill>
                          <a:uFillTx/>
                          <a:latin typeface="Calibri"/>
                        </a:rPr>
                        <a:t>КАКОЙ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ИЧЕСК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e46c0a"/>
                          </a:solidFill>
                          <a:uFillTx/>
                          <a:latin typeface="Calibri"/>
                        </a:rPr>
                        <a:t>КАКИ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ПЛАНЕ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e46c0a"/>
                          </a:solidFill>
                          <a:uFillTx/>
                          <a:latin typeface="Calibri"/>
                        </a:rPr>
                        <a:t>КАКАЯ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 u="sng">
                          <a:solidFill>
                            <a:srgbClr val="e46c0a"/>
                          </a:solidFill>
                          <a:uFillTx/>
                          <a:latin typeface="Calibri"/>
                        </a:rPr>
                        <a:t>КАКО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59" name="Овал 6"/>
          <p:cNvGrpSpPr/>
          <p:nvPr/>
        </p:nvGrpSpPr>
        <p:grpSpPr>
          <a:xfrm>
            <a:off x="-79200" y="4175280"/>
            <a:ext cx="4090680" cy="2768400"/>
            <a:chOff x="-79200" y="4175280"/>
            <a:chExt cx="4090680" cy="2768400"/>
          </a:xfrm>
        </p:grpSpPr>
        <p:pic>
          <p:nvPicPr>
            <p:cNvPr id="60" name="Овал 6" descr=""/>
            <p:cNvPicPr/>
            <p:nvPr/>
          </p:nvPicPr>
          <p:blipFill>
            <a:blip r:embed="rId3"/>
            <a:stretch/>
          </p:blipFill>
          <p:spPr>
            <a:xfrm>
              <a:off x="-79200" y="4175280"/>
              <a:ext cx="4090680" cy="27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95160" y="4751280"/>
              <a:ext cx="254484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ПРИЗНАКИ ПРЕДМЕТ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Овал 7"/>
          <p:cNvGrpSpPr/>
          <p:nvPr/>
        </p:nvGrpSpPr>
        <p:grpSpPr>
          <a:xfrm>
            <a:off x="3389400" y="4863960"/>
            <a:ext cx="5821200" cy="1835280"/>
            <a:chOff x="3389400" y="4863960"/>
            <a:chExt cx="5821200" cy="1835280"/>
          </a:xfrm>
        </p:grpSpPr>
        <p:pic>
          <p:nvPicPr>
            <p:cNvPr id="63" name="Овал 7" descr=""/>
            <p:cNvPicPr/>
            <p:nvPr/>
          </p:nvPicPr>
          <p:blipFill>
            <a:blip r:embed="rId4"/>
            <a:stretch/>
          </p:blipFill>
          <p:spPr>
            <a:xfrm>
              <a:off x="3389400" y="4863960"/>
              <a:ext cx="582120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416480" y="5305320"/>
              <a:ext cx="376704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Calibri"/>
                </a:rPr>
                <a:t>ИМЯ ПРИЛАГАТЕЛЬ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3273480" y="1987560"/>
            <a:ext cx="5473800" cy="706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779640" y="549000"/>
            <a:ext cx="50562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с     ракета     запускали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навт   летает   космический   прилетят       первое       приземляются  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ланетные         космическая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ёздное           планет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700360" y="2389320"/>
          <a:ext cx="5616720" cy="2898720"/>
        </p:xfrm>
        <a:graphic>
          <a:graphicData uri="http://schemas.openxmlformats.org/drawingml/2006/table">
            <a:tbl>
              <a:tblPr/>
              <a:tblGrid>
                <a:gridCol w="2166840"/>
                <a:gridCol w="3449880"/>
              </a:tblGrid>
              <a:tr h="69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e46c0a"/>
                          </a:solidFill>
                          <a:uFillTx/>
                          <a:latin typeface="Calibri"/>
                        </a:rPr>
                        <a:t>ЧТО ДЕЛАЛ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УСКА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e46c0a"/>
                          </a:solidFill>
                          <a:uFillTx/>
                          <a:latin typeface="Calibri"/>
                        </a:rPr>
                        <a:t>ЧТО ДЕЛАЕ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e46c0a"/>
                          </a:solidFill>
                          <a:uFillTx/>
                          <a:latin typeface="Calibri"/>
                        </a:rPr>
                        <a:t>ЧТО ДЕЛАЮ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ЗЕМЛЯЮ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e46c0a"/>
                          </a:solidFill>
                          <a:uFillTx/>
                          <a:latin typeface="Calibri"/>
                        </a:rPr>
                        <a:t>ЧТО СДЕЛАЮ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ЛЕТ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68" name="Овал 6"/>
          <p:cNvGrpSpPr/>
          <p:nvPr/>
        </p:nvGrpSpPr>
        <p:grpSpPr>
          <a:xfrm>
            <a:off x="-79200" y="4700520"/>
            <a:ext cx="4090680" cy="2243160"/>
            <a:chOff x="-79200" y="4700520"/>
            <a:chExt cx="4090680" cy="2243160"/>
          </a:xfrm>
        </p:grpSpPr>
        <p:pic>
          <p:nvPicPr>
            <p:cNvPr id="69" name="Овал 6" descr=""/>
            <p:cNvPicPr/>
            <p:nvPr/>
          </p:nvPicPr>
          <p:blipFill>
            <a:blip r:embed="rId3"/>
            <a:stretch/>
          </p:blipFill>
          <p:spPr>
            <a:xfrm>
              <a:off x="-79200" y="4700520"/>
              <a:ext cx="4090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95160" y="5199120"/>
              <a:ext cx="254484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Calibri"/>
                </a:rPr>
                <a:t>ДЕЙСТВИЯ ПРЕДМЕТ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Овал 7"/>
          <p:cNvGrpSpPr/>
          <p:nvPr/>
        </p:nvGrpSpPr>
        <p:grpSpPr>
          <a:xfrm>
            <a:off x="4687920" y="4900680"/>
            <a:ext cx="3730680" cy="1834920"/>
            <a:chOff x="4687920" y="4900680"/>
            <a:chExt cx="3730680" cy="1834920"/>
          </a:xfrm>
        </p:grpSpPr>
        <p:pic>
          <p:nvPicPr>
            <p:cNvPr id="72" name="Овал 7" descr=""/>
            <p:cNvPicPr/>
            <p:nvPr/>
          </p:nvPicPr>
          <p:blipFill>
            <a:blip r:embed="rId4"/>
            <a:stretch/>
          </p:blipFill>
          <p:spPr>
            <a:xfrm>
              <a:off x="4687920" y="4900680"/>
              <a:ext cx="373068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407200" y="5343480"/>
              <a:ext cx="229068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</a:rPr>
                <a:t>ГАГО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908000" y="620640"/>
            <a:ext cx="66963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с     ракета     запускали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онавт   летает   космический   прилетят       первое       приземляются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планетные         косми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ёздное           план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414828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71640" y="3068640"/>
          <a:ext cx="7632720" cy="3452760"/>
        </p:xfrm>
        <a:graphic>
          <a:graphicData uri="http://schemas.openxmlformats.org/drawingml/2006/table">
            <a:tbl>
              <a:tblPr/>
              <a:tblGrid>
                <a:gridCol w="2676600"/>
                <a:gridCol w="2477880"/>
                <a:gridCol w="247824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ПРИЗНАКИ ПРЕДМ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ДЕЙСТВИЯ ПРЕДМ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ОЙ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ДЕЛАЛ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И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ДЕЛАЕ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А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ДЕЛА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О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СДЕЛАЮТ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ИМЯ СУЩЕСТВИ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ИМЯ ПРИЛАГАТЕЛЬ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b050"/>
                          </a:solidFill>
                          <a:uFillTx/>
                          <a:latin typeface="Calibri"/>
                        </a:rPr>
                        <a:t>ГЛАГ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Заголовок 1"/>
          <p:cNvSpPr/>
          <p:nvPr/>
        </p:nvSpPr>
        <p:spPr>
          <a:xfrm>
            <a:off x="1908000" y="765000"/>
            <a:ext cx="685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Constantia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1692360" y="39225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1"/>
          <p:cNvSpPr/>
          <p:nvPr/>
        </p:nvSpPr>
        <p:spPr>
          <a:xfrm>
            <a:off x="1908000" y="765000"/>
            <a:ext cx="685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Constantia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1692360" y="39225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1908000" y="155736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e46c0a"/>
                </a:solidFill>
                <a:uFillTx/>
                <a:latin typeface="Calibri"/>
              </a:rPr>
              <a:t>«ЧАСТИ РЕЧИ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magazin</cp:lastModifiedBy>
  <dcterms:modified xsi:type="dcterms:W3CDTF">2021-04-16T05:43:50Z</dcterms:modified>
  <cp:revision>35</cp:revision>
  <dc:subject/>
  <dc:title>Слайд 1</dc:title>
</cp:coreProperties>
</file>