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6EB-2094-4C7B-815D-8B1286F0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1EA-5E64-4FA4-B69E-AA297499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686-5539-4832-93F3-BD9C1C67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16D1-F8FB-4FC5-B844-63461A97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5B8B-D7A2-4A82-90BE-0E5CEE18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EB83-0682-4296-ADF3-A49CFF49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7C22-AB7B-4AD7-A015-30719B48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22AA-7E27-45D9-8756-B77AD255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EF78-12F9-424F-92AB-15FAC2CC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5D03-D49D-43BB-B6BF-FFFCA729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6607-D4E2-4211-9E42-130D2285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EC8-11CA-43AB-9447-7D193504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41AB-8622-43D6-92CA-B462B2A1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5A9A-B4BF-45C9-878C-684110E2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12EF-7454-4E4D-98C4-F1146C40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054D-216B-41BF-9C2E-C2855D56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FA8B-7EF4-47AD-B453-04C4D2DC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0444-BD70-4D94-9DD3-F7570F69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2518-0FB1-4D6F-A4E0-FA47A122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4C88B-29BF-4626-A796-68F2D271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9D531-8AB0-4402-8CC5-A74FC6D4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15B3-F255-44D3-90E8-AC43F9F9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BB1A-348C-4FA9-BAC6-CF28949D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5FD5B-87C5-48F7-BBF6-CCDBCBC2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2DF8F-FBC5-41DC-997A-0682EBC5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D2ACF-A7D2-4B9A-9BC2-9081AFEC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A7AF9-39CD-4E64-98F7-F53C9E2C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45934-38CE-4AB6-B023-3651B521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CEBE-289F-4AC9-AF0C-4672FC1A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24C1D-98CA-42A3-B3FA-33D3E09E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1087A-BD87-4213-A8C3-4AC32B9C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25DE5-428B-4114-8920-87508991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6BB7-145F-4C25-980C-575B5DA7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ED8-3F67-49EB-B2B8-C8BEB062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9BCAA-2E8E-45C4-9FA7-A3CA2B58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553B-7DC5-4B32-952D-6C6AB879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E3DF6-99CA-47F1-A29A-A73C7DE2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814ED-F7CD-49D6-A8D2-6DD83A1B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C1D9B-659A-44E3-9831-B6DB0C28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BFD93-929F-4078-9219-380D6B90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6FF6B-B9A7-4F8C-A0D0-4D2EB3FC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181A9-50C9-44B9-B6F7-5400ECB9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2BF2-2B5B-4DD9-8292-646A5E15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A1D0B-9E4E-450C-9197-FBDD5AD0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5FD-5B21-4AD5-BD1E-942FA096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8198A-A9B5-4B26-9C9E-ECAC233C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6BF0D-4E69-4958-BF83-8249110E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6E875-2002-480D-AD3C-E21DEEBC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BCEA6-881C-4E09-823D-E55ADCAA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FA43B-A1DF-481A-ABDB-84A012F1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20A02-9F96-4183-BC23-8D92AB14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E508F-75BE-4F3C-9A48-D4B309B9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53F36-358C-4E53-A8E4-C6150F18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E84E1-F69B-4EDE-ADDE-950F9947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31AC7-D1F0-47C9-A04B-6071272C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CF6-C2F4-423C-8A9E-3A2DCA40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9E0EF-31E4-4009-AE75-C5F6B13C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2F1E9-1E7E-461F-992F-D396FD76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4F76D-89F6-4360-A6DA-3C729E91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F6C01-2818-48DC-B32D-78561F1C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A4C5B-9E46-410D-A6D0-89AA8027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BFE56-EF14-4391-A848-8797D8BA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E95D0-2787-4B09-AE74-0DA28D86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9728E-57FA-41E3-8A87-4D0AAC80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E4254-F248-4017-ABBF-8E96CAF7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0899A-1209-415B-B9FA-9314DEB5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00B-57A2-4CBF-A123-F3BC0E8A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961D5-C784-4392-A5FE-D4D79F6B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DB53A-AF1D-4CF8-8118-B0F93583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ACC0E-2849-4AE6-949E-36D613D5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8DFBA-5A5C-4B6A-86B9-4F9DDACF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C72A5-5AFE-4B38-B030-A6F99611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A7C0F-A10E-4D66-A4CB-6695DABA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766AA-12E7-4458-8FDC-AD8EC319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25F18-F4A7-4E7D-A45E-39A08B00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F6BB5-B510-47C8-B77B-6867966C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C2CD2-4747-4FF9-BF54-01AAEE18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23E-6C04-41FE-970A-95996FE0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C07C7-23B9-46DC-AA8A-685FFB60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7D012-EC97-4484-8E12-8D3C1FAA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4C328-E46D-4F22-BD1A-D91C7DF7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E0357-6A76-4B95-A374-2DDFB77F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3B092-A36A-494A-B600-CD44C34E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62A62-EB99-481B-9E14-226636B1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019E0-3540-494D-8276-09F213D1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93AEA-434A-4BB4-96E8-044DD14A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5EC57-336F-43B3-A872-F386BECD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A3F9F-F6C1-480F-8834-8F2E045D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266-9F77-4F6B-BE15-B02F64CD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AC570-E097-4481-80AE-1F55ED48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02B2B-C82E-4F2B-8D9A-383A5909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8B642-91C2-4BF7-A7C1-FCCE0A9F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67E59-E4F3-4854-BFBF-8766286C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B507A-6E3D-488B-891F-32D6BB59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EE049-61BA-457F-BDD8-F66E759C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19FA1-2DB0-4DA4-B079-325B0857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2DFF-DE2A-4223-A506-06D8CA88EA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5F13-7C0F-41E3-9ACA-B5D9761CF62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AFAD-D43B-4C71-9CC6-F926DB064D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651C-C971-4C8A-B109-818593E76A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AC3A-6D83-49F6-9E50-D2FCC55764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DDE7-82B6-4347-9E0A-C70A321A654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D579-CF6F-47CF-9ABB-45A6021B2A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B4EB-189F-4780-9CE1-A4CC05B87E1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i.pinimg.com/originals/ce/2f/58/ce2f583754a5091dd44ef8f96c701ca0.png" TargetMode="External"/><Relationship Id="rId2" Type="http://schemas.openxmlformats.org/officeDocument/2006/relationships/hyperlink" Target="https://pandia.ru/text/79/186/images/image013_8.gi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7202520" y="0"/>
            <a:ext cx="1941480" cy="1989000"/>
          </a:xfrm>
          <a:prstGeom prst="rect">
            <a:avLst/>
          </a:prstGeom>
          <a:ln w="0">
            <a:noFill/>
          </a:ln>
        </p:spPr>
      </p:pic>
      <p:sp>
        <p:nvSpPr>
          <p:cNvPr id="371" name="Cloud"/>
          <p:cNvSpPr/>
          <p:nvPr/>
        </p:nvSpPr>
        <p:spPr>
          <a:xfrm>
            <a:off x="250920" y="26028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loud"/>
          <p:cNvSpPr/>
          <p:nvPr/>
        </p:nvSpPr>
        <p:spPr>
          <a:xfrm>
            <a:off x="1600200" y="83808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Cloud"/>
          <p:cNvSpPr/>
          <p:nvPr/>
        </p:nvSpPr>
        <p:spPr>
          <a:xfrm>
            <a:off x="5486400" y="38088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loud"/>
          <p:cNvSpPr/>
          <p:nvPr/>
        </p:nvSpPr>
        <p:spPr>
          <a:xfrm>
            <a:off x="3352680" y="304920"/>
            <a:ext cx="1513080" cy="1014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2" descr="22"/>
          <p:cNvPicPr/>
          <p:nvPr/>
        </p:nvPicPr>
        <p:blipFill>
          <a:blip r:embed="rId2"/>
          <a:stretch/>
        </p:blipFill>
        <p:spPr>
          <a:xfrm>
            <a:off x="380880" y="1905120"/>
            <a:ext cx="2219400" cy="381636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15"/>
          <p:cNvSpPr/>
          <p:nvPr/>
        </p:nvSpPr>
        <p:spPr>
          <a:xfrm>
            <a:off x="2743200" y="297180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День рождение зайчих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16"/>
          <p:cNvSpPr/>
          <p:nvPr/>
        </p:nvSpPr>
        <p:spPr>
          <a:xfrm>
            <a:off x="2209680" y="160020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терактивн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изминутка для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3" descr="https://i.pinimg.com/originals/23/99/5a/23995a4ffd5d89deeafdff6d387aea41.png"/>
          <p:cNvPicPr/>
          <p:nvPr/>
        </p:nvPicPr>
        <p:blipFill>
          <a:blip r:embed="rId3"/>
          <a:stretch/>
        </p:blipFill>
        <p:spPr>
          <a:xfrm>
            <a:off x="457200" y="3429000"/>
            <a:ext cx="2971800" cy="283068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62"/>
          <p:cNvSpPr/>
          <p:nvPr/>
        </p:nvSpPr>
        <p:spPr>
          <a:xfrm>
            <a:off x="3886200" y="495648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 Саидова Абидат Байрав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ер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ой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Рисунок 11" descr="C:\Users\Пользователь\Downloads\IMG-384cb00b65d3d58b9a5c95d06a98ff41-V.jpg"/>
          <p:cNvPicPr/>
          <p:nvPr/>
        </p:nvPicPr>
        <p:blipFill>
          <a:blip r:embed="rId4"/>
          <a:stretch/>
        </p:blipFill>
        <p:spPr>
          <a:xfrm>
            <a:off x="2590920" y="228600"/>
            <a:ext cx="2895480" cy="82872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12" descr="C:\Users\Пользователь\Downloads\IMG-5889616a68c83c89ab86df75b73747e8-V.jpg"/>
          <p:cNvPicPr/>
          <p:nvPr/>
        </p:nvPicPr>
        <p:blipFill>
          <a:blip r:embed="rId5"/>
          <a:stretch/>
        </p:blipFill>
        <p:spPr>
          <a:xfrm>
            <a:off x="1295280" y="304920"/>
            <a:ext cx="106704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5"/>
          <p:cNvSpPr/>
          <p:nvPr/>
        </p:nvSpPr>
        <p:spPr>
          <a:xfrm>
            <a:off x="45720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ие утомляемости глаз и укрепление зрени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loud"/>
          <p:cNvSpPr/>
          <p:nvPr/>
        </p:nvSpPr>
        <p:spPr>
          <a:xfrm>
            <a:off x="250920" y="26028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loud"/>
          <p:cNvSpPr/>
          <p:nvPr/>
        </p:nvSpPr>
        <p:spPr>
          <a:xfrm>
            <a:off x="1828800" y="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3708360" y="0"/>
            <a:ext cx="1941480" cy="1989000"/>
          </a:xfrm>
          <a:prstGeom prst="rect">
            <a:avLst/>
          </a:prstGeom>
          <a:ln w="0">
            <a:noFill/>
          </a:ln>
        </p:spPr>
      </p:pic>
      <p:sp>
        <p:nvSpPr>
          <p:cNvPr id="386" name="Cloud"/>
          <p:cNvSpPr/>
          <p:nvPr/>
        </p:nvSpPr>
        <p:spPr>
          <a:xfrm>
            <a:off x="5638680" y="0"/>
            <a:ext cx="151308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loud"/>
          <p:cNvSpPr/>
          <p:nvPr/>
        </p:nvSpPr>
        <p:spPr>
          <a:xfrm>
            <a:off x="7380360" y="18900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"/>
          <p:cNvSpPr/>
          <p:nvPr/>
        </p:nvSpPr>
        <p:spPr>
          <a:xfrm>
            <a:off x="152280" y="1384560"/>
            <a:ext cx="883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 создана в программе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icrosoft Power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боты с презентациями, что позволяет использовать е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 интерактивной доске, так и на компьюте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очные слайды привлекают внимание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с удовольствием выполняют предложенные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оведения физминутки дети стоят, осанка ровная, воспитатель комментирует движения, которые предлагается выполнить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8"/>
          <p:cNvSpPr/>
          <p:nvPr/>
        </p:nvSpPr>
        <p:spPr>
          <a:xfrm>
            <a:off x="2362320" y="48769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ь усталость и напря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ти эмоциональный за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общую и мелкую мотор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9" descr="https://cstor.nn2.ru/forum/data/forum/files/2016-04/144389184-nature___seasons___spring_beauty_spring_glade_066163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Cloud"/>
          <p:cNvSpPr/>
          <p:nvPr/>
        </p:nvSpPr>
        <p:spPr>
          <a:xfrm>
            <a:off x="0" y="182880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loud"/>
          <p:cNvSpPr/>
          <p:nvPr/>
        </p:nvSpPr>
        <p:spPr>
          <a:xfrm>
            <a:off x="1676520" y="106668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Cloud"/>
          <p:cNvSpPr/>
          <p:nvPr/>
        </p:nvSpPr>
        <p:spPr>
          <a:xfrm>
            <a:off x="3429000" y="106668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Cloud"/>
          <p:cNvSpPr/>
          <p:nvPr/>
        </p:nvSpPr>
        <p:spPr>
          <a:xfrm>
            <a:off x="5181480" y="914400"/>
            <a:ext cx="151308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1" descr=""/>
          <p:cNvPicPr/>
          <p:nvPr/>
        </p:nvPicPr>
        <p:blipFill>
          <a:blip r:embed="rId2"/>
          <a:stretch/>
        </p:blipFill>
        <p:spPr>
          <a:xfrm>
            <a:off x="6764400" y="0"/>
            <a:ext cx="2379600" cy="2438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1"/>
          <p:cNvPicPr/>
          <p:nvPr/>
        </p:nvPicPr>
        <p:blipFill>
          <a:blip r:embed="rId3"/>
          <a:srcRect l="36063" t="37717" r="39370" b="29528"/>
          <a:stretch/>
        </p:blipFill>
        <p:spPr>
          <a:xfrm>
            <a:off x="380880" y="44197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3" descr="1"/>
          <p:cNvPicPr/>
          <p:nvPr/>
        </p:nvPicPr>
        <p:blipFill>
          <a:blip r:embed="rId4"/>
          <a:srcRect l="36063" t="37717" r="39370" b="29528"/>
          <a:stretch/>
        </p:blipFill>
        <p:spPr>
          <a:xfrm>
            <a:off x="2895480" y="251460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1"/>
          <p:cNvPicPr/>
          <p:nvPr/>
        </p:nvPicPr>
        <p:blipFill>
          <a:blip r:embed="rId5"/>
          <a:srcRect l="36063" t="37717" r="39370" b="29528"/>
          <a:stretch/>
        </p:blipFill>
        <p:spPr>
          <a:xfrm>
            <a:off x="198108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1"/>
          <p:cNvPicPr/>
          <p:nvPr/>
        </p:nvPicPr>
        <p:blipFill>
          <a:blip r:embed="rId6"/>
          <a:srcRect l="36063" t="37717" r="39370" b="29528"/>
          <a:stretch/>
        </p:blipFill>
        <p:spPr>
          <a:xfrm>
            <a:off x="6172200" y="49528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1"/>
          <p:cNvPicPr/>
          <p:nvPr/>
        </p:nvPicPr>
        <p:blipFill>
          <a:blip r:embed="rId7"/>
          <a:srcRect l="36063" t="37717" r="39370" b="29528"/>
          <a:stretch/>
        </p:blipFill>
        <p:spPr>
          <a:xfrm>
            <a:off x="5410080" y="25909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7" descr="1"/>
          <p:cNvPicPr/>
          <p:nvPr/>
        </p:nvPicPr>
        <p:blipFill>
          <a:blip r:embed="rId8"/>
          <a:srcRect l="36063" t="37717" r="39370" b="29528"/>
          <a:stretch/>
        </p:blipFill>
        <p:spPr>
          <a:xfrm>
            <a:off x="7086600" y="35053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8" descr="1"/>
          <p:cNvPicPr/>
          <p:nvPr/>
        </p:nvPicPr>
        <p:blipFill>
          <a:blip r:embed="rId9"/>
          <a:srcRect l="36063" t="37717" r="39370" b="29528"/>
          <a:stretch/>
        </p:blipFill>
        <p:spPr>
          <a:xfrm>
            <a:off x="1143000" y="31240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1"/>
          <p:cNvPicPr/>
          <p:nvPr/>
        </p:nvPicPr>
        <p:blipFill>
          <a:blip r:embed="rId10"/>
          <a:srcRect l="36063" t="37717" r="39370" b="29528"/>
          <a:stretch/>
        </p:blipFill>
        <p:spPr>
          <a:xfrm>
            <a:off x="4114800" y="5334120"/>
            <a:ext cx="1143000" cy="152388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21"/>
          <p:cNvSpPr/>
          <p:nvPr/>
        </p:nvSpPr>
        <p:spPr>
          <a:xfrm>
            <a:off x="304920" y="0"/>
            <a:ext cx="5333760" cy="916920"/>
          </a:xfrm>
          <a:prstGeom prst="wedgeRectCallout">
            <a:avLst>
              <a:gd name="adj1" fmla="val -43666"/>
              <a:gd name="adj2" fmla="val 90500"/>
            </a:avLst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йчас можем поиграть. Нужно следить глазами за появлением зайца, солнышка, облаков и за цветочками колокольч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Klassicheskaya_muzyka_dlya_detej_-_P (mp3cut (mp3cut (mp3cut (mp3cut.net).mp3" descr=""/>
          <p:cNvPicPr/>
          <p:nvPr/>
        </p:nvPicPr>
        <p:blipFill>
          <a:blip r:embed="rId11"/>
          <a:stretch/>
        </p:blipFill>
        <p:spPr>
          <a:xfrm>
            <a:off x="304920" y="1447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9" descr="https://cstor.nn2.ru/forum/data/forum/files/2016-04/144389184-nature___seasons___spring_beauty_spring_glade_066163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8"/>
          <p:cNvPicPr/>
          <p:nvPr/>
        </p:nvPicPr>
        <p:blipFill>
          <a:blip r:embed="rId2"/>
          <a:stretch/>
        </p:blipFill>
        <p:spPr>
          <a:xfrm>
            <a:off x="1828800" y="1752480"/>
            <a:ext cx="5638680" cy="474048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6"/>
          <p:cNvSpPr/>
          <p:nvPr/>
        </p:nvSpPr>
        <p:spPr>
          <a:xfrm>
            <a:off x="389160" y="228600"/>
            <a:ext cx="4006080" cy="337320"/>
          </a:xfrm>
          <a:prstGeom prst="wedgeRectCallout">
            <a:avLst>
              <a:gd name="adj1" fmla="val -52754"/>
              <a:gd name="adj2" fmla="val 157138"/>
            </a:avLst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м круговые движения глаз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7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3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9" descr="https://cstor.nn2.ru/forum/data/forum/files/2016-04/144389184-nature___seasons___spring_beauty_spring_glade_066163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22"/>
          <p:cNvPicPr/>
          <p:nvPr/>
        </p:nvPicPr>
        <p:blipFill>
          <a:blip r:embed="rId2"/>
          <a:stretch/>
        </p:blipFill>
        <p:spPr>
          <a:xfrm rot="1842600">
            <a:off x="5251320" y="1144080"/>
            <a:ext cx="2843280" cy="4888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22"/>
          <p:cNvPicPr/>
          <p:nvPr/>
        </p:nvPicPr>
        <p:blipFill>
          <a:blip r:embed="rId3"/>
          <a:stretch/>
        </p:blipFill>
        <p:spPr>
          <a:xfrm rot="19565400">
            <a:off x="817560" y="1292400"/>
            <a:ext cx="2843280" cy="4887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3" descr="https://i.pinimg.com/originals/23/99/5a/23995a4ffd5d89deeafdff6d387aea41.png"/>
          <p:cNvPicPr/>
          <p:nvPr/>
        </p:nvPicPr>
        <p:blipFill>
          <a:blip r:embed="rId4"/>
          <a:stretch/>
        </p:blipFill>
        <p:spPr>
          <a:xfrm>
            <a:off x="2971800" y="2209680"/>
            <a:ext cx="3886200" cy="464832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9"/>
          <p:cNvSpPr/>
          <p:nvPr/>
        </p:nvSpPr>
        <p:spPr>
          <a:xfrm>
            <a:off x="228600" y="0"/>
            <a:ext cx="6248520" cy="642600"/>
          </a:xfrm>
          <a:prstGeom prst="wedgeRectCallout">
            <a:avLst>
              <a:gd name="adj1" fmla="val -51620"/>
              <a:gd name="adj2" fmla="val 96300"/>
            </a:avLst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м за появлением шаров, и как только начинают исчезать шары, открываем и закрываем 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2"/>
          <p:cNvSpPr/>
          <p:nvPr/>
        </p:nvSpPr>
        <p:spPr>
          <a:xfrm>
            <a:off x="533520" y="762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"/>
          <p:cNvSpPr/>
          <p:nvPr/>
        </p:nvSpPr>
        <p:spPr>
          <a:xfrm>
            <a:off x="228600" y="17524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ы: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https://i.pinimg.com/originals/ce/2f/58/ce2f583754a5091dd44ef8f96c701ca0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ко: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https://pandia.ru/text/79/186/images/image013_8.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ышко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s://sun9-42.userapi.com/c857128/v857128478/d3345/iEnVGhvFwrk.jpg?ava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кольчик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s://sun9-21.userapi.com/c841224/v841224158/1a60e/GxJ8RMcVD2Q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т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s://img1.picmix.com/output/stamp/tiny/5/7/3/4/544375_2a0a1.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ц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s://i.pinimg.com/originals/23/99/5a/23995a4ffd5d89deeafdff6d387aea41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1-04-29T15:29:33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