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2C3-A92A-412B-8C8E-77FAE151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F60-6125-4477-8C83-F9833586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AF6-2489-403E-A6D7-2F6AF44C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05D-15D8-4590-AAFF-D8B1A6AA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4915-49BD-494F-A795-78ECD823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81F8-0BA9-48CC-BB41-37ACD71D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BA32-A6F2-432B-8462-C4725665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B241-C385-4944-BE7F-F3A2587A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63F7-9C44-4560-A4BD-5F9887C3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053B-416E-40F8-B66D-A0E7267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5961-34EF-47C6-BB18-2AB1B280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DB6-96FC-4BDC-AA0B-09D5D8A1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34EB-681B-42D9-B9EE-E8AAC37B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EBD3-1DCB-4650-8E58-B1DA99F2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304D-0841-4513-A1AC-DE69FDCD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B7D9-B429-4348-996E-7CCE4D8E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DDD4-E70E-4948-9437-92171D7F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E58A-D619-4D47-9BD4-A609F015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1488-A865-463E-80FE-235B54A2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BA48-6A63-47E8-9B5F-0903B51E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B613-260E-48AE-8DC1-9BFF4D8A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082C-56B8-415D-9018-35E8E675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C3C-A677-46DF-865A-774C0040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E1F2-28CA-460C-BCEF-DA5CD078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5ECA-527C-4646-AD70-38C61E7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957D8-BCDB-4C7C-BF1C-74CF25E3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B0AC-4FE0-4E33-9C05-7C53662E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8E6B-C5C9-4920-AE4A-C5D8B5D3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3196-926C-4BD9-B402-04F8631E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A4E4-5877-4948-A8D1-430A15E0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2E14-6E0E-4A21-BA2C-76B95305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B3B7-BBE7-4467-BB8B-BA14B996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1BE02-09E1-48A2-9998-A83BC718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8A3-634B-4671-A0D7-E5204054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E2809-6680-4627-9E15-4D23938F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BF10-E7EC-4DD4-B709-44D3E3C0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5EAF-01C7-4151-8440-5D836EAD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C729-ECF8-4797-8396-E30F52D9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56F1A-16DE-4BEC-8340-B62291FC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AF8E7-AC18-4D26-957A-D0C76D2A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CE554-FF54-4CAF-B9D6-3447B043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EA3C-FD42-48B6-97B0-35385124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DE962-BCAD-4D57-A90F-64D60637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9E2C4-87D2-4D8C-A5C2-8C225CDB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D23-3250-48CB-A2D8-259D8417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E6CC2-BF53-45DC-BE45-27928BDD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18700-7C5F-42C1-B7BE-3CEB9D41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DC94-24FE-45D7-81F7-7B66465F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FB291-1708-4E5A-84FE-089045F3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4E49D-FD9D-4B3E-AA8F-6BB3E736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4A14D-8E59-4505-86C7-78333EAE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BEAE1-57A2-4A9B-8924-0798E3AA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37A51-296E-4300-B669-AB78F7F7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745F-C1DE-4A2F-9DC2-06751E7F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49EB3-D81C-4F64-91D0-E5D414B0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B2A-8560-4DCF-8C09-4CEE6C94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1AD2D-659F-4B1E-8271-F5631B6E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CE47F-ED41-42CB-8D49-5C228F8D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925ED-991D-4890-835A-E245E527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E151-B184-4654-97C3-1773A117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1E401-1806-4804-978A-D2CFD551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0F7D6-BEBE-4BFE-9C96-EBA7D338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089AB-104A-4A67-B69D-7046DD0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B6BE0-4783-48B9-92E1-39FEA47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11093-1224-49AB-B624-FBBD8A3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CB388-475F-408E-AE24-8CED3048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B27-567A-4CA4-BFE6-AC469CBA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B6A8-217F-4666-8529-3A26FB99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CB548-C892-4CE0-9A70-4104AAB3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A524D-20D8-4DF7-B3DC-CE42A154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51AEB-A61A-42D7-811C-B023B6BD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CA025-3D96-4E08-8694-ECD0370A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DECA6-6D0B-4340-92D4-26B6E12F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0C559-9913-4CBE-9D81-C301C26F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555C-DD00-4B2E-BD9A-EBD21A18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66CB7-71AA-4836-87B5-5F58431F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72C73-B082-413C-A33B-7C3DFDA5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8C9-7F02-4829-9796-795CCEE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6D112-5E64-44B8-AB60-4CD02067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C23D7-B3CB-4EBF-840E-06C20105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99544-2CD9-42F1-9870-8B10A7E7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16098-146E-4DE5-AE47-359D1C40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5436B-15AF-4D37-8250-C5BA3590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388ED-72B8-4F4B-86A7-F3D78152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58719-ED41-4898-B42C-251EE41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CA605-14B6-47A3-BB5A-694FFFFB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71946-C089-4E42-A66B-DC88901F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6C591-F097-4A1A-A7EE-FD6F7573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6DD-E320-4465-853C-87427B0A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67F7A-9F70-4666-9503-6F264B7F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703E0-BEB5-40B3-8650-08104AE5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320F6-9CF9-43CC-9B90-8ED00F4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1062E-56D6-4DFC-AFB6-73D6E5B7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6C41A-E150-41F8-BBD9-82FD4E4B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1B9AE-91F1-4524-9A8C-D3E25155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9D2A4-CFF1-4A2C-A467-6585D2FB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9D0C-1840-429A-AE46-EF41FA0A0D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6459-3B16-4DCC-80DB-B65142CD6BD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83DB-97B5-49D4-A066-FBCC954DD8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DF08-5F21-424F-B709-4001560B64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D099-DD40-4C55-AEFE-0AB0C44DE2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AA7B-F2AC-47EA-83A7-5008DC4710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DAD9-EB6A-48FE-B5C7-F5C04EBE2D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6F3B-9D0F-4BF6-ADBC-C172F46201F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i.pinimg.com/originals/ce/2f/58/ce2f583754a5091dd44ef8f96c701ca0.png" TargetMode="External"/><Relationship Id="rId2" Type="http://schemas.openxmlformats.org/officeDocument/2006/relationships/hyperlink" Target="https://pandia.ru/text/79/186/images/image013_8.gi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7202520" y="0"/>
            <a:ext cx="1941480" cy="1989000"/>
          </a:xfrm>
          <a:prstGeom prst="rect">
            <a:avLst/>
          </a:prstGeom>
          <a:ln w="0">
            <a:noFill/>
          </a:ln>
        </p:spPr>
      </p:pic>
      <p:sp>
        <p:nvSpPr>
          <p:cNvPr id="371" name="Cloud"/>
          <p:cNvSpPr/>
          <p:nvPr/>
        </p:nvSpPr>
        <p:spPr>
          <a:xfrm>
            <a:off x="250920" y="2602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loud"/>
          <p:cNvSpPr/>
          <p:nvPr/>
        </p:nvSpPr>
        <p:spPr>
          <a:xfrm>
            <a:off x="1600200" y="8380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loud"/>
          <p:cNvSpPr/>
          <p:nvPr/>
        </p:nvSpPr>
        <p:spPr>
          <a:xfrm>
            <a:off x="5486400" y="3808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loud"/>
          <p:cNvSpPr/>
          <p:nvPr/>
        </p:nvSpPr>
        <p:spPr>
          <a:xfrm>
            <a:off x="3352680" y="304920"/>
            <a:ext cx="1513080" cy="1014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2" descr="22"/>
          <p:cNvPicPr/>
          <p:nvPr/>
        </p:nvPicPr>
        <p:blipFill>
          <a:blip r:embed="rId2"/>
          <a:stretch/>
        </p:blipFill>
        <p:spPr>
          <a:xfrm>
            <a:off x="380880" y="1905120"/>
            <a:ext cx="2219400" cy="38163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15"/>
          <p:cNvSpPr/>
          <p:nvPr/>
        </p:nvSpPr>
        <p:spPr>
          <a:xfrm>
            <a:off x="2743200" y="29718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День рождение зайчих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6"/>
          <p:cNvSpPr/>
          <p:nvPr/>
        </p:nvSpPr>
        <p:spPr>
          <a:xfrm>
            <a:off x="2209680" y="1600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рактив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изминутка 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3" descr="https://i.pinimg.com/originals/23/99/5a/23995a4ffd5d89deeafdff6d387aea41.png"/>
          <p:cNvPicPr/>
          <p:nvPr/>
        </p:nvPicPr>
        <p:blipFill>
          <a:blip r:embed="rId3"/>
          <a:stretch/>
        </p:blipFill>
        <p:spPr>
          <a:xfrm>
            <a:off x="457200" y="3429000"/>
            <a:ext cx="2971800" cy="28306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2"/>
          <p:cNvSpPr/>
          <p:nvPr/>
        </p:nvSpPr>
        <p:spPr>
          <a:xfrm>
            <a:off x="3886200" y="495648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Саидова Абидат Байр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ер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11" descr="C:\Users\Пользователь\Downloads\IMG-384cb00b65d3d58b9a5c95d06a98ff41-V.jpg"/>
          <p:cNvPicPr/>
          <p:nvPr/>
        </p:nvPicPr>
        <p:blipFill>
          <a:blip r:embed="rId4"/>
          <a:stretch/>
        </p:blipFill>
        <p:spPr>
          <a:xfrm>
            <a:off x="2590920" y="228600"/>
            <a:ext cx="2895480" cy="82872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2" descr="C:\Users\Пользователь\Downloads\IMG-5889616a68c83c89ab86df75b73747e8-V.jpg"/>
          <p:cNvPicPr/>
          <p:nvPr/>
        </p:nvPicPr>
        <p:blipFill>
          <a:blip r:embed="rId5"/>
          <a:stretch/>
        </p:blipFill>
        <p:spPr>
          <a:xfrm>
            <a:off x="1295280" y="304920"/>
            <a:ext cx="106704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5"/>
          <p:cNvSpPr/>
          <p:nvPr/>
        </p:nvSpPr>
        <p:spPr>
          <a:xfrm>
            <a:off x="4572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утомляемости глаз и укрепление зре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loud"/>
          <p:cNvSpPr/>
          <p:nvPr/>
        </p:nvSpPr>
        <p:spPr>
          <a:xfrm>
            <a:off x="250920" y="2602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loud"/>
          <p:cNvSpPr/>
          <p:nvPr/>
        </p:nvSpPr>
        <p:spPr>
          <a:xfrm>
            <a:off x="1828800" y="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3708360" y="0"/>
            <a:ext cx="1941480" cy="1989000"/>
          </a:xfrm>
          <a:prstGeom prst="rect">
            <a:avLst/>
          </a:prstGeom>
          <a:ln w="0">
            <a:noFill/>
          </a:ln>
        </p:spPr>
      </p:pic>
      <p:sp>
        <p:nvSpPr>
          <p:cNvPr id="386" name="Cloud"/>
          <p:cNvSpPr/>
          <p:nvPr/>
        </p:nvSpPr>
        <p:spPr>
          <a:xfrm>
            <a:off x="5638680" y="0"/>
            <a:ext cx="151308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loud"/>
          <p:cNvSpPr/>
          <p:nvPr/>
        </p:nvSpPr>
        <p:spPr>
          <a:xfrm>
            <a:off x="7380360" y="18900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152280" y="1384560"/>
            <a:ext cx="883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 создана в программе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icrosoft Power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с презентациями, что позволяет использовать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интерактивной доске, так и на компьюте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очные слайды привлекают внимание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 удовольствием выполняют предложенные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ведения физминутки дети стоят, осанка ровная, воспитатель комментирует движения, которые предлагается выполни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362320" y="48769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ь усталость и напря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ти эмоциональный за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общую и мелкую мотор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9" descr="https://cstor.nn2.ru/forum/data/forum/files/2016-04/144389184-nature___seasons___spring_beauty_spring_glade_066163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Cloud"/>
          <p:cNvSpPr/>
          <p:nvPr/>
        </p:nvSpPr>
        <p:spPr>
          <a:xfrm>
            <a:off x="0" y="182880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loud"/>
          <p:cNvSpPr/>
          <p:nvPr/>
        </p:nvSpPr>
        <p:spPr>
          <a:xfrm>
            <a:off x="1676520" y="10666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Cloud"/>
          <p:cNvSpPr/>
          <p:nvPr/>
        </p:nvSpPr>
        <p:spPr>
          <a:xfrm>
            <a:off x="3429000" y="1066680"/>
            <a:ext cx="151272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loud"/>
          <p:cNvSpPr/>
          <p:nvPr/>
        </p:nvSpPr>
        <p:spPr>
          <a:xfrm>
            <a:off x="5181480" y="914400"/>
            <a:ext cx="1513080" cy="101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1" descr=""/>
          <p:cNvPicPr/>
          <p:nvPr/>
        </p:nvPicPr>
        <p:blipFill>
          <a:blip r:embed="rId2"/>
          <a:stretch/>
        </p:blipFill>
        <p:spPr>
          <a:xfrm>
            <a:off x="6764400" y="0"/>
            <a:ext cx="2379600" cy="2438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1"/>
          <p:cNvPicPr/>
          <p:nvPr/>
        </p:nvPicPr>
        <p:blipFill>
          <a:blip r:embed="rId3"/>
          <a:srcRect l="36063" t="37717" r="39370" b="29528"/>
          <a:stretch/>
        </p:blipFill>
        <p:spPr>
          <a:xfrm>
            <a:off x="380880" y="4419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3" descr="1"/>
          <p:cNvPicPr/>
          <p:nvPr/>
        </p:nvPicPr>
        <p:blipFill>
          <a:blip r:embed="rId4"/>
          <a:srcRect l="36063" t="37717" r="39370" b="29528"/>
          <a:stretch/>
        </p:blipFill>
        <p:spPr>
          <a:xfrm>
            <a:off x="2895480" y="251460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1"/>
          <p:cNvPicPr/>
          <p:nvPr/>
        </p:nvPicPr>
        <p:blipFill>
          <a:blip r:embed="rId5"/>
          <a:srcRect l="36063" t="37717" r="39370" b="29528"/>
          <a:stretch/>
        </p:blipFill>
        <p:spPr>
          <a:xfrm>
            <a:off x="198108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1"/>
          <p:cNvPicPr/>
          <p:nvPr/>
        </p:nvPicPr>
        <p:blipFill>
          <a:blip r:embed="rId6"/>
          <a:srcRect l="36063" t="37717" r="39370" b="29528"/>
          <a:stretch/>
        </p:blipFill>
        <p:spPr>
          <a:xfrm>
            <a:off x="6172200" y="49528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1"/>
          <p:cNvPicPr/>
          <p:nvPr/>
        </p:nvPicPr>
        <p:blipFill>
          <a:blip r:embed="rId7"/>
          <a:srcRect l="36063" t="37717" r="39370" b="29528"/>
          <a:stretch/>
        </p:blipFill>
        <p:spPr>
          <a:xfrm>
            <a:off x="5410080" y="25909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7" descr="1"/>
          <p:cNvPicPr/>
          <p:nvPr/>
        </p:nvPicPr>
        <p:blipFill>
          <a:blip r:embed="rId8"/>
          <a:srcRect l="36063" t="37717" r="39370" b="29528"/>
          <a:stretch/>
        </p:blipFill>
        <p:spPr>
          <a:xfrm>
            <a:off x="7086600" y="35053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8" descr="1"/>
          <p:cNvPicPr/>
          <p:nvPr/>
        </p:nvPicPr>
        <p:blipFill>
          <a:blip r:embed="rId9"/>
          <a:srcRect l="36063" t="37717" r="39370" b="29528"/>
          <a:stretch/>
        </p:blipFill>
        <p:spPr>
          <a:xfrm>
            <a:off x="1143000" y="31240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1"/>
          <p:cNvPicPr/>
          <p:nvPr/>
        </p:nvPicPr>
        <p:blipFill>
          <a:blip r:embed="rId10"/>
          <a:srcRect l="36063" t="37717" r="39370" b="29528"/>
          <a:stretch/>
        </p:blipFill>
        <p:spPr>
          <a:xfrm>
            <a:off x="4114800" y="5334120"/>
            <a:ext cx="1143000" cy="15238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1"/>
          <p:cNvSpPr/>
          <p:nvPr/>
        </p:nvSpPr>
        <p:spPr>
          <a:xfrm>
            <a:off x="304920" y="0"/>
            <a:ext cx="5333760" cy="916920"/>
          </a:xfrm>
          <a:prstGeom prst="wedgeRectCallout">
            <a:avLst>
              <a:gd name="adj1" fmla="val -43666"/>
              <a:gd name="adj2" fmla="val 90500"/>
            </a:avLst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можем поиграть. Нужно следить глазами за появлением зайца, солнышка, облаков и за цветочками колокольч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Klassicheskaya_muzyka_dlya_detej_-_P (mp3cut (mp3cut (mp3cut (mp3cut.net).mp3" descr=""/>
          <p:cNvPicPr/>
          <p:nvPr/>
        </p:nvPicPr>
        <p:blipFill>
          <a:blip r:embed="rId11"/>
          <a:stretch/>
        </p:blipFill>
        <p:spPr>
          <a:xfrm>
            <a:off x="304920" y="144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9" descr="https://cstor.nn2.ru/forum/data/forum/files/2016-04/144389184-nature___seasons___spring_beauty_spring_glade_066163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8"/>
          <p:cNvPicPr/>
          <p:nvPr/>
        </p:nvPicPr>
        <p:blipFill>
          <a:blip r:embed="rId2"/>
          <a:stretch/>
        </p:blipFill>
        <p:spPr>
          <a:xfrm>
            <a:off x="1828800" y="1752480"/>
            <a:ext cx="5638680" cy="474048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6"/>
          <p:cNvSpPr/>
          <p:nvPr/>
        </p:nvSpPr>
        <p:spPr>
          <a:xfrm>
            <a:off x="389160" y="228600"/>
            <a:ext cx="4006080" cy="337320"/>
          </a:xfrm>
          <a:prstGeom prst="wedgeRectCallout">
            <a:avLst>
              <a:gd name="adj1" fmla="val -52754"/>
              <a:gd name="adj2" fmla="val 157138"/>
            </a:avLst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круговые движения глаз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7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9" descr="https://cstor.nn2.ru/forum/data/forum/files/2016-04/144389184-nature___seasons___spring_beauty_spring_glade_066163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22"/>
          <p:cNvPicPr/>
          <p:nvPr/>
        </p:nvPicPr>
        <p:blipFill>
          <a:blip r:embed="rId2"/>
          <a:stretch/>
        </p:blipFill>
        <p:spPr>
          <a:xfrm rot="1842600">
            <a:off x="5251320" y="1144080"/>
            <a:ext cx="2843280" cy="4888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22"/>
          <p:cNvPicPr/>
          <p:nvPr/>
        </p:nvPicPr>
        <p:blipFill>
          <a:blip r:embed="rId3"/>
          <a:stretch/>
        </p:blipFill>
        <p:spPr>
          <a:xfrm rot="19565400">
            <a:off x="817560" y="1292400"/>
            <a:ext cx="2843280" cy="4887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3" descr="https://i.pinimg.com/originals/23/99/5a/23995a4ffd5d89deeafdff6d387aea41.png"/>
          <p:cNvPicPr/>
          <p:nvPr/>
        </p:nvPicPr>
        <p:blipFill>
          <a:blip r:embed="rId4"/>
          <a:stretch/>
        </p:blipFill>
        <p:spPr>
          <a:xfrm>
            <a:off x="2971800" y="2209680"/>
            <a:ext cx="3886200" cy="464832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9"/>
          <p:cNvSpPr/>
          <p:nvPr/>
        </p:nvSpPr>
        <p:spPr>
          <a:xfrm>
            <a:off x="228600" y="0"/>
            <a:ext cx="6248520" cy="642600"/>
          </a:xfrm>
          <a:prstGeom prst="wedgeRectCallout">
            <a:avLst>
              <a:gd name="adj1" fmla="val -51620"/>
              <a:gd name="adj2" fmla="val 96300"/>
            </a:avLst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м за появлением шаров, и как только начинают исчезать шары, открываем и закрываем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2"/>
          <p:cNvSpPr/>
          <p:nvPr/>
        </p:nvSpPr>
        <p:spPr>
          <a:xfrm>
            <a:off x="533520" y="762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"/>
          <p:cNvSpPr/>
          <p:nvPr/>
        </p:nvSpPr>
        <p:spPr>
          <a:xfrm>
            <a:off x="228600" y="17524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ы: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https://i.pinimg.com/originals/ce/2f/58/ce2f583754a5091dd44ef8f96c701ca0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ко: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s://pandia.ru/text/79/186/images/image013_8.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ышко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s://sun9-42.userapi.com/c857128/v857128478/d3345/iEnVGhvFwrk.jpg?ava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s://sun9-21.userapi.com/c841224/v841224158/1a60e/GxJ8RMcVD2Q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т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s://img1.picmix.com/output/stamp/tiny/5/7/3/4/544375_2a0a1.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ц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s://i.pinimg.com/originals/23/99/5a/23995a4ffd5d89deeafdff6d387aea41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1-04-29T15:29:33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