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8157-1B60-4A74-82B8-07353B20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B5AC-9ECA-4437-93AF-7FE01DCB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0AE8-786A-40D4-A611-A4ABB712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6D9E-6EC2-4E3C-9C1F-8D8E3840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EA5B-7B43-4855-BCC2-C098A226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E34B-ABA8-49AF-8D8B-33A90A2F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8594-D5E0-4FAB-BB7E-47407E7B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8E1F-097C-4D8B-952A-5255EE4F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BAF2-1DAB-48AF-911B-CC880749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ABC0-EE7E-4664-9502-031EB685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F3F4-8CD3-4A5E-9DD1-5F6A3481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9E28-94A2-4DE3-B93A-2F804541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096C-3997-440D-9217-E51ABAAA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F4B7-4E11-4980-95AA-608444EE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8A20-9054-4958-9E0C-3E2EAA58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ED85-51E3-45D4-B2FC-6E3B1F9D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C5C8-E3ED-4752-B34A-850EC413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5E0A-10FF-41C9-9050-EA28E3E3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1953-34BC-4639-B96E-F25FD6F2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219D-3F89-423F-B769-F07379C4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0339-28B7-43E7-BB99-CE06A32B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3ADB-3FF0-4463-AA50-660AE751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2838-F359-4CC8-AC37-9550168D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5C9F-AF0A-4A2D-A799-F94C3AAF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1EEC-EA89-428E-B302-107C660A7A1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70E3-62E9-44D7-AFB6-2FCF0DB0EF7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66"/>
                </a:solidFill>
                <a:latin typeface="Arial"/>
              </a:rPr>
              <a:t>"Аутизм как форма дизонтогенеза: основная симптоматика и психологическая характеристика детей с искаженным развитием"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2b2b2"/>
                </a:solidFill>
                <a:latin typeface="Arial"/>
              </a:rPr>
              <a:t>педагог-психолог Хейдорова Мария Викто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533520" y="762120"/>
            <a:ext cx="8153280" cy="58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2b2b2"/>
                </a:solidFill>
                <a:latin typeface="Arial"/>
              </a:rPr>
              <a:t>Один из определяющих и диагностически важный признак заболевания – появление симптом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2b2b2"/>
                </a:solidFill>
                <a:latin typeface="Arial"/>
              </a:rPr>
              <a:t>в возрасте до 2,5 лет. Аутизм встречается редко, у 2–4 детей из 10000, у мальчиков в 3 раза чаще, чем у девоч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Три основных призн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Уход в себ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2. Стереотип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3. Речевые особен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04920" y="1322640"/>
            <a:ext cx="86868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О.С.Никольская выделяет четыре группы РД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ая группа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– с аутистическим отвержением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торая группа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– с аутистической отрешённостью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ретья группа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– с аутистическим замещ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Четвёртая группа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 аутистической сверхтормозимость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ff"/>
                </a:solidFill>
                <a:latin typeface="Arial"/>
              </a:rPr>
              <a:t>Направления работы при сопровождении и в образовании людей, страдающих аутизмом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Упорядочение пространства и време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Развитие коммуник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Развитие ключевых способностей: выработка навыков самообслуживания и ведения домашнего хозяйства, трудовой деятельности, поведения при работе, формирование навыков проведения свободного времени, социальных навыков и учебно-функциональных навык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66"/>
                </a:solidFill>
                <a:latin typeface="Monotype Corsiva"/>
              </a:rPr>
              <a:t>Спасибо за внимание!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2b2b2"/>
                </a:solidFill>
                <a:latin typeface="Arial"/>
              </a:rPr>
              <a:t>АУТИЗМ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(от греч. autos - сам) - отстранение от окружающей действительности, погружение в мир собственных переживаний, ориентация на самого себя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ffcc00"/>
                </a:solidFill>
                <a:uFillTx/>
                <a:latin typeface="Arial"/>
              </a:rPr>
              <a:t>Дизонтогенез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изонтогенез психики – стой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рушение темпа взаимосвязан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орфофункциональных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сихологических изменений в процес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тановления личности и/и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характера 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оследова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Дизонтогенез чаще всего характеризуется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Ретардацие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отставанием в становлении разных психических функций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Асинхронией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что-то отстает, а что-то развивается ускоренно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b2b2b2"/>
                </a:solidFill>
                <a:latin typeface="Arial"/>
              </a:rPr>
              <a:t>Классификация типов дизонтогенеза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1720" y="1757520"/>
            <a:ext cx="800568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 группа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включает отклонения по типу отставания в созревании ВПФ – недоразвитие, задержка психического разви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2 группа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– отклонения по типу повреждения впф – поврежденное развитие (деменция) и дефицитарное развитие (тяжелые нарушения анализаторных систем, опорно-двигательного аппарата, реч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3 группа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– отклонения по типу </a:t>
            </a:r>
            <a:r>
              <a:rPr b="1" i="1" lang="ru-RU" sz="2400" spc="-1" strike="noStrike">
                <a:solidFill>
                  <a:srgbClr val="ffcc66"/>
                </a:solidFill>
                <a:latin typeface="Arial"/>
              </a:rPr>
              <a:t>асинхронии – искаженное развитие (РДА),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дисгармоническое развитие (психопат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-360" y="533520"/>
            <a:ext cx="899172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ff"/>
                </a:solidFill>
                <a:latin typeface="Arial"/>
              </a:rPr>
              <a:t>Психологической характеристикой искажённого развития является стойкая специфика и диспропорциональность формирования всех сфер личности, возникающая на основе врождённых мозговых повреждений и проявляющаяся в первую очередь грубой патологией эмоц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1920" y="1904760"/>
            <a:ext cx="8991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арушение способности устанавливать отношения с людьми, начиная с самого раннего возрас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тгороженность от внешнего мира с игнорированием раздражителей до тех пор, пока они не становятся болезненны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достаточность принятия позы готовности при взятии на ру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достаточность коммуникативного пользования речь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екрасная механическая памя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эхолал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буквальность в употреблении сл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436840" y="313848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685800" y="22860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Arial"/>
              </a:rPr>
              <a:t>Синдром Каннера включает 17 признаков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228600" y="533520"/>
            <a:ext cx="8686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звращённое употребление личных местоим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арушение пищеварения на первом году жизн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нний страх определённых громких звуков и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вижущихся объек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онотонное повторение звуков и движ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трах изменений в обстановк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днообразие спонтанной актив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онотонные механические игры с неигровы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едмет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печатление хорошего интеллекта благодар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пешности в отдельных навыках и «умному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ыражению лиц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ерьёзное выражение лица, напряжённое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сутствии люд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хорошее физическое здоровь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66"/>
                </a:solidFill>
                <a:latin typeface="Comic Sans MS"/>
              </a:rPr>
              <a:t>Синдром Асперге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индром Аспергера считается более благоприятным вариантом развития.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роявляется к трёхлетнему возрасту, достигая своего расцвета в первые школьные год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сновной признак синдрома заключается в чрезмерном предпочтении ребёнком интеллектуальной деятельности при бедности эмоциональной сферы (сниженная способность к сопереживанию, использованию прошлого жизненного опыта, недостаток интуиции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ебёнок плохо общается со сверстниками, обычно они его не принимаю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Странности типа предпочтения игры в одиночестве, нелюбви к игрушкам, немотивированных страхов, протеста против перемен также имеются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ечевое развитие отличается своеобразием («взрослая речь», неологизмы), но нарушения её коммуникативной функции не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я</cp:lastModifiedBy>
  <dcterms:modified xsi:type="dcterms:W3CDTF">2020-09-17T01:48:22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