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3762-38A5-457A-B19E-A6496C2532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6240-BBE2-45B1-B8C9-175B3232F4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98F8-14F9-4378-A680-12F1CCD4E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9A4E-6FD3-461B-9A15-1425965C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9FB4-D8E9-4202-AAF2-BE8C71E23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2531-80E5-46CF-855E-A7D57CA51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D37A8-F757-4408-9CDE-B06E3FC01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1560-945C-42DD-B7FF-C8A16244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89E82-75C8-4B4B-A654-CE76AF70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D39E-1232-4FCF-8381-94245E1C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5AD9-4719-46B9-B2D1-F02C2DD6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7DC5F-FA36-46C2-A362-EC84C768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2178-1965-4C3D-B318-3F8F3D54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AC78-5DC4-4FC1-9D5B-8BA4CC3B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D2E1-304F-4726-8528-FF50C269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7706-4611-4028-9A18-B5468DE1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BAD7-894C-48BB-AB99-E3374CBE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ADD5-FF9A-4BA9-8C2F-4713587FA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2E58-56F3-4C7B-AEE3-D9F3F60C7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4DD9-A43D-4A2F-858B-B2DD5A10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C603-B2F2-4218-8866-7FBD7147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BD45-C3AC-4715-97A4-95A7670B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1F5C-803B-4834-B1DD-BE33B7D9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4CB9-A45B-4F79-84EA-791DAFB4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B2BC-57D2-46CE-BD85-B968AA0D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F654-B3FF-4DD6-A0AA-BF0033EC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1E1C-507E-40E9-8D27-CB02422C32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post-279854-1298288370.png"/>
          <p:cNvPicPr/>
          <p:nvPr/>
        </p:nvPicPr>
        <p:blipFill>
          <a:blip r:embed="rId3"/>
          <a:stretch/>
        </p:blipFill>
        <p:spPr>
          <a:xfrm>
            <a:off x="7500960" y="-4287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7" descr="post-279854-1298288370.png"/>
          <p:cNvPicPr/>
          <p:nvPr/>
        </p:nvPicPr>
        <p:blipFill>
          <a:blip r:embed="rId4"/>
          <a:stretch/>
        </p:blipFill>
        <p:spPr>
          <a:xfrm>
            <a:off x="0" y="214200"/>
            <a:ext cx="2357280" cy="2071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8" descr="97e6b01896c7.png"/>
          <p:cNvPicPr/>
          <p:nvPr/>
        </p:nvPicPr>
        <p:blipFill>
          <a:blip r:embed="rId5"/>
          <a:stretch/>
        </p:blipFill>
        <p:spPr>
          <a:xfrm rot="20340000">
            <a:off x="-628200" y="-348840"/>
            <a:ext cx="3330360" cy="2681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5AA9-1D45-4A88-8D7F-67136C335D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11280" y="1052280"/>
            <a:ext cx="5832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к русского язык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в 3 «А»класс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6836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Тема: «Обстоятельств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УМК «Школа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XXI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ек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00000"/>
              </a:solidFill>
              <a:latin typeface="Bookman Old Style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971640" y="-573840"/>
            <a:ext cx="770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АЖНЕНИЕ  4 СТР 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м образом совершается действие – быстро, вес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сто – из кинотеатра, в Моск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я – летом, к вечеру, после зи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– за моло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чина действия – из-за дождя, от гроз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Bookman Old Style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657800" y="2107080"/>
            <a:ext cx="826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учить правило !!! Стр 90, стр. 91, упр. 5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Всем спасибо за урок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Пятое ноября.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Классная рабо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Заголовок 1"/>
          <p:cNvSpPr/>
          <p:nvPr/>
        </p:nvSpPr>
        <p:spPr>
          <a:xfrm>
            <a:off x="611280" y="19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 Black"/>
              </a:rPr>
              <a:t>Бурундуки л..бят яг..ды и плоды ш..повни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Заголовок 1"/>
          <p:cNvSpPr/>
          <p:nvPr/>
        </p:nvSpPr>
        <p:spPr>
          <a:xfrm>
            <a:off x="633240" y="3174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Заголовок 1"/>
          <p:cNvSpPr/>
          <p:nvPr/>
        </p:nvSpPr>
        <p:spPr>
          <a:xfrm>
            <a:off x="620640" y="5022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Bookman Old Style"/>
              </a:rPr>
              <a:t>Закончите предлож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76438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ГЛАВНЫЕ ЧЛЕ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ПРЕДЛОЖЕНИЯ – это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____________________________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1116000" y="256536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ОДЛЕЖАЩЕЕ и СКАЗУЕМ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971640" y="3645000"/>
            <a:ext cx="76438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ВТОРОСТЕПЕННЫЕ ЧЛ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ПРЕДЛОЖЕНИЯ – это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_______________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Тема урока </a:t>
            </a: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ОБСТОЯТЕЛЬ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Заголовок 1"/>
          <p:cNvSpPr/>
          <p:nvPr/>
        </p:nvSpPr>
        <p:spPr>
          <a:xfrm>
            <a:off x="633240" y="1773360"/>
            <a:ext cx="8207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Ю: - Что такое обстоятельств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то обозначает обстоятельств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кие вопросы отвеча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 выделяется в предложени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каким членом связано в предложен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ую роль играет в предложен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УСЬ:-находить обстоятельства, задавать вопросы,  применять зна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Заголовок 1"/>
          <p:cNvSpPr/>
          <p:nvPr/>
        </p:nvSpPr>
        <p:spPr>
          <a:xfrm>
            <a:off x="633240" y="3193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Заголовок 1"/>
          <p:cNvSpPr/>
          <p:nvPr/>
        </p:nvSpPr>
        <p:spPr>
          <a:xfrm>
            <a:off x="620640" y="5022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755280" y="404280"/>
            <a:ext cx="838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растут быстро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нью идут дожд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а любит гулять в парк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цы улетают на юг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Москвы пришла посылк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755280" y="404280"/>
            <a:ext cx="838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растут быстро. (как?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нью идут дожди. (когда?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а любит гулять в парке. (где?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цы улетают на юг. (куда?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Москвы пришла посылка. (откуда?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755280" y="404280"/>
            <a:ext cx="838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вопросы: Где?  Куда? Когда? Откуда? Почему? Зачем? и Как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стоятельства обозначают, где, когда, почему, зачем происходит действие, значит, описывают действия более точно, конкрет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5"/>
          <p:cNvSpPr/>
          <p:nvPr/>
        </p:nvSpPr>
        <p:spPr>
          <a:xfrm>
            <a:off x="4572000" y="1484280"/>
            <a:ext cx="4103640" cy="4321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Georgia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5219640" y="1773360"/>
            <a:ext cx="3027600" cy="3743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1187280" y="1341360"/>
            <a:ext cx="30243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Bookman Old Style"/>
              </a:rPr>
              <a:t>Закончите предлож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76438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ГЛАВНЫЕ ЧЛЕ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ПРЕДЛОЖЕНИЯ – это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____________________________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1116000" y="256536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ОДЛЕЖАЩЕЕ и СКАЗУЕМ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971640" y="3645000"/>
            <a:ext cx="76438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ВТОРОСТЕПЕННЫЕ ЧЛ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ПРЕДЛОЖЕНИЯ – это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_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_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_______________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1476360" y="479736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БСТОЯТЕЛЬСТ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2T23:19:04Z</dcterms:created>
  <dc:creator>natasha23</dc:creator>
  <dc:description/>
  <dc:language>en-US</dc:language>
  <cp:lastModifiedBy>1</cp:lastModifiedBy>
  <dcterms:modified xsi:type="dcterms:W3CDTF">2021-04-13T15:45:40Z</dcterms:modified>
  <cp:revision>33</cp:revision>
  <dc:subject/>
  <dc:title>Слайд 1</dc:title>
</cp:coreProperties>
</file>