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2B8-22AB-477B-9C41-ECA16618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7B5-8F4E-4456-AAE2-6928DA4D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6FF-A818-40B3-9D3A-38239B6C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916-AA50-4145-B160-E9184E42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FCBD-6D5B-40F8-8B4C-19B9E81A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768-A2BA-4085-B3F7-11331067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95D6-6E67-4857-B9C1-92BE6489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478E-DE76-46B3-8FDB-16295D63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CF5B-C1AD-481B-AF90-E8A26CA1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1B75-8B65-4360-A9F0-056FEF0F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05C3-0E0A-4F52-B56E-CC2808F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1F0-6A26-42C1-8358-D061FDE5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0B8E-6D94-498E-86A3-FDBD280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D29A-53EE-439B-B8FD-7B5FD2B6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0D72-CAA6-4C83-B8C2-F7F6378B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2B41-9A10-4AF3-8235-4B222A6B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B7BC-2EE0-4684-A825-3706B396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A323-0ABE-4CCE-B525-76B1C199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34B0-0B2F-4350-8702-532D3E2C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6B72-1206-4093-9B2B-A954A98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1E06-8320-4A86-A9A0-56A88A2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43BB-F4B3-43FD-AC73-1DD9C273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E0F-4E7A-4AD0-B18C-D9BD307B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A488-C10B-4B17-9D47-5E0E6F69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0AB6-FF66-4565-A1EB-606E9B5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92FB-AA29-4FC5-9C7D-8C017BCF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0B3C-CF1E-4ABE-9B43-D8FD124F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3D28-D29A-4E69-9756-0B3E353A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6B5B-EE73-4288-8402-522EDA02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EB54-1BCA-435B-9494-954F7EC8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E66-11F3-4766-85A1-B3152369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F1A-6174-41C8-9ADF-F1989D97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E90-F49B-4983-9413-33B35EC3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8DB-92B4-4A7E-9573-76CECFD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4A4-98A5-46C5-868C-EE5A7784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27F-C14D-4864-8A40-C88C32EB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D6E-24E9-40AA-9FAF-5F1A20D32C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578-6C88-48D5-9201-4411F785FA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c3e59f"/>
              </a:gs>
              <a:gs pos="100000">
                <a:srgbClr val="d1ebb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кругленный прямоугольник 11"/>
          <p:cNvSpPr/>
          <p:nvPr/>
        </p:nvSpPr>
        <p:spPr>
          <a:xfrm>
            <a:off x="1042920" y="44280"/>
            <a:ext cx="8101080" cy="809640"/>
          </a:xfrm>
          <a:prstGeom prst="roundRect">
            <a:avLst>
              <a:gd name="adj" fmla="val 50000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1260360" y="44280"/>
            <a:ext cx="8064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евое государственное бюджетное профессиона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АВГОРОДСКИЙ ПЕДАГОГИЧЕСКИЙ КОЛЛЕД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D:\admin\Рабочий стол\ФОТО.jpg"/>
          <p:cNvPicPr/>
          <p:nvPr/>
        </p:nvPicPr>
        <p:blipFill>
          <a:blip r:embed="rId4"/>
          <a:stretch/>
        </p:blipFill>
        <p:spPr>
          <a:xfrm>
            <a:off x="-19080" y="-19080"/>
            <a:ext cx="129384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admin\Рабочий стол\проект символики колледжа - копия.png"/>
          <p:cNvPicPr/>
          <p:nvPr/>
        </p:nvPicPr>
        <p:blipFill>
          <a:blip r:embed="rId5"/>
          <a:stretch/>
        </p:blipFill>
        <p:spPr>
          <a:xfrm>
            <a:off x="7920" y="52560"/>
            <a:ext cx="1252440" cy="809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8485-AAC4-40BB-87DF-3DAE29D9E4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ontrol 4"/>
          <p:cNvSpPr/>
          <p:nvPr/>
        </p:nvSpPr>
        <p:spPr>
          <a:xfrm>
            <a:off x="6429240" y="6508800"/>
            <a:ext cx="2973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Церковны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Содержимое 4" descr="mt15.jpg"/>
          <p:cNvPicPr/>
          <p:nvPr/>
        </p:nvPicPr>
        <p:blipFill>
          <a:blip r:embed="rId1"/>
          <a:stretch/>
        </p:blipFill>
        <p:spPr>
          <a:xfrm>
            <a:off x="1187280" y="1628640"/>
            <a:ext cx="7391520" cy="492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Граждански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5" name="Содержимое 14" descr="гражданский брак.jpg"/>
          <p:cNvPicPr/>
          <p:nvPr/>
        </p:nvPicPr>
        <p:blipFill>
          <a:blip r:embed="rId1"/>
          <a:srcRect l="13209" t="20126" r="15094" b="14467"/>
          <a:stretch/>
        </p:blipFill>
        <p:spPr>
          <a:xfrm>
            <a:off x="1258920" y="1484280"/>
            <a:ext cx="7224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Фиктивны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7" name="Picture 2" descr="C:\Users\user\Desktop\Без названия.jpg"/>
          <p:cNvPicPr/>
          <p:nvPr/>
        </p:nvPicPr>
        <p:blipFill>
          <a:blip r:embed="rId1"/>
          <a:stretch/>
        </p:blipFill>
        <p:spPr>
          <a:xfrm>
            <a:off x="952560" y="1900080"/>
            <a:ext cx="2643120" cy="1920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user\Desktop\630303_600.jpg"/>
          <p:cNvPicPr/>
          <p:nvPr/>
        </p:nvPicPr>
        <p:blipFill>
          <a:blip r:embed="rId2"/>
          <a:stretch/>
        </p:blipFill>
        <p:spPr>
          <a:xfrm>
            <a:off x="3419640" y="1900080"/>
            <a:ext cx="5473440" cy="448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user\Desktop\depositphotos_244839032-stock-photo-male-female-hands-passport-money.jpg"/>
          <p:cNvPicPr/>
          <p:nvPr/>
        </p:nvPicPr>
        <p:blipFill>
          <a:blip r:embed="rId3"/>
          <a:stretch/>
        </p:blipFill>
        <p:spPr>
          <a:xfrm>
            <a:off x="826920" y="3841920"/>
            <a:ext cx="32403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пасибо за работу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1" name="Picture 2" descr="C:\Users\user\Desktop\Рисунок2.jpg"/>
          <p:cNvPicPr/>
          <p:nvPr/>
        </p:nvPicPr>
        <p:blipFill>
          <a:blip r:embed="rId1"/>
          <a:stretch/>
        </p:blipFill>
        <p:spPr>
          <a:xfrm>
            <a:off x="1116000" y="148428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6286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 семьи дл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ы семей, виды бр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 вступления в брак, условия расторжения брака , условия, препятствующие вступлению в б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отношения родителей и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и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ставьте пропус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773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я – это – основанная на ___И______ (1) и/или кровном родстве малая __З________ (2), члены которой объединены совместным проживанием и ведением домашнего хозяйства, эмоциональной связью, взаимными ____Д_______ (3) по отношению друг к другу. Также семьей называется социальный ____Е______ (4), т.е. устойчивая форма взаимоотношений между людьми, в рамках которого осуществляется основная часть повседневной жизни людей, т.е. сексуальные отношения, деторождение и первичная ___В_________ (5) детей, значительная часть бытового ухода, образовательного и медицинского обслуживания, особенно по отношению к __А_________ (6) и лицам пожилого возраст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те из списка слова, которые необходимо вставить на места пропус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дети, Б) брак, В) социализация, Г) коллектив, Д) обязанности, Е) институт, Ж) отношения, З) группа, И) любовь, К) уваж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user\Desktop\Screenshot_3.png"/>
          <p:cNvPicPr/>
          <p:nvPr/>
        </p:nvPicPr>
        <p:blipFill>
          <a:blip r:embed="rId1"/>
          <a:stretch/>
        </p:blipFill>
        <p:spPr>
          <a:xfrm>
            <a:off x="384120" y="115920"/>
            <a:ext cx="85089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116000" y="1700280"/>
            <a:ext cx="77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К функциям семьи относи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оспитание законопослушного поведения у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определение размера коммунальных платеж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установление стандартов 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определение минимального размера оплаты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 совместном расходовании семей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ется функция семь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эконом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оциально – стату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сихологическая-восстановите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репроду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971640" y="126828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Репродуктивной функцией семьи явля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рождение и содержание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ддержка несовершеннолетних и нетрудоспособных членов семь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накопление и передача собствен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освоение норм совместной жизни с другими люд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уговая (рекреационная) функция семьи проявляется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предоставлении ребенку определенного стат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овместном посещении культурно – массовых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составлении семейного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создании благоприятного психологического клим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иды семь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16000" y="162864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супру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796000" y="15987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ринципу на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044720" y="278136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га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700360" y="2781360"/>
            <a:ext cx="21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гамия (полиандр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197964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334800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5109120" y="278136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е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856560" y="2751120"/>
            <a:ext cx="19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-лине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 flipH="1">
            <a:off x="606420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7432560" y="2492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5796000" y="4344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главенст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5194080" y="5270400"/>
            <a:ext cx="15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6856560" y="5240160"/>
            <a:ext cx="19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-арх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1"/>
          <p:cNvSpPr/>
          <p:nvPr/>
        </p:nvSpPr>
        <p:spPr>
          <a:xfrm flipH="1">
            <a:off x="6064200" y="49816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2"/>
          <p:cNvSpPr/>
          <p:nvPr/>
        </p:nvSpPr>
        <p:spPr>
          <a:xfrm>
            <a:off x="7432560" y="498168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1189080" y="41180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оциальному положению супру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4"/>
          <p:cNvSpPr/>
          <p:nvPr/>
        </p:nvSpPr>
        <p:spPr>
          <a:xfrm>
            <a:off x="1312920" y="5259240"/>
            <a:ext cx="11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м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2752560" y="522936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теро-г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6"/>
          <p:cNvSpPr/>
          <p:nvPr/>
        </p:nvSpPr>
        <p:spPr>
          <a:xfrm flipH="1">
            <a:off x="1960560" y="497052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3328920" y="497052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иды семь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129680" y="347652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774160" y="35002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л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85840" y="1916280"/>
            <a:ext cx="32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аличию обоих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H="1">
            <a:off x="1763280" y="278136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2987640" y="278136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227920" y="19368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5219280" y="256536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6659640" y="2565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451640" y="2565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036120" y="3429000"/>
            <a:ext cx="130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у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572000" y="35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дет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7548480" y="3500280"/>
            <a:ext cx="12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-де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403280" y="429264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аличию регистрации бр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971640" y="5734080"/>
            <a:ext cx="30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, связанные юридическим бра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121280" y="5702400"/>
            <a:ext cx="361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, связанные фактическим бра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9"/>
          <p:cNvSpPr/>
          <p:nvPr/>
        </p:nvSpPr>
        <p:spPr>
          <a:xfrm flipH="1">
            <a:off x="2410920" y="5157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4067280" y="515772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Юридический бр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1" name="Содержимое 7" descr="74875066_3571750_2544.jpg"/>
          <p:cNvPicPr/>
          <p:nvPr/>
        </p:nvPicPr>
        <p:blipFill>
          <a:blip r:embed="rId1"/>
          <a:stretch/>
        </p:blipFill>
        <p:spPr>
          <a:xfrm>
            <a:off x="1332000" y="1773360"/>
            <a:ext cx="7086600" cy="474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43:06Z</dcterms:created>
  <dc:creator>Шиварев Павел Васильевич</dc:creator>
  <dc:description/>
  <dc:language>en-US</dc:language>
  <cp:lastModifiedBy>user</cp:lastModifiedBy>
  <dcterms:modified xsi:type="dcterms:W3CDTF">2021-04-01T15:30:53Z</dcterms:modified>
  <cp:revision>90</cp:revision>
  <dc:subject/>
  <dc:title>Система оценки по предмету  Человек и общество</dc:title>
</cp:coreProperties>
</file>