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0A1-92FE-4B48-8E83-80311F6A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EB0A-28BD-4427-B858-0BF4A80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F34-A1DE-4642-8275-CDB0D872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B91-C642-4864-999C-1F498263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E927-9C26-46F8-B291-1F204164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82F-6358-469F-AF09-F356D409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A09-CDF4-4A80-8AF7-8686B8A2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163-1EAD-4907-9D6A-800C558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F28-BBD6-4D26-9178-E24AE6FB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2C11-2C42-4514-ACAA-31D68D2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E92-0117-4D10-AE66-9A5F6A6A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4A82-2BB2-42FE-9AAB-3262CFD0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A249-ECAB-47EF-904B-23156D4D6D8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920" y="2937960"/>
            <a:ext cx="4826160" cy="21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ая игра для  молодых педагогов ДОУ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ь к успех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гласил всех родителей на родительское собрание, поместив информацию об этом на групповом стенде. Пришло два человека. Воспитатель недоволен. Родительское собрание пришлось перенести.  Чем можно объяснить происшедшее? Что предпринять в дальнейше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nosh1.ru/uploads/post/image/51/4b2d86b9-18dc-4d3f-b273-ce988da4d03d.jpg"/>
          <p:cNvPicPr/>
          <p:nvPr/>
        </p:nvPicPr>
        <p:blipFill>
          <a:blip r:embed="rId1"/>
          <a:stretch/>
        </p:blipFill>
        <p:spPr>
          <a:xfrm>
            <a:off x="1420920" y="3916440"/>
            <a:ext cx="5586480" cy="27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боров на прогулку один из воспитанников вдруг вынул из кармана пальто записку, адресованную воспитателю группы, с просьбой матери не закаливать её ребёнка после дневного сна. Причина не указывалась. Вы выполнили бы просьбу родителя? Какими будут ваши действия в дальнейшем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nivel.ru/xunanhux/8424"/>
          <p:cNvPicPr/>
          <p:nvPr/>
        </p:nvPicPr>
        <p:blipFill>
          <a:blip r:embed="rId1"/>
          <a:stretch/>
        </p:blipFill>
        <p:spPr>
          <a:xfrm>
            <a:off x="1819440" y="3983040"/>
            <a:ext cx="50385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28560" y="1441440"/>
            <a:ext cx="788688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ременно не посещает по причине отпуска. По возвращению, мама обнаруживает, что их шкафчик занят другим ребенком. Мама начинает выяснять, предъявлять претензии к воспитателю. Как в данной ситуации вести себя воспитателю? Что можно предпринять для того, чтобы избежать конфлик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lh5.googleusercontent.com/proxy/Qj3hxCJsGvqEQnQIbLTY1FN04FE3QowJ3UOmv-HpB90-072y3HYYt_9movozIZNS0sSGbhf8O910tAYqznx3rwh4WnPfbQ-i7k-MhcuYgzL1_A=s0-d"/>
          <p:cNvPicPr/>
          <p:nvPr/>
        </p:nvPicPr>
        <p:blipFill>
          <a:blip r:embed="rId1"/>
          <a:stretch/>
        </p:blipFill>
        <p:spPr>
          <a:xfrm>
            <a:off x="2136600" y="3746520"/>
            <a:ext cx="440388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КОДИЛ 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2" descr="http://cdn-nus-1.pinme.ru/tumb/600/photo/c5/4d/c54d9e6babda892b49a0c9a3ff43ea8a.jpg"/>
          <p:cNvPicPr/>
          <p:nvPr/>
        </p:nvPicPr>
        <p:blipFill>
          <a:blip r:embed="rId1"/>
          <a:stretch/>
        </p:blipFill>
        <p:spPr>
          <a:xfrm>
            <a:off x="2614680" y="3538440"/>
            <a:ext cx="3698640" cy="26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а  на тему «Современный педагог ДОУ- какой он?»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http://kapelka.caduk.ru/images/romashka.png"/>
          <p:cNvPicPr/>
          <p:nvPr/>
        </p:nvPicPr>
        <p:blipFill>
          <a:blip r:embed="rId1"/>
          <a:stretch/>
        </p:blipFill>
        <p:spPr>
          <a:xfrm>
            <a:off x="2157480" y="3191040"/>
            <a:ext cx="5048280" cy="33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 релаксация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сылай и воспринимай уверенность»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2" descr="http://images.easyfreeclipart.com/345/tuesday-may-10-2011-happy-0-comments-345744.jpg"/>
          <p:cNvPicPr/>
          <p:nvPr/>
        </p:nvPicPr>
        <p:blipFill>
          <a:blip r:embed="rId1"/>
          <a:stretch/>
        </p:blipFill>
        <p:spPr>
          <a:xfrm>
            <a:off x="2117880" y="2871720"/>
            <a:ext cx="4800600" cy="3300480"/>
          </a:xfrm>
          <a:prstGeom prst="rect">
            <a:avLst/>
          </a:prstGeom>
          <a:ln w="0">
            <a:noFill/>
          </a:ln>
        </p:spPr>
      </p:pic>
      <p:pic>
        <p:nvPicPr>
          <p:cNvPr id="72" name="свет звезды.mp3" descr=""/>
          <p:cNvPicPr/>
          <p:nvPr/>
        </p:nvPicPr>
        <p:blipFill>
          <a:blip r:embed="rId2"/>
          <a:stretch/>
        </p:blipFill>
        <p:spPr>
          <a:xfrm>
            <a:off x="7251840" y="5105520"/>
            <a:ext cx="14922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877760"/>
            <a:ext cx="9144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назад в одном городе жил очень мудрый человек. К нему часто приходили люди за советом. Каждому из них он умудрялся дать очень хороший и правильный совет. Слава о его мудрости разнеслась повсюду.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его слова дошли до еще одного человека, который тоже был мудрым и известным в округе. Этот человек тоже помогал другим людям. Ему нравилось то, что его считают самым мудрым и прислушиваются к его советам. И когда он узнал, что есть еще один мудрец, то стал злиться на него за то, что теряет свою известность. И он стал думать, как доказать другим людям, что на самом деле более мудрым является о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 думал и решил: «Я возьму бабочку, спрячу ее между ладоней, подойду на глазах у всех к мудрецу и спрошу его: «Скажи, что у меня в руках?» . Он, конечно же, великий мудрец, поэтому он догадается и скажет: «У тебя в руках бабочка» . Тогда я его спрошу: «А какая это бабочка, живая или мертвая? » И если он скажет, что бабочка живая, тогда я легонько надавлю ее своими ладонями так, что когда я их раскрою, то все увидят, что она мертвая. А если он скажет, что бабочка мертвая, тогда я отпущу ее, и она полетит. И тогда все увидят, что он оказался не прав» . Так он и сделал. Взял бабочку, подошел к мудрецу и спросил ег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, что у меня в руках? Мудрец посмотрел и сказал: — У тебя в руках бабочка. Тогда он спросил мудреца: — Скажи, живая она или мертвая? Мудрец посмотрел ему в глаза, подумал и сказал: — Все в твоих ру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spiritualschool.ru/wp-content/uploads/2015/07/D0-9C-D0-BE-D0-BB-D0-B8-D1-82-D0-B2-D0-B0-D1-81-D1-82-D0-B0-D1-80-D0-B5-D1-8E-D1-89-D0-B5-D0-B3-D0-BE-D1-87-D0-B5-D0-BB-D0-BE-D0-B2-D0-B5-D0-BA-D0-B0-360x3601-1.jpg"/>
          <p:cNvPicPr/>
          <p:nvPr/>
        </p:nvPicPr>
        <p:blipFill>
          <a:blip r:embed="rId1"/>
          <a:stretch/>
        </p:blipFill>
        <p:spPr>
          <a:xfrm>
            <a:off x="0" y="0"/>
            <a:ext cx="2852640" cy="1878120"/>
          </a:xfrm>
          <a:prstGeom prst="rect">
            <a:avLst/>
          </a:prstGeom>
          <a:ln w="0">
            <a:noFill/>
          </a:ln>
        </p:spPr>
      </p:pic>
      <p:pic>
        <p:nvPicPr>
          <p:cNvPr id="75" name="3d7c27b5136685.mp3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9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560"/>
            <a:ext cx="7886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900igr.net/datas/literatura/Bednaja-Liza/0020-02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задание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минка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2" descr="https://i.ytimg.com/vi/uOTaTx2Grj0/maxresdefault.jpg"/>
          <p:cNvPicPr/>
          <p:nvPr/>
        </p:nvPicPr>
        <p:blipFill>
          <a:blip r:embed="rId1"/>
          <a:stretch/>
        </p:blipFill>
        <p:spPr>
          <a:xfrm>
            <a:off x="1427040" y="3048120"/>
            <a:ext cx="5765760" cy="357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360" y="307440"/>
            <a:ext cx="87566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ит ведущая роль в воспитании ребенка-дошкольника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законодательные документы, в которых обозначена приоритетная роль семьи в воспитании ребен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ституция РФ, Закон «Об образовании», Конвенция о правах ребенка, Семейный ко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роль детского сада в воспитании дет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очь, поддержать, направить, дополнить воспитательную деятельность семь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должен быть компетентен педагог для полноценного общения с родителями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а, педиатрия, физиология, психология, педагогика, риторика,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семь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ьские собрания, анкетирование, письменные и устные консультации, беседы, дни открытых дверей, родительская почта, оформление стендов, приглашение на занятие, проведение общих досугов с приглашением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ринципами должен руководствоваться воспитатель в своей профессиональной деятельност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. подход, учет возрастных особенностей, гуманизм, открытости, конфендициальност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детьми?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д, совместная, групповая, подгрупповая, инивидуальная, экскурсии, круглый сто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Упражнения на развитие коммуникативности педагога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http://engsuccess.ru/wp-content/uploads/2012/03/013_post_communication.jpg"/>
          <p:cNvPicPr/>
          <p:nvPr/>
        </p:nvPicPr>
        <p:blipFill>
          <a:blip r:embed="rId1"/>
          <a:stretch/>
        </p:blipFill>
        <p:spPr>
          <a:xfrm>
            <a:off x="2216160" y="3429000"/>
            <a:ext cx="4702320" cy="33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1 «Кто эта маска?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7800" y="1539720"/>
            <a:ext cx="5394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Цель: 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ивать умение производить впечатление в соответствии с выбранным образ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длагаю разыграть образы родител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РУБАХА — ПАРЕНЬ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ВЕЧНО НЕДОВОЛЬНЫЙ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СОМНЕВА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ИНТЕРЕСУ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елающие выбирают по  образу, называть вслух не надо, только разыграть, остальные участники  угадывают  тот образ, который вы изображаете. Участники могут задавать вопро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900igr.net/datai/mkhk/Karnavaly/0002-003-TSeli-i-zadachi.png"/>
          <p:cNvPicPr/>
          <p:nvPr/>
        </p:nvPicPr>
        <p:blipFill>
          <a:blip r:embed="rId1"/>
          <a:stretch/>
        </p:blipFill>
        <p:spPr>
          <a:xfrm>
            <a:off x="5413320" y="2274840"/>
            <a:ext cx="361008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2 «Искусство общения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243080"/>
            <a:ext cx="7886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дготовить короткий комментарий к тезиса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струкция: Перед каждым участником игры лежит тезис. Необходимо прочитать его и подготовить короткий комментарий к нему. Могут высказываться все участники игр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Тезис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верительное общение между воспитателем и родителями воспитанников не может быть навязано, оно должно возникнуть как естественное желание другой сторон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обладание оценочного стиля общения становится серьезным источником конфликтов между воспитателем и родите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одители должны услышать то, что сказал им воспитате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ли вы видите лицо собеседника без улыбки, улыбнитесь ему с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nformvest.net/wp-content/uploads/2016/01/obshenie.gif"/>
          <p:cNvPicPr/>
          <p:nvPr/>
        </p:nvPicPr>
        <p:blipFill>
          <a:blip r:embed="rId1"/>
          <a:stretch/>
        </p:blipFill>
        <p:spPr>
          <a:xfrm>
            <a:off x="3071880" y="5386320"/>
            <a:ext cx="6072120" cy="14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задание 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бревиатуры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://is2.mzstatic.com/image/thumb/Purple/v4/68/8b/a7/688ba7f4-548f-d2c1-7767-13cdfadb237a/source/512x512bb.jpg"/>
          <p:cNvPicPr/>
          <p:nvPr/>
        </p:nvPicPr>
        <p:blipFill>
          <a:blip r:embed="rId1"/>
          <a:stretch/>
        </p:blipFill>
        <p:spPr>
          <a:xfrm>
            <a:off x="2614680" y="3260880"/>
            <a:ext cx="4097160" cy="32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622440" y="628560"/>
            <a:ext cx="789912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дагогических ситуаций мозговым штурмом 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2" descr="http://25mb.ru/img/picture/Oct/08/9b016f1989df6fc39ba73ba7e4353b91/1.jpg"/>
          <p:cNvPicPr/>
          <p:nvPr/>
        </p:nvPicPr>
        <p:blipFill>
          <a:blip r:embed="rId1"/>
          <a:stretch/>
        </p:blipFill>
        <p:spPr>
          <a:xfrm>
            <a:off x="1928880" y="3002040"/>
            <a:ext cx="519732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МДОУ 23</cp:lastModifiedBy>
  <dcterms:modified xsi:type="dcterms:W3CDTF">2016-10-20T09:14:54Z</dcterms:modified>
  <cp:revision>19</cp:revision>
  <dc:subject/>
  <dc:title>Name of  presentation</dc:title>
</cp:coreProperties>
</file>