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641-9EE3-4243-9F24-CD126CCC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7D8-E72D-4C18-B5AB-1D000518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9E2-D054-42E3-9F84-5456F475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C9C-13A0-472A-B73B-F3DFD3F6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C987-3501-4EA7-86FF-5FE1B9A9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8A64-BE43-407B-8881-5C232B73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F20D-55C9-453B-B590-9E29A398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5752-6105-4273-ABC3-FEAA4279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2822-E7F0-4FBF-A792-4EB75653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50FE-9DB1-40C3-88AF-72DB349B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D5E0-446F-4CA1-BF0E-4F7E037A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418-1BF2-466A-8AB3-6EAF20A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DEFA-7D12-46BA-919F-F66D7F2C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CC04-6DEE-48D3-8AA1-B72E39CF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C3D1-F5B0-4165-B494-CFC45CCA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7172-B6A1-44A5-985D-A359AB0F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0F5D-E545-4BDD-952E-50A97E2A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043-B343-4949-8F05-161D37DD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654A-1611-431E-B966-4EE1E015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591-C884-4CB8-903D-76ADDBC1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3A4-053C-435D-AB3E-DC41018F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7F5-4B2C-4E35-96DF-BF7736D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AD8-B1D5-45B6-B600-5BA8F91E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D8A-F6BA-4F6D-909B-A1FCE0EE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C83E-50A5-4562-BA0C-7C860535CE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A1AF-B9C4-46FE-A745-B192866C9F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allforchildren.ru/pictures/showimg/school1/school0101jpg.htm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-642960" y="0"/>
            <a:ext cx="978696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llforchildren.ru/pictures/school1_s/school01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1519200"/>
            <a:ext cx="640080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3,349+0,34=?     12,85+0,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Десятичные дроби"/>
          <p:cNvPicPr/>
          <p:nvPr/>
        </p:nvPicPr>
        <p:blipFill>
          <a:blip r:embed="rId1"/>
          <a:stretch/>
        </p:blipFill>
        <p:spPr>
          <a:xfrm>
            <a:off x="1143000" y="2286000"/>
            <a:ext cx="2786040" cy="2819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Десятичные дроби"/>
          <p:cNvPicPr/>
          <p:nvPr/>
        </p:nvPicPr>
        <p:blipFill>
          <a:blip r:embed="rId2"/>
          <a:stretch/>
        </p:blipFill>
        <p:spPr>
          <a:xfrm>
            <a:off x="4495680" y="2438280"/>
            <a:ext cx="2971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12204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помни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60093"/>
                </a:solidFill>
                <a:latin typeface="Arial"/>
              </a:rPr>
              <a:t>Чтобы сложить (вычесть) десятичные дроби, нужно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уравнять в этих дробях количество знаков после запято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подписать их друг под другом так, чтобы запятая была записана под запято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выполнить сложение (вычитание), не обращая внимания на запятую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поставить в ответе запятую под запятой в данных дроб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947760"/>
            <a:ext cx="6400800" cy="17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92" name="TextBox 4"/>
          <p:cNvSpPr/>
          <p:nvPr/>
        </p:nvSpPr>
        <p:spPr>
          <a:xfrm>
            <a:off x="1571760" y="1143000"/>
            <a:ext cx="67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2071800" y="642960"/>
            <a:ext cx="5715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1428840" y="92880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Н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а берегах рек лесов нашей области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живут бобры.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Найдите длину бобра в дециметрах. Поможет вам в этом удивительный квадрат.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87280" y="3068640"/>
          <a:ext cx="3214800" cy="2643120"/>
        </p:xfrm>
        <a:graphic>
          <a:graphicData uri="http://schemas.openxmlformats.org/drawingml/2006/table">
            <a:tbl>
              <a:tblPr/>
              <a:tblGrid>
                <a:gridCol w="1052640"/>
                <a:gridCol w="1081080"/>
                <a:gridCol w="1081080"/>
              </a:tblGrid>
              <a:tr h="88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5,9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6,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3,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2,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2,7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3,7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4,1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1,4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96" name="TextBox 9"/>
          <p:cNvSpPr/>
          <p:nvPr/>
        </p:nvSpPr>
        <p:spPr>
          <a:xfrm>
            <a:off x="4572000" y="2498760"/>
            <a:ext cx="408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Из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ервой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строки выберит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наименьшее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тор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троки выберит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ибольше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Из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тье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троки выберит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 наименьшее и н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ибольше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Найдит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умму трё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эт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Рамка 17"/>
          <p:cNvSpPr/>
          <p:nvPr/>
        </p:nvSpPr>
        <p:spPr>
          <a:xfrm>
            <a:off x="3419640" y="3141720"/>
            <a:ext cx="928440" cy="642960"/>
          </a:xfrm>
          <a:prstGeom prst="pie">
            <a:avLst/>
          </a:prstGeom>
          <a:solidFill>
            <a:srgbClr val="cccc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Рамка 18"/>
          <p:cNvSpPr/>
          <p:nvPr/>
        </p:nvSpPr>
        <p:spPr>
          <a:xfrm>
            <a:off x="2340000" y="4005360"/>
            <a:ext cx="928800" cy="642960"/>
          </a:xfrm>
          <a:prstGeom prst="pie">
            <a:avLst/>
          </a:prstGeom>
          <a:solidFill>
            <a:srgbClr val="cccc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Рамка 19"/>
          <p:cNvSpPr/>
          <p:nvPr/>
        </p:nvSpPr>
        <p:spPr>
          <a:xfrm>
            <a:off x="1258920" y="4869000"/>
            <a:ext cx="928800" cy="642960"/>
          </a:xfrm>
          <a:prstGeom prst="pie">
            <a:avLst/>
          </a:prstGeom>
          <a:solidFill>
            <a:srgbClr val="cccc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ятно 2 20"/>
          <p:cNvSpPr/>
          <p:nvPr/>
        </p:nvSpPr>
        <p:spPr>
          <a:xfrm>
            <a:off x="5292720" y="5300640"/>
            <a:ext cx="3214800" cy="928800"/>
          </a:xfrm>
          <a:prstGeom prst="irregularSeal2">
            <a:avLst/>
          </a:prstGeom>
          <a:solidFill>
            <a:srgbClr val="cccc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2209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669999"/>
                </a:solidFill>
                <a:uFillTx/>
                <a:latin typeface="Arial"/>
              </a:rPr>
              <a:t>Физминутка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00360" y="2636640"/>
            <a:ext cx="316872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Раз - присяд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Два - прыжо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Это заячья заряд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 лисята как проснуть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Любят долго потянуть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Обязательно зевну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Ну и хвостиком вильну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 волчата спинку выгну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 легонечко подпрыгну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Ну, а мишка косолап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Широко расставив лап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То одну, то обе вмес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Долго топчется на мес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ставь вопрос к задач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Саша и Алина посещают кружок в Доме детей и молодёжи. Они решили сделать две фигурки по принципу оригами.  Саше необходимо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18,5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см²  бумаги, а Алине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13,3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см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876920" y="3749760"/>
            <a:ext cx="3619440" cy="272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17114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Найди длину пятого и шестого стержня ферм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,2    1,8     2,4,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2215" b="3474"/>
          <a:stretch/>
        </p:blipFill>
        <p:spPr>
          <a:xfrm>
            <a:off x="1676520" y="2438280"/>
            <a:ext cx="58942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42,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№ 706 (д, е), 711(а, б, в), 72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2457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и задачу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роны треугольника равны 10,5 м; 6,23 м; 11,6 м. Чему равен периметр этого треугольн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15 приёмов супермаркетов - ЯПлакалъ"/>
          <p:cNvPicPr/>
          <p:nvPr/>
        </p:nvPicPr>
        <p:blipFill>
          <a:blip r:embed="rId1"/>
          <a:stretch/>
        </p:blipFill>
        <p:spPr>
          <a:xfrm>
            <a:off x="4648320" y="2209680"/>
            <a:ext cx="4095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00200" y="169560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Восстановите в записях запятые, чтобы данные равенства были верными: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57 + 23 = 8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8 + 103 = 903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34 + 28 = 314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13 – 3 = 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) 105 – 42 =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45720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6200" y="1547640"/>
            <a:ext cx="37162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М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ало им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хороший ум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лавно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хорошо е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именять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370" t="0" r="4680" b="0"/>
          <a:stretch/>
        </p:blipFill>
        <p:spPr>
          <a:xfrm>
            <a:off x="4952880" y="0"/>
            <a:ext cx="4246560" cy="6858000"/>
          </a:xfrm>
          <a:prstGeom prst="rect">
            <a:avLst/>
          </a:prstGeom>
          <a:ln w="104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45720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2920" y="1447920"/>
            <a:ext cx="41828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М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ало им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хороший ум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лавно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хорошо е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именять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3370" t="0" r="4680" b="0"/>
          <a:stretch/>
        </p:blipFill>
        <p:spPr>
          <a:xfrm>
            <a:off x="4952880" y="0"/>
            <a:ext cx="4246560" cy="6858000"/>
          </a:xfrm>
          <a:prstGeom prst="rect">
            <a:avLst/>
          </a:prstGeom>
          <a:ln w="104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Это интересно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14040" y="2362320"/>
            <a:ext cx="75438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робь 0,001 очень мала. Например 0,001с.  Но за это время земной шар перемещается вокруг Солнца на 30 м, звук в воздухе проходит 33м, а комар успевает за это время взмахнуть вверх и  вниз своими крылыш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3" descr="baby01.gif"/>
          <p:cNvPicPr/>
          <p:nvPr/>
        </p:nvPicPr>
        <p:blipFill>
          <a:blip r:embed="rId1"/>
          <a:stretch/>
        </p:blipFill>
        <p:spPr>
          <a:xfrm>
            <a:off x="285840" y="428760"/>
            <a:ext cx="1500120" cy="178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947760"/>
            <a:ext cx="6400800" cy="17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7"/>
          <p:cNvSpPr/>
          <p:nvPr/>
        </p:nvSpPr>
        <p:spPr>
          <a:xfrm>
            <a:off x="857160" y="714240"/>
            <a:ext cx="7572600" cy="5031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равнит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4,3**</a:t>
            </a:r>
            <a:r>
              <a:rPr b="0" lang="en-US" sz="5400" spc="-1" strike="noStrike">
                <a:solidFill>
                  <a:srgbClr val="f5fbff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4,7*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**, 412 </a:t>
            </a:r>
            <a:r>
              <a:rPr b="0" lang="en-US" sz="5400" spc="-1" strike="noStrike">
                <a:solidFill>
                  <a:srgbClr val="f5fbff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*,9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          </a:t>
            </a: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*,*** </a:t>
            </a:r>
            <a:r>
              <a:rPr b="0" lang="en-US" sz="5400" spc="-1" strike="noStrike">
                <a:solidFill>
                  <a:srgbClr val="f5fbff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**,*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оловина рамки 8"/>
          <p:cNvSpPr/>
          <p:nvPr/>
        </p:nvSpPr>
        <p:spPr>
          <a:xfrm rot="19231800">
            <a:off x="4551480" y="1676160"/>
            <a:ext cx="538200" cy="5760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овина рамки 9"/>
          <p:cNvSpPr/>
          <p:nvPr/>
        </p:nvSpPr>
        <p:spPr>
          <a:xfrm rot="8526600">
            <a:off x="4191840" y="2533320"/>
            <a:ext cx="538200" cy="57636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овина рамки 10"/>
          <p:cNvSpPr/>
          <p:nvPr/>
        </p:nvSpPr>
        <p:spPr>
          <a:xfrm rot="19231800">
            <a:off x="4479840" y="3319200"/>
            <a:ext cx="538200" cy="5760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Для поездки в г. Тверь заправим машину. Сколько руб. надо заплатить за 10 литров бензина Аи 95 ?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Какой бензин самый дорогой?  Какой дешёвый?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Фотографии Infiniti Essence Фотография #5 Фото Infiniti Essence"/>
          <p:cNvPicPr/>
          <p:nvPr/>
        </p:nvPicPr>
        <p:blipFill>
          <a:blip r:embed="rId1"/>
          <a:srcRect l="0" t="0" r="0" b="3849"/>
          <a:stretch/>
        </p:blipFill>
        <p:spPr>
          <a:xfrm>
            <a:off x="1219320" y="1981080"/>
            <a:ext cx="3365280" cy="2481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VIP минивэны или автомобили класса люкс [35 фото]"/>
          <p:cNvPicPr/>
          <p:nvPr/>
        </p:nvPicPr>
        <p:blipFill>
          <a:blip r:embed="rId2"/>
          <a:srcRect l="0" t="0" r="0" b="7091"/>
          <a:stretch/>
        </p:blipFill>
        <p:spPr>
          <a:xfrm>
            <a:off x="0" y="4724280"/>
            <a:ext cx="2851200" cy="1927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Hyundai Equus - автомобиль класса люкс (ФОТО)"/>
          <p:cNvPicPr/>
          <p:nvPr/>
        </p:nvPicPr>
        <p:blipFill>
          <a:blip r:embed="rId3"/>
          <a:stretch/>
        </p:blipFill>
        <p:spPr>
          <a:xfrm>
            <a:off x="2743200" y="4495680"/>
            <a:ext cx="2774880" cy="185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rcRect l="34367" t="12352" r="34367" b="24704"/>
          <a:stretch/>
        </p:blipFill>
        <p:spPr>
          <a:xfrm>
            <a:off x="5529240" y="1447920"/>
            <a:ext cx="339084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По дороги встречаются разные заправки. Придумай задачу, поставь вопрос по таблице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Цены на бензин продолжают расти &quot; Интернет-портал города Северска"/>
          <p:cNvPicPr/>
          <p:nvPr/>
        </p:nvPicPr>
        <p:blipFill>
          <a:blip r:embed="rId1"/>
          <a:srcRect l="0" t="11811" r="0" b="24213"/>
          <a:stretch/>
        </p:blipFill>
        <p:spPr>
          <a:xfrm>
            <a:off x="380880" y="1371600"/>
            <a:ext cx="830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числите длину АВ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9532" t="0" r="0" b="77607"/>
          <a:stretch/>
        </p:blipFill>
        <p:spPr>
          <a:xfrm>
            <a:off x="685800" y="1479600"/>
            <a:ext cx="70866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числите длину АВ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9532" t="66942" r="0" b="0"/>
          <a:stretch/>
        </p:blipFill>
        <p:spPr>
          <a:xfrm>
            <a:off x="1066680" y="1359000"/>
            <a:ext cx="64771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м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«Сложение и вычитание десятичных дробей».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от же ответ можно получить инач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4444" descr=""/>
          <p:cNvPicPr/>
          <p:nvPr/>
        </p:nvPicPr>
        <p:blipFill>
          <a:blip r:embed="rId1"/>
          <a:srcRect l="0" t="0" r="59080" b="0"/>
          <a:stretch/>
        </p:blipFill>
        <p:spPr>
          <a:xfrm>
            <a:off x="2209680" y="1592280"/>
            <a:ext cx="5639040" cy="1590480"/>
          </a:xfrm>
          <a:prstGeom prst="rect">
            <a:avLst/>
          </a:prstGeom>
          <a:ln w="0">
            <a:noFill/>
          </a:ln>
        </p:spPr>
      </p:pic>
      <p:pic>
        <p:nvPicPr>
          <p:cNvPr id="180" name="4444" descr=""/>
          <p:cNvPicPr/>
          <p:nvPr/>
        </p:nvPicPr>
        <p:blipFill>
          <a:blip r:embed="rId2"/>
          <a:srcRect l="60180" t="0" r="0" b="0"/>
          <a:stretch/>
        </p:blipFill>
        <p:spPr>
          <a:xfrm>
            <a:off x="2438280" y="3917880"/>
            <a:ext cx="5334120" cy="1563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60" y="356004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2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5-02-14T11:27:4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