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10B-8B05-4235-8966-E4C80D36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37D-CDBE-4175-B1A6-21DE5329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ED4-FAE6-4E23-A2D2-CD6974DE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92A-6370-47E4-A3C0-06F6B99A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E629-4A83-4336-B8CE-99314ACB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84C1-9279-4D42-88EF-B7B674B7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8CE1-D9D0-44A9-A03E-CCA448A5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792B-B4F4-4E75-86D9-D4CB4EB1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0303-F212-41C6-AF93-B00C7B79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1410-7DFE-4689-857F-2EB23D1E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82A9-383F-406C-A864-6AF5F464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409-69B0-46CB-AA47-78F9034C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261D-9CEE-4A18-840F-78AEA5E9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C499-264F-47CC-87FA-AD6E0F8C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71C6-C14A-4691-B5D4-6051B44C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35C4-D9B5-4312-8AEB-BFEF8D9D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1837-F4E0-46A2-9653-A21447B2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2FC-475C-4ED2-8D1B-2769F4C0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ED9-F828-4E0B-8E5D-A5F07ADE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3C76-7B7B-489A-889D-8CBD14F2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B22-4702-4F70-B162-03D5CA65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76D5-DF65-4214-ADAC-64840DBB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57E0-E06E-4A9C-A43C-E631FFF1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7D81-2475-4C4A-8771-3EC2EE97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4425-6E92-45E6-916B-A590296AD7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644F-3E31-4302-AD02-BF4E408984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9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20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17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18.xml"/><Relationship Id="rId5" Type="http://schemas.openxmlformats.org/officeDocument/2006/relationships/slide" Target="slide10.xml"/><Relationship Id="rId6" Type="http://schemas.openxmlformats.org/officeDocument/2006/relationships/slide" Target="slide9.xml"/><Relationship Id="rId7" Type="http://schemas.openxmlformats.org/officeDocument/2006/relationships/slide" Target="slide12.xml"/><Relationship Id="rId8" Type="http://schemas.openxmlformats.org/officeDocument/2006/relationships/slide" Target="slide11.xml"/><Relationship Id="rId9" Type="http://schemas.openxmlformats.org/officeDocument/2006/relationships/slide" Target="slide16.xml"/><Relationship Id="rId10" Type="http://schemas.openxmlformats.org/officeDocument/2006/relationships/slide" Target="slide14.xml"/><Relationship Id="rId11" Type="http://schemas.openxmlformats.org/officeDocument/2006/relationships/slide" Target="slide13.xml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9.xml"/><Relationship Id="rId11" Type="http://schemas.openxmlformats.org/officeDocument/2006/relationships/slide" Target="slide12.xml"/><Relationship Id="rId12" Type="http://schemas.openxmlformats.org/officeDocument/2006/relationships/slide" Target="slide11.xml"/><Relationship Id="rId13" Type="http://schemas.openxmlformats.org/officeDocument/2006/relationships/slide" Target="slide16.xml"/><Relationship Id="rId14" Type="http://schemas.openxmlformats.org/officeDocument/2006/relationships/slide" Target="slide14.xml"/><Relationship Id="rId15" Type="http://schemas.openxmlformats.org/officeDocument/2006/relationships/slide" Target="slide13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" Target="slide5.xm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Деловая игра «Аукцион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: Бухгалтерский бала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едиторская задолженность – это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АССИВЫ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6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411280" y="2852640"/>
            <a:ext cx="6732720" cy="4005360"/>
            <a:chOff x="2411280" y="2852640"/>
            <a:chExt cx="6732720" cy="4005360"/>
          </a:xfrm>
        </p:grpSpPr>
        <p:pic>
          <p:nvPicPr>
            <p:cNvPr id="197" name="" descr="&amp;Rcy;&amp;acy;&amp;bcy;&amp;ocy;&amp;tcy;&amp;ocy;&amp;dcy;&amp;acy;&amp;tcy;&amp;iecy;&amp;lcy;&amp;icy; &amp;zcy;&amp;acy;&amp;dcy;&amp;ocy;&amp;lcy;&amp;zhcy;&amp;acy;&amp;lcy;&amp;icy; &amp;kcy;&amp;acy;&amp;lcy;&amp;ucy;&amp;zhcy;&amp;acy;&amp;ncy;&amp;acy;&amp;mcy; 89 &amp;mcy;&amp;icy;&amp;lcy;&amp;lcy;&amp;icy;&amp;ocy;&amp;ncy;&amp;ocy;&amp;vcy; &amp;rcy;&amp;ucy;&amp;bcy;&amp;lcy;&amp;iecy;&amp;jcy;"/>
            <p:cNvPicPr/>
            <p:nvPr/>
          </p:nvPicPr>
          <p:blipFill>
            <a:blip r:embed="rId2"/>
            <a:stretch/>
          </p:blipFill>
          <p:spPr>
            <a:xfrm>
              <a:off x="5543640" y="4157640"/>
              <a:ext cx="3600360" cy="27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411280" y="2852640"/>
              <a:ext cx="655344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spcBef>
                  <a:spcPts val="799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66ff"/>
                  </a:solidFill>
                  <a:latin typeface="Arial"/>
                </a:rPr>
                <a:t>Кредиторская задолженность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– это долг подлежащий оплат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>
            <a:hlinkClick r:id="rId3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01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перации, не влияющие на валюту баланса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Определите тип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лучены денежные средства с расчетного счета в кассу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908000" y="3500280"/>
            <a:ext cx="7236000" cy="3357720"/>
            <a:chOff x="1908000" y="3500280"/>
            <a:chExt cx="7236000" cy="3357720"/>
          </a:xfrm>
        </p:grpSpPr>
        <p:pic>
          <p:nvPicPr>
            <p:cNvPr id="206" name="" descr="Картинки по запросу расчетный счет организации картинки"/>
            <p:cNvPicPr/>
            <p:nvPr/>
          </p:nvPicPr>
          <p:blipFill>
            <a:blip r:embed="rId2"/>
            <a:stretch/>
          </p:blipFill>
          <p:spPr>
            <a:xfrm>
              <a:off x="1908000" y="4414680"/>
              <a:ext cx="3060720" cy="244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7" name=""/>
            <p:cNvGrpSpPr/>
            <p:nvPr/>
          </p:nvGrpSpPr>
          <p:grpSpPr>
            <a:xfrm>
              <a:off x="3780000" y="3500280"/>
              <a:ext cx="5364000" cy="3157560"/>
              <a:chOff x="3780000" y="3500280"/>
              <a:chExt cx="5364000" cy="3157560"/>
            </a:xfrm>
          </p:grpSpPr>
          <p:sp>
            <p:nvSpPr>
              <p:cNvPr id="208" name=""/>
              <p:cNvSpPr/>
              <p:nvPr/>
            </p:nvSpPr>
            <p:spPr>
              <a:xfrm>
                <a:off x="5867280" y="3500280"/>
                <a:ext cx="119700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660066"/>
                    </a:solidFill>
                    <a:latin typeface="Arial"/>
                  </a:rPr>
                  <a:t>I</a:t>
                </a:r>
                <a:r>
                  <a:rPr b="0" lang="ru-RU" sz="3200" spc="-1" strike="noStrike">
                    <a:solidFill>
                      <a:srgbClr val="660066"/>
                    </a:solidFill>
                    <a:latin typeface="Arial"/>
                  </a:rPr>
                  <a:t> тип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587920" y="4653000"/>
                <a:ext cx="3556080" cy="200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3780000" y="4005360"/>
                <a:ext cx="2808000" cy="647640"/>
              </a:xfrm>
              <a:custGeom>
                <a:avLst/>
                <a:gdLst>
                  <a:gd name="textAreaLeft" fmla="*/ 491400 w 2808000"/>
                  <a:gd name="textAreaRight" fmla="*/ 2035800 w 2808000"/>
                  <a:gd name="textAreaTop" fmla="*/ 86760 h 647640"/>
                  <a:gd name="textAreaBottom" fmla="*/ 5608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">
            <a:hlinkClick r:id="rId4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13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Определите тип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 счет нераспределенной прибыли сформирован резервный капи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перации, не влияющие на валюту баланса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7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484360" y="3716280"/>
            <a:ext cx="6480360" cy="3141720"/>
            <a:chOff x="2484360" y="3716280"/>
            <a:chExt cx="6480360" cy="3141720"/>
          </a:xfrm>
        </p:grpSpPr>
        <p:pic>
          <p:nvPicPr>
            <p:cNvPr id="218" name="" descr="Картинки по запросу прибыль картинки"/>
            <p:cNvPicPr/>
            <p:nvPr/>
          </p:nvPicPr>
          <p:blipFill>
            <a:blip r:embed="rId2"/>
            <a:stretch/>
          </p:blipFill>
          <p:spPr>
            <a:xfrm>
              <a:off x="2627280" y="4352760"/>
              <a:ext cx="1828800" cy="25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Картинки по запросу прибыль картинки"/>
            <p:cNvPicPr/>
            <p:nvPr/>
          </p:nvPicPr>
          <p:blipFill>
            <a:blip r:embed="rId3"/>
            <a:stretch/>
          </p:blipFill>
          <p:spPr>
            <a:xfrm>
              <a:off x="6877080" y="5473800"/>
              <a:ext cx="97776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484360" y="3716280"/>
              <a:ext cx="32130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Нераспределенная прибы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67280" y="4797360"/>
              <a:ext cx="309744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Резервный капит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32720" y="3860640"/>
              <a:ext cx="12697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II</a:t>
              </a:r>
              <a:r>
                <a:rPr b="0" lang="ru-RU" sz="3200" spc="-1" strike="noStrike">
                  <a:solidFill>
                    <a:srgbClr val="660066"/>
                  </a:solidFill>
                  <a:latin typeface="Arial"/>
                </a:rPr>
                <a:t> ти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089600">
              <a:off x="4284720" y="5157720"/>
              <a:ext cx="2201760" cy="486000"/>
            </a:xfrm>
            <a:prstGeom prst="rightArrow">
              <a:avLst>
                <a:gd name="adj1" fmla="val 50000"/>
                <a:gd name="adj2" fmla="val 113259"/>
              </a:avLst>
            </a:prstGeom>
            <a:gradFill rotWithShape="0">
              <a:gsLst>
                <a:gs pos="0">
                  <a:srgbClr val="c58bf9"/>
                </a:gs>
                <a:gs pos="100000">
                  <a:srgbClr val="ecdafc"/>
                </a:gs>
              </a:gsLst>
              <a:lin ang="4308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>
            <a:hlinkClick r:id="rId4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26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перации, влияющие на валюту баланса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4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Определите тип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числены на расчетный счет аванс от покупателей, под поставку прод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908000" y="3789360"/>
            <a:ext cx="6834240" cy="3068640"/>
            <a:chOff x="1908000" y="3789360"/>
            <a:chExt cx="6834240" cy="3068640"/>
          </a:xfrm>
        </p:grpSpPr>
        <p:pic>
          <p:nvPicPr>
            <p:cNvPr id="231" name="" descr="Картинки по запросу расчетный счет организации картинки"/>
            <p:cNvPicPr/>
            <p:nvPr/>
          </p:nvPicPr>
          <p:blipFill>
            <a:blip r:embed="rId2"/>
            <a:stretch/>
          </p:blipFill>
          <p:spPr>
            <a:xfrm>
              <a:off x="1908000" y="4414680"/>
              <a:ext cx="3060720" cy="244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"/>
            <p:cNvGrpSpPr/>
            <p:nvPr/>
          </p:nvGrpSpPr>
          <p:grpSpPr>
            <a:xfrm>
              <a:off x="2627280" y="3789360"/>
              <a:ext cx="6114960" cy="2909880"/>
              <a:chOff x="2627280" y="3789360"/>
              <a:chExt cx="6114960" cy="2909880"/>
            </a:xfrm>
          </p:grpSpPr>
          <p:sp>
            <p:nvSpPr>
              <p:cNvPr id="233" name=""/>
              <p:cNvSpPr/>
              <p:nvPr/>
            </p:nvSpPr>
            <p:spPr>
              <a:xfrm>
                <a:off x="2627280" y="3789360"/>
                <a:ext cx="12700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660066"/>
                    </a:solidFill>
                    <a:latin typeface="Arial"/>
                  </a:rPr>
                  <a:t>III</a:t>
                </a:r>
                <a:r>
                  <a:rPr b="0" lang="ru-RU" sz="3200" spc="-1" strike="noStrike">
                    <a:solidFill>
                      <a:srgbClr val="660066"/>
                    </a:solidFill>
                    <a:latin typeface="Arial"/>
                  </a:rPr>
                  <a:t> тип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" name="" descr=""/>
              <p:cNvPicPr/>
              <p:nvPr/>
            </p:nvPicPr>
            <p:blipFill>
              <a:blip r:embed="rId3"/>
              <a:srcRect l="17876" t="0" r="0" b="0"/>
              <a:stretch/>
            </p:blipFill>
            <p:spPr>
              <a:xfrm>
                <a:off x="5508720" y="4508640"/>
                <a:ext cx="3233520" cy="21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"/>
              <p:cNvSpPr/>
              <p:nvPr/>
            </p:nvSpPr>
            <p:spPr>
              <a:xfrm rot="5400000">
                <a:off x="4423680" y="3290040"/>
                <a:ext cx="1008000" cy="2295360"/>
              </a:xfrm>
              <a:custGeom>
                <a:avLst/>
                <a:gdLst>
                  <a:gd name="textAreaLeft" fmla="*/ 135000 w 1008000"/>
                  <a:gd name="textAreaRight" fmla="*/ 873000 w 1008000"/>
                  <a:gd name="textAreaTop" fmla="*/ 401400 h 2295360"/>
                  <a:gd name="textAreaBottom" fmla="*/ 1664280 h 2295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">
            <a:hlinkClick r:id="rId4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38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перации, влияющие на валюту баланса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8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Определите тип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еречислено с расчетного счета поставщикам за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908000" y="3276720"/>
            <a:ext cx="6936120" cy="3581280"/>
            <a:chOff x="1908000" y="3276720"/>
            <a:chExt cx="6936120" cy="3581280"/>
          </a:xfrm>
        </p:grpSpPr>
        <p:pic>
          <p:nvPicPr>
            <p:cNvPr id="243" name="" descr="Картинки по запросу расчетный счет организации картинки"/>
            <p:cNvPicPr/>
            <p:nvPr/>
          </p:nvPicPr>
          <p:blipFill>
            <a:blip r:embed="rId2"/>
            <a:stretch/>
          </p:blipFill>
          <p:spPr>
            <a:xfrm>
              <a:off x="1908000" y="4414680"/>
              <a:ext cx="3060720" cy="24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867280" y="3500280"/>
              <a:ext cx="144144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IV</a:t>
              </a:r>
              <a:r>
                <a:rPr b="0" lang="ru-RU" sz="3200" spc="-1" strike="noStrike">
                  <a:solidFill>
                    <a:srgbClr val="660066"/>
                  </a:solidFill>
                  <a:latin typeface="Arial"/>
                </a:rPr>
                <a:t> ти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5796000" y="4365720"/>
              <a:ext cx="304812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780000" y="4005360"/>
              <a:ext cx="2808000" cy="647640"/>
            </a:xfrm>
            <a:custGeom>
              <a:avLst/>
              <a:gdLst>
                <a:gd name="textAreaLeft" fmla="*/ 491400 w 2808000"/>
                <a:gd name="textAreaRight" fmla="*/ 2035800 w 2808000"/>
                <a:gd name="textAreaTop" fmla="*/ 86760 h 647640"/>
                <a:gd name="textAreaBottom" fmla="*/ 560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>
            <a:hlinkClick r:id="rId4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49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>
            <a:hlinkClick r:id="rId2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Операции, влияющие на валюту баланса – </a:t>
            </a:r>
            <a:r>
              <a:rPr b="0" lang="ru-RU" sz="3600" spc="-1" strike="noStrike">
                <a:solidFill>
                  <a:srgbClr val="9966ff"/>
                </a:solidFill>
                <a:latin typeface="Arial"/>
              </a:rPr>
              <a:t>ЛОТ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Определите тип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ыдана из кассы заработная плата работникам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195640" y="3500280"/>
            <a:ext cx="6804000" cy="3232440"/>
            <a:chOff x="2195640" y="3500280"/>
            <a:chExt cx="6804000" cy="3232440"/>
          </a:xfrm>
        </p:grpSpPr>
        <p:sp>
          <p:nvSpPr>
            <p:cNvPr id="255" name=""/>
            <p:cNvSpPr/>
            <p:nvPr/>
          </p:nvSpPr>
          <p:spPr>
            <a:xfrm>
              <a:off x="5867280" y="3500280"/>
              <a:ext cx="144144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IV</a:t>
              </a:r>
              <a:r>
                <a:rPr b="0" lang="ru-RU" sz="3200" spc="-1" strike="noStrike">
                  <a:solidFill>
                    <a:srgbClr val="660066"/>
                  </a:solidFill>
                  <a:latin typeface="Arial"/>
                </a:rPr>
                <a:t> ти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2195640" y="4724280"/>
              <a:ext cx="2808000" cy="20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780000" y="4005360"/>
              <a:ext cx="2808000" cy="647640"/>
            </a:xfrm>
            <a:custGeom>
              <a:avLst/>
              <a:gdLst>
                <a:gd name="textAreaLeft" fmla="*/ 491400 w 2808000"/>
                <a:gd name="textAreaRight" fmla="*/ 2035800 w 2808000"/>
                <a:gd name="textAreaTop" fmla="*/ 86760 h 647640"/>
                <a:gd name="textAreaBottom" fmla="*/ 560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" descr="Картинки по запросу выдача заработной платы картинки"/>
            <p:cNvPicPr/>
            <p:nvPr/>
          </p:nvPicPr>
          <p:blipFill>
            <a:blip r:embed="rId4"/>
            <a:stretch/>
          </p:blipFill>
          <p:spPr>
            <a:xfrm>
              <a:off x="5219640" y="4724280"/>
              <a:ext cx="3780000" cy="200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60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ТРЕТИЙ ТУР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484360" y="1628640"/>
            <a:ext cx="6372360" cy="2841120"/>
            <a:chOff x="2484360" y="1628640"/>
            <a:chExt cx="6372360" cy="2841120"/>
          </a:xfrm>
        </p:grpSpPr>
        <p:sp>
          <p:nvSpPr>
            <p:cNvPr id="264" name=""/>
            <p:cNvSpPr/>
            <p:nvPr/>
          </p:nvSpPr>
          <p:spPr>
            <a:xfrm>
              <a:off x="2484360" y="1628640"/>
              <a:ext cx="1368360" cy="7642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2" action="ppaction://hlinksldjump"/>
                </a:rPr>
                <a:t>ЛОТ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84360" y="2621880"/>
              <a:ext cx="1368360" cy="7646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3" action="ppaction://hlinksldjump"/>
                </a:rPr>
                <a:t>ЛОТ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41800" y="3705120"/>
              <a:ext cx="1368360" cy="7646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4" action="ppaction://hlinksldjump"/>
                </a:rPr>
                <a:t>ЛОТ 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41800" y="2621880"/>
              <a:ext cx="1368360" cy="7646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5" action="ppaction://hlinksldjump"/>
                </a:rPr>
                <a:t>ЛОТ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41800" y="1628640"/>
              <a:ext cx="1368360" cy="7642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6" action="ppaction://hlinksldjump"/>
                </a:rPr>
                <a:t>ЛОТ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7440" y="2621880"/>
              <a:ext cx="1440000" cy="7646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7" action="ppaction://hlinksldjump"/>
                </a:rPr>
                <a:t>ЛОТ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97440" y="1628640"/>
              <a:ext cx="1440000" cy="7642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8" action="ppaction://hlinksldjump"/>
                </a:rPr>
                <a:t>ЛОТ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97440" y="3705120"/>
              <a:ext cx="1440000" cy="7646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9" action="ppaction://hlinksldjump"/>
                </a:rPr>
                <a:t>ЛОТ 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24720" y="2621880"/>
              <a:ext cx="1332000" cy="7646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0" action="ppaction://hlinksldjump"/>
                </a:rPr>
                <a:t>ЛОТ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24720" y="1628640"/>
              <a:ext cx="1332000" cy="7642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1" action="ppaction://hlinksldjump"/>
                </a:rPr>
                <a:t>ЛОТ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340000" y="981000"/>
            <a:ext cx="64008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кой части баланса отражается Кредиторская задолжен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843280" y="2852640"/>
            <a:ext cx="5788080" cy="3816360"/>
            <a:chOff x="2843280" y="2852640"/>
            <a:chExt cx="5788080" cy="3816360"/>
          </a:xfrm>
        </p:grpSpPr>
        <p:pic>
          <p:nvPicPr>
            <p:cNvPr id="278" name="" descr=""/>
            <p:cNvPicPr/>
            <p:nvPr/>
          </p:nvPicPr>
          <p:blipFill>
            <a:blip r:embed="rId2"/>
            <a:srcRect l="10744" t="9070" r="30715" b="18494"/>
            <a:stretch/>
          </p:blipFill>
          <p:spPr>
            <a:xfrm>
              <a:off x="2843280" y="3573360"/>
              <a:ext cx="5788080" cy="30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3276720" y="3789360"/>
              <a:ext cx="2592360" cy="503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3640" y="6165720"/>
              <a:ext cx="2592360" cy="503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43280" y="2852640"/>
              <a:ext cx="22780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ПАССИ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84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ком разделе АКТИВА баланса отражается стоимость МП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340000" y="3357720"/>
            <a:ext cx="6696000" cy="3311280"/>
            <a:chOff x="2340000" y="3357720"/>
            <a:chExt cx="6696000" cy="3311280"/>
          </a:xfrm>
        </p:grpSpPr>
        <p:sp>
          <p:nvSpPr>
            <p:cNvPr id="289" name=""/>
            <p:cNvSpPr/>
            <p:nvPr/>
          </p:nvSpPr>
          <p:spPr>
            <a:xfrm>
              <a:off x="2340000" y="3357720"/>
              <a:ext cx="64008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660066"/>
                  </a:solidFill>
                  <a:latin typeface="Arial"/>
                </a:rPr>
                <a:t>РАЗДЕЛ </a:t>
              </a: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II</a:t>
              </a:r>
              <a:r>
                <a:rPr b="0" lang="ru-RU" sz="3200" spc="-1" strike="noStrike">
                  <a:solidFill>
                    <a:srgbClr val="660066"/>
                  </a:solidFill>
                  <a:latin typeface="Arial"/>
                </a:rPr>
                <a:t>. Оборотные актив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0" name="" descr=""/>
            <p:cNvPicPr/>
            <p:nvPr/>
          </p:nvPicPr>
          <p:blipFill>
            <a:blip r:embed="rId2"/>
            <a:srcRect l="9183" t="55601" r="39360" b="18713"/>
            <a:stretch/>
          </p:blipFill>
          <p:spPr>
            <a:xfrm>
              <a:off x="2538360" y="4149720"/>
              <a:ext cx="649764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843280" y="4437000"/>
              <a:ext cx="2857320" cy="486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94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484360" y="1125000"/>
            <a:ext cx="64008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Определить объект учета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долженность покупателя за отгруженную ему продук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411280" y="3141720"/>
            <a:ext cx="6553440" cy="3716280"/>
            <a:chOff x="2411280" y="3141720"/>
            <a:chExt cx="6553440" cy="3716280"/>
          </a:xfrm>
        </p:grpSpPr>
        <p:sp>
          <p:nvSpPr>
            <p:cNvPr id="299" name=""/>
            <p:cNvSpPr/>
            <p:nvPr/>
          </p:nvSpPr>
          <p:spPr>
            <a:xfrm>
              <a:off x="2411280" y="3141720"/>
              <a:ext cx="655344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90000"/>
                </a:lnSpc>
                <a:spcBef>
                  <a:spcPts val="799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66ff"/>
                  </a:solidFill>
                  <a:latin typeface="Arial"/>
                </a:rPr>
                <a:t>Дебиторская задолженность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– это сумма долгов, причитающаяся предприяти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" descr="Картинки по запросу дебиторская задолженность картинки"/>
            <p:cNvPicPr/>
            <p:nvPr/>
          </p:nvPicPr>
          <p:blipFill>
            <a:blip r:embed="rId2"/>
            <a:stretch/>
          </p:blipFill>
          <p:spPr>
            <a:xfrm>
              <a:off x="3635280" y="4565520"/>
              <a:ext cx="3033720" cy="229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03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Условия игр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195640" y="1327320"/>
            <a:ext cx="3123720" cy="3901320"/>
            <a:chOff x="2195640" y="1327320"/>
            <a:chExt cx="3123720" cy="3901320"/>
          </a:xfrm>
        </p:grpSpPr>
        <p:cxnSp>
          <p:nvCxnSpPr>
            <p:cNvPr id="90" name="_s9238"/>
            <p:cNvCxnSpPr>
              <a:stCxn id="91" idx="1"/>
              <a:endCxn id="92" idx="2"/>
            </p:cNvCxnSpPr>
            <p:nvPr/>
          </p:nvCxnSpPr>
          <p:spPr>
            <a:xfrm rot="10800000">
              <a:off x="3132000" y="2035800"/>
              <a:ext cx="312840" cy="283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9237"/>
            <p:cNvCxnSpPr>
              <a:stCxn id="94" idx="1"/>
              <a:endCxn id="92" idx="2"/>
            </p:cNvCxnSpPr>
            <p:nvPr/>
          </p:nvCxnSpPr>
          <p:spPr>
            <a:xfrm rot="10800000">
              <a:off x="3132000" y="2035800"/>
              <a:ext cx="312840" cy="177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9236"/>
            <p:cNvCxnSpPr>
              <a:stCxn id="96" idx="1"/>
              <a:endCxn id="92" idx="2"/>
            </p:cNvCxnSpPr>
            <p:nvPr/>
          </p:nvCxnSpPr>
          <p:spPr>
            <a:xfrm rot="10800000">
              <a:off x="3132000" y="2035800"/>
              <a:ext cx="312840" cy="70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9232"/>
            <p:cNvSpPr/>
            <p:nvPr/>
          </p:nvSpPr>
          <p:spPr>
            <a:xfrm>
              <a:off x="2195640" y="1327320"/>
              <a:ext cx="1874160" cy="7092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Коммерческ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фирм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9233"/>
            <p:cNvSpPr/>
            <p:nvPr/>
          </p:nvSpPr>
          <p:spPr>
            <a:xfrm>
              <a:off x="3445200" y="2391120"/>
              <a:ext cx="1874160" cy="7092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ОО «Альфа»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9234"/>
            <p:cNvSpPr/>
            <p:nvPr/>
          </p:nvSpPr>
          <p:spPr>
            <a:xfrm>
              <a:off x="3445200" y="3455280"/>
              <a:ext cx="1874160" cy="7092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ОО «Бета»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9235"/>
            <p:cNvSpPr/>
            <p:nvPr/>
          </p:nvSpPr>
          <p:spPr>
            <a:xfrm>
              <a:off x="3445200" y="4519440"/>
              <a:ext cx="1874160" cy="7092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ОО «Гамма»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084720" y="1268280"/>
            <a:ext cx="2879280" cy="3960360"/>
            <a:chOff x="6084720" y="1268280"/>
            <a:chExt cx="2879280" cy="3960360"/>
          </a:xfrm>
        </p:grpSpPr>
        <p:cxnSp>
          <p:nvCxnSpPr>
            <p:cNvPr id="98" name="_s9250"/>
            <p:cNvCxnSpPr>
              <a:stCxn id="99" idx="3"/>
              <a:endCxn id="100" idx="2"/>
            </p:cNvCxnSpPr>
            <p:nvPr/>
          </p:nvCxnSpPr>
          <p:spPr>
            <a:xfrm flipV="1">
              <a:off x="7812000" y="1987920"/>
              <a:ext cx="288360" cy="2880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9249"/>
            <p:cNvCxnSpPr>
              <a:stCxn id="102" idx="3"/>
              <a:endCxn id="100" idx="2"/>
            </p:cNvCxnSpPr>
            <p:nvPr/>
          </p:nvCxnSpPr>
          <p:spPr>
            <a:xfrm flipV="1">
              <a:off x="7812000" y="1987560"/>
              <a:ext cx="288360" cy="1801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9248"/>
            <p:cNvCxnSpPr>
              <a:stCxn id="104" idx="3"/>
              <a:endCxn id="100" idx="2"/>
            </p:cNvCxnSpPr>
            <p:nvPr/>
          </p:nvCxnSpPr>
          <p:spPr>
            <a:xfrm flipV="1">
              <a:off x="7812000" y="1987920"/>
              <a:ext cx="288360" cy="720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0" name="_s9244"/>
            <p:cNvSpPr/>
            <p:nvPr/>
          </p:nvSpPr>
          <p:spPr>
            <a:xfrm>
              <a:off x="7236360" y="1268280"/>
              <a:ext cx="1727640" cy="7200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Дочерние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фирм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9245"/>
            <p:cNvSpPr/>
            <p:nvPr/>
          </p:nvSpPr>
          <p:spPr>
            <a:xfrm>
              <a:off x="6084720" y="2348280"/>
              <a:ext cx="1727640" cy="7200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ООО «Альфа +»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9246"/>
            <p:cNvSpPr/>
            <p:nvPr/>
          </p:nvSpPr>
          <p:spPr>
            <a:xfrm>
              <a:off x="6084720" y="3428640"/>
              <a:ext cx="1727640" cy="7200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ООО «Бета +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9247"/>
            <p:cNvSpPr/>
            <p:nvPr/>
          </p:nvSpPr>
          <p:spPr>
            <a:xfrm>
              <a:off x="6084720" y="4508640"/>
              <a:ext cx="1727640" cy="7200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ООО «Гамма +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268360" y="5373720"/>
            <a:ext cx="31244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хгал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сс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5373720"/>
            <a:ext cx="2160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уди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5373720"/>
            <a:ext cx="2160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нк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остав какого объекта учета, в балансе,  входит готовая продук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4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340000" y="3357720"/>
            <a:ext cx="6696000" cy="3311280"/>
            <a:chOff x="2340000" y="3357720"/>
            <a:chExt cx="6696000" cy="3311280"/>
          </a:xfrm>
        </p:grpSpPr>
        <p:sp>
          <p:nvSpPr>
            <p:cNvPr id="308" name=""/>
            <p:cNvSpPr/>
            <p:nvPr/>
          </p:nvSpPr>
          <p:spPr>
            <a:xfrm>
              <a:off x="2340000" y="3357720"/>
              <a:ext cx="64008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ЗАПАС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2"/>
            <a:srcRect l="9183" t="55601" r="39360" b="18713"/>
            <a:stretch/>
          </p:blipFill>
          <p:spPr>
            <a:xfrm>
              <a:off x="2538360" y="4149720"/>
              <a:ext cx="649764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2843280" y="4437000"/>
              <a:ext cx="2857320" cy="486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13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411280" y="1125000"/>
            <a:ext cx="640080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кой части баланса отражают размер Дебиторской задолжен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5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556000" y="2781360"/>
            <a:ext cx="6263640" cy="4076640"/>
            <a:chOff x="2556000" y="2781360"/>
            <a:chExt cx="6263640" cy="4076640"/>
          </a:xfrm>
        </p:grpSpPr>
        <p:sp>
          <p:nvSpPr>
            <p:cNvPr id="318" name=""/>
            <p:cNvSpPr/>
            <p:nvPr/>
          </p:nvSpPr>
          <p:spPr>
            <a:xfrm>
              <a:off x="4802400" y="2781360"/>
              <a:ext cx="19760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АКТИ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2"/>
            <a:srcRect l="10830" t="9262" r="31243" b="28297"/>
            <a:stretch/>
          </p:blipFill>
          <p:spPr>
            <a:xfrm>
              <a:off x="2715120" y="3429000"/>
              <a:ext cx="6104520" cy="33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556000" y="3645000"/>
              <a:ext cx="4331880" cy="503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5200" y="6354720"/>
              <a:ext cx="4332240" cy="503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24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484360" y="1125360"/>
            <a:ext cx="6400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ком разделе ПАССИВА баланса отражается кредит сроком на 5 л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6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843280" y="2852640"/>
            <a:ext cx="5905440" cy="3814920"/>
            <a:chOff x="2843280" y="2852640"/>
            <a:chExt cx="5905440" cy="3814920"/>
          </a:xfrm>
        </p:grpSpPr>
        <p:pic>
          <p:nvPicPr>
            <p:cNvPr id="329" name="" descr=""/>
            <p:cNvPicPr/>
            <p:nvPr/>
          </p:nvPicPr>
          <p:blipFill>
            <a:blip r:embed="rId2"/>
            <a:srcRect l="10744" t="9070" r="30715" b="18494"/>
            <a:stretch/>
          </p:blipFill>
          <p:spPr>
            <a:xfrm>
              <a:off x="2843280" y="3573360"/>
              <a:ext cx="5788080" cy="30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276720" y="3789360"/>
              <a:ext cx="2592360" cy="503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03640" y="5300640"/>
              <a:ext cx="2592360" cy="503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16360" y="2852640"/>
              <a:ext cx="58323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Долгосрочные обязательст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35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2411280" y="1052640"/>
            <a:ext cx="64008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Определить объект учета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числена заработная плата работникам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7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411280" y="2852640"/>
            <a:ext cx="6732720" cy="4005360"/>
            <a:chOff x="2411280" y="2852640"/>
            <a:chExt cx="6732720" cy="4005360"/>
          </a:xfrm>
        </p:grpSpPr>
        <p:pic>
          <p:nvPicPr>
            <p:cNvPr id="340" name="" descr="&amp;Rcy;&amp;acy;&amp;bcy;&amp;ocy;&amp;tcy;&amp;ocy;&amp;dcy;&amp;acy;&amp;tcy;&amp;iecy;&amp;lcy;&amp;icy; &amp;zcy;&amp;acy;&amp;dcy;&amp;ocy;&amp;lcy;&amp;zhcy;&amp;acy;&amp;lcy;&amp;icy; &amp;kcy;&amp;acy;&amp;lcy;&amp;ucy;&amp;zhcy;&amp;acy;&amp;ncy;&amp;acy;&amp;mcy; 89 &amp;mcy;&amp;icy;&amp;lcy;&amp;lcy;&amp;icy;&amp;ocy;&amp;ncy;&amp;ocy;&amp;vcy; &amp;rcy;&amp;ucy;&amp;bcy;&amp;lcy;&amp;iecy;&amp;jcy;"/>
            <p:cNvPicPr/>
            <p:nvPr/>
          </p:nvPicPr>
          <p:blipFill>
            <a:blip r:embed="rId2"/>
            <a:stretch/>
          </p:blipFill>
          <p:spPr>
            <a:xfrm>
              <a:off x="5543640" y="4157640"/>
              <a:ext cx="3600360" cy="27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2411280" y="2852640"/>
              <a:ext cx="655344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spcBef>
                  <a:spcPts val="799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66ff"/>
                  </a:solidFill>
                  <a:latin typeface="Arial"/>
                </a:rPr>
                <a:t>Кредиторская задолженность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– это долг подлежащий оплат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44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2484360" y="1196640"/>
            <a:ext cx="64008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остав какого объекта учета входят наличные деньги в кассе предприя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8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195640" y="3429000"/>
            <a:ext cx="6948360" cy="3024360"/>
            <a:chOff x="2195640" y="3429000"/>
            <a:chExt cx="6948360" cy="302436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rcRect l="10830" t="56614" r="31254" b="18159"/>
            <a:stretch/>
          </p:blipFill>
          <p:spPr>
            <a:xfrm>
              <a:off x="2195640" y="4149720"/>
              <a:ext cx="6948360" cy="23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2411280" y="5877000"/>
              <a:ext cx="3961080" cy="5540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35280" y="3429000"/>
              <a:ext cx="41497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Денежные средст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54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2484360" y="980640"/>
            <a:ext cx="64008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кой части баланса отражаются расходы на капитальное строитель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9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484360" y="2781360"/>
            <a:ext cx="6335640" cy="3816360"/>
            <a:chOff x="2484360" y="2781360"/>
            <a:chExt cx="6335640" cy="3816360"/>
          </a:xfrm>
        </p:grpSpPr>
        <p:sp>
          <p:nvSpPr>
            <p:cNvPr id="359" name=""/>
            <p:cNvSpPr/>
            <p:nvPr/>
          </p:nvSpPr>
          <p:spPr>
            <a:xfrm>
              <a:off x="4802040" y="2781360"/>
              <a:ext cx="19767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АКТИ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" descr=""/>
            <p:cNvPicPr/>
            <p:nvPr/>
          </p:nvPicPr>
          <p:blipFill>
            <a:blip r:embed="rId2"/>
            <a:srcRect l="10830" t="9262" r="31243" b="44759"/>
            <a:stretch/>
          </p:blipFill>
          <p:spPr>
            <a:xfrm>
              <a:off x="2714760" y="3429000"/>
              <a:ext cx="610524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2556000" y="3645000"/>
              <a:ext cx="4332240" cy="503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84360" y="6093000"/>
              <a:ext cx="4332240" cy="431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65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1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остав какого объекта учета, в балансе,  входят расходы будущих период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340000" y="3357720"/>
            <a:ext cx="6696000" cy="3311280"/>
            <a:chOff x="2340000" y="3357720"/>
            <a:chExt cx="6696000" cy="3311280"/>
          </a:xfrm>
        </p:grpSpPr>
        <p:sp>
          <p:nvSpPr>
            <p:cNvPr id="370" name=""/>
            <p:cNvSpPr/>
            <p:nvPr/>
          </p:nvSpPr>
          <p:spPr>
            <a:xfrm>
              <a:off x="2340000" y="3357720"/>
              <a:ext cx="64008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ЗАПАС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1" name="" descr=""/>
            <p:cNvPicPr/>
            <p:nvPr/>
          </p:nvPicPr>
          <p:blipFill>
            <a:blip r:embed="rId2"/>
            <a:srcRect l="9183" t="55601" r="39360" b="18713"/>
            <a:stretch/>
          </p:blipFill>
          <p:spPr>
            <a:xfrm>
              <a:off x="2538360" y="4149720"/>
              <a:ext cx="649764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843280" y="4437000"/>
              <a:ext cx="2857320" cy="486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75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АУКЦИОН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590920" y="1341360"/>
            <a:ext cx="6552720" cy="3602160"/>
            <a:chOff x="2590920" y="1341360"/>
            <a:chExt cx="6552720" cy="3602160"/>
          </a:xfrm>
        </p:grpSpPr>
        <p:sp>
          <p:nvSpPr>
            <p:cNvPr id="110" name=""/>
            <p:cNvSpPr/>
            <p:nvPr/>
          </p:nvSpPr>
          <p:spPr>
            <a:xfrm>
              <a:off x="4967280" y="1341360"/>
              <a:ext cx="2304720" cy="936720"/>
            </a:xfrm>
            <a:prstGeom prst="rightArrowCallout">
              <a:avLst>
                <a:gd name="adj1" fmla="val 25002"/>
                <a:gd name="adj2" fmla="val 25000"/>
                <a:gd name="adj3" fmla="val 41007"/>
                <a:gd name="adj4" fmla="val 66667"/>
              </a:avLst>
            </a:prstGeom>
            <a:gradFill rotWithShape="0">
              <a:gsLst>
                <a:gs pos="0">
                  <a:srgbClr val="c58bf9"/>
                </a:gs>
                <a:gs pos="100000">
                  <a:srgbClr val="dcbbfa"/>
                </a:gs>
              </a:gsLst>
              <a:lin ang="54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Открыт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л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90920" y="1341360"/>
              <a:ext cx="216036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58bf9">
                    <a:alpha val="50196"/>
                  </a:srgbClr>
                </a:gs>
                <a:gs pos="100000">
                  <a:srgbClr val="e0c3fa"/>
                </a:gs>
              </a:gsLst>
              <a:lin ang="54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4005c"/>
                  </a:solidFill>
                  <a:uFillTx/>
                  <a:latin typeface="Arial"/>
                  <a:hlinkClick r:id="rId2" action="ppaction://hlinksldjump"/>
                </a:rPr>
                <a:t>ПЕРВ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4005c"/>
                  </a:solidFill>
                  <a:uFillTx/>
                  <a:latin typeface="Arial"/>
                  <a:hlinkClick r:id="rId3" action="ppaction://hlinksldjump"/>
                </a:rPr>
                <a:t>ТУ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0920" y="2658960"/>
              <a:ext cx="216036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58bf9">
                    <a:alpha val="50196"/>
                  </a:srgbClr>
                </a:gs>
                <a:gs pos="100000">
                  <a:srgbClr val="ddbdfa"/>
                </a:gs>
              </a:gsLst>
              <a:lin ang="54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4005c"/>
                  </a:solidFill>
                  <a:uFillTx/>
                  <a:latin typeface="Arial"/>
                  <a:hlinkClick r:id="rId4" action="ppaction://hlinksldjump"/>
                </a:rPr>
                <a:t>ВТОР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4005c"/>
                  </a:solidFill>
                  <a:uFillTx/>
                  <a:latin typeface="Arial"/>
                  <a:hlinkClick r:id="rId5" action="ppaction://hlinksldjump"/>
                </a:rPr>
                <a:t>ТУ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90920" y="4006800"/>
              <a:ext cx="216036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58bf9">
                    <a:alpha val="50196"/>
                  </a:srgbClr>
                </a:gs>
                <a:gs pos="50000">
                  <a:srgbClr val="ddbdfa"/>
                </a:gs>
                <a:gs pos="100000">
                  <a:srgbClr val="c58bf9">
                    <a:alpha val="50196"/>
                  </a:srgbClr>
                </a:gs>
              </a:gsLst>
              <a:lin ang="54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ТРЕТИ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ТУ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99280" y="1341360"/>
              <a:ext cx="194436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даетс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крет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пр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67280" y="2709720"/>
              <a:ext cx="2304720" cy="936720"/>
            </a:xfrm>
            <a:prstGeom prst="rightArrowCallout">
              <a:avLst>
                <a:gd name="adj1" fmla="val 25002"/>
                <a:gd name="adj2" fmla="val 25000"/>
                <a:gd name="adj3" fmla="val 41007"/>
                <a:gd name="adj4" fmla="val 66667"/>
              </a:avLst>
            </a:prstGeom>
            <a:gradFill rotWithShape="0">
              <a:gsLst>
                <a:gs pos="0">
                  <a:srgbClr val="c58bf9"/>
                </a:gs>
                <a:gs pos="100000">
                  <a:srgbClr val="dfc0fa"/>
                </a:gs>
              </a:gsLst>
              <a:lin ang="54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Полузакрыт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ло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99280" y="2709720"/>
              <a:ext cx="194436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даетс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67280" y="4006800"/>
              <a:ext cx="2304720" cy="936720"/>
            </a:xfrm>
            <a:prstGeom prst="rightArrowCallout">
              <a:avLst>
                <a:gd name="adj1" fmla="val 25002"/>
                <a:gd name="adj2" fmla="val 25000"/>
                <a:gd name="adj3" fmla="val 41007"/>
                <a:gd name="adj4" fmla="val 66667"/>
              </a:avLst>
            </a:prstGeom>
            <a:gradFill rotWithShape="0">
              <a:gsLst>
                <a:gs pos="0">
                  <a:srgbClr val="c58bf9"/>
                </a:gs>
                <a:gs pos="100000">
                  <a:srgbClr val="dbb8fa"/>
                </a:gs>
              </a:gsLst>
              <a:lin ang="54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Закрыт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л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99280" y="4006800"/>
              <a:ext cx="194436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даетс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омер ло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484360" y="52430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c"/>
                </a:solidFill>
                <a:latin typeface="Arial"/>
              </a:rPr>
              <a:t>Аукцион (продажа с молотка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 это публичная распродажа, при которой покупателем становится тот, кто предложит более высокую ц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ПЕРВЫЙ ТУР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1197000"/>
            <a:ext cx="3311640" cy="79200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Т 1.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Валю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баланса – это…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651640" y="1196640"/>
            <a:ext cx="3311280" cy="79200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162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Итоговые значен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актива и пассив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баланс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2133720"/>
            <a:ext cx="3311640" cy="79200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Т 2.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Основ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балансовое равенств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651640" y="2133720"/>
            <a:ext cx="3311280" cy="79200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162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Активы = Капитал + </a:t>
            </a:r>
            <a:br>
              <a:rPr sz="1700"/>
            </a:b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Обязательст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3068640"/>
            <a:ext cx="3311640" cy="79200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Т 3.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Стро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бухгалтер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баланса – это…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5651640" y="3068640"/>
            <a:ext cx="3311280" cy="79200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162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Это показатель актив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или пассива баланса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характеризующий стоимость отдель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видов имущества, источник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его формирова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4076640"/>
            <a:ext cx="3311640" cy="79236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Т 4.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Баланс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Нетто – это…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5651640" y="4076280"/>
            <a:ext cx="3311280" cy="79236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162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Это баланс, включающий в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себя регулирующие стать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5013360"/>
            <a:ext cx="3311640" cy="79200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Т 5.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Реформиров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баланс – это…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5651640" y="5013360"/>
            <a:ext cx="3311280" cy="79200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162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Это баланс, в котором прибыл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отчетного периода не отражается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так как уже распределен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5950080"/>
            <a:ext cx="3311640" cy="79200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ОТ 6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Период, за котор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составляется текущ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балан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651640" y="5950080"/>
            <a:ext cx="3311280" cy="79200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162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Квартал, полугодие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9 месяце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135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ВТОРОЙ ТУР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27280" y="981000"/>
            <a:ext cx="22050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Под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68360" y="1844640"/>
            <a:ext cx="6839280" cy="3849840"/>
            <a:chOff x="2268360" y="1844640"/>
            <a:chExt cx="6839280" cy="3849840"/>
          </a:xfrm>
        </p:grpSpPr>
        <p:sp>
          <p:nvSpPr>
            <p:cNvPr id="140" name=""/>
            <p:cNvSpPr/>
            <p:nvPr/>
          </p:nvSpPr>
          <p:spPr>
            <a:xfrm>
              <a:off x="2268360" y="1844640"/>
              <a:ext cx="1656000" cy="1513080"/>
            </a:xfrm>
            <a:prstGeom prst="downArrowCallout">
              <a:avLst>
                <a:gd name="adj1" fmla="val 27364"/>
                <a:gd name="adj2" fmla="val 27361"/>
                <a:gd name="adj3" fmla="val 16667"/>
                <a:gd name="adj4" fmla="val 66667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АКТИВ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95640" y="1844640"/>
              <a:ext cx="1656000" cy="1513080"/>
            </a:xfrm>
            <a:prstGeom prst="downArrowCallout">
              <a:avLst>
                <a:gd name="adj1" fmla="val 27364"/>
                <a:gd name="adj2" fmla="val 27361"/>
                <a:gd name="adj3" fmla="val 16667"/>
                <a:gd name="adj4" fmla="val 6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ПАССИВ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24360" y="1844640"/>
              <a:ext cx="1656000" cy="1513080"/>
            </a:xfrm>
            <a:prstGeom prst="downArrowCallout">
              <a:avLst>
                <a:gd name="adj1" fmla="val 27364"/>
                <a:gd name="adj2" fmla="val 27361"/>
                <a:gd name="adj3" fmla="val 16667"/>
                <a:gd name="adj4" fmla="val 66667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Операции, н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влияющ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на В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51640" y="1844640"/>
              <a:ext cx="1656000" cy="1513080"/>
            </a:xfrm>
            <a:prstGeom prst="downArrowCallout">
              <a:avLst>
                <a:gd name="adj1" fmla="val 27364"/>
                <a:gd name="adj2" fmla="val 27361"/>
                <a:gd name="adj3" fmla="val 16667"/>
                <a:gd name="adj4" fmla="val 66667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Операции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влияющ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на В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27280" y="3429000"/>
              <a:ext cx="914400" cy="6094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6" action="ppaction://hlinksldjump"/>
                </a:rPr>
                <a:t>ЛОТ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27280" y="4221000"/>
              <a:ext cx="914400" cy="6098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7" action="ppaction://hlinksldjump"/>
                </a:rPr>
                <a:t>ЛОТ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27280" y="5084640"/>
              <a:ext cx="914400" cy="6098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8" action="ppaction://hlinksldjump"/>
                </a:rPr>
                <a:t>ЛОТ 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27640" y="4221000"/>
              <a:ext cx="914400" cy="6098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9" action="ppaction://hlinksldjump"/>
                </a:rPr>
                <a:t>ЛОТ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27640" y="3429000"/>
              <a:ext cx="914400" cy="6094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0" action="ppaction://hlinksldjump"/>
                </a:rPr>
                <a:t>ЛОТ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4720" y="4221000"/>
              <a:ext cx="914400" cy="6098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1" action="ppaction://hlinksldjump"/>
                </a:rPr>
                <a:t>ЛОТ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84720" y="3429000"/>
              <a:ext cx="914400" cy="6094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2" action="ppaction://hlinksldjump"/>
                </a:rPr>
                <a:t>ЛОТ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12000" y="5013360"/>
              <a:ext cx="914400" cy="6094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3" action="ppaction://hlinksldjump"/>
                </a:rPr>
                <a:t>ЛОТ 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12000" y="4221000"/>
              <a:ext cx="914400" cy="6098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4" action="ppaction://hlinksldjump"/>
                </a:rPr>
                <a:t>ЛОТ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12000" y="3429000"/>
              <a:ext cx="914400" cy="6094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5" action="ppaction://hlinksldjump"/>
                </a:rPr>
                <a:t>ЛОТ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6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АКТИВЫ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объекты относятся к О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95640" y="3213000"/>
            <a:ext cx="6948360" cy="3645000"/>
            <a:chOff x="2195640" y="3213000"/>
            <a:chExt cx="6948360" cy="3645000"/>
          </a:xfrm>
        </p:grpSpPr>
        <p:pic>
          <p:nvPicPr>
            <p:cNvPr id="158" name="" descr="Картинки по запросу основные средства картинки"/>
            <p:cNvPicPr/>
            <p:nvPr/>
          </p:nvPicPr>
          <p:blipFill>
            <a:blip r:embed="rId2"/>
            <a:stretch/>
          </p:blipFill>
          <p:spPr>
            <a:xfrm>
              <a:off x="4140360" y="3213000"/>
              <a:ext cx="238104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Картинки по запросу основные средства картинки"/>
            <p:cNvPicPr/>
            <p:nvPr/>
          </p:nvPicPr>
          <p:blipFill>
            <a:blip r:embed="rId3"/>
            <a:stretch/>
          </p:blipFill>
          <p:spPr>
            <a:xfrm>
              <a:off x="6477120" y="3213000"/>
              <a:ext cx="2666880" cy="18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"/>
            <a:srcRect l="0" t="0" r="11822" b="25231"/>
            <a:stretch/>
          </p:blipFill>
          <p:spPr>
            <a:xfrm>
              <a:off x="4427640" y="5122800"/>
              <a:ext cx="4716360" cy="17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Картинки по запросу компьютеры картинки"/>
            <p:cNvPicPr/>
            <p:nvPr/>
          </p:nvPicPr>
          <p:blipFill>
            <a:blip r:embed="rId5"/>
            <a:stretch/>
          </p:blipFill>
          <p:spPr>
            <a:xfrm>
              <a:off x="2195640" y="3213000"/>
              <a:ext cx="2552400" cy="17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6"/>
            <a:stretch/>
          </p:blipFill>
          <p:spPr>
            <a:xfrm>
              <a:off x="2195640" y="4915080"/>
              <a:ext cx="2520720" cy="194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>
            <a:hlinkClick r:id="rId7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165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биторская задолженность – это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АКТИВЫ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5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411280" y="3141720"/>
            <a:ext cx="6553440" cy="3716280"/>
            <a:chOff x="2411280" y="3141720"/>
            <a:chExt cx="6553440" cy="3716280"/>
          </a:xfrm>
        </p:grpSpPr>
        <p:sp>
          <p:nvSpPr>
            <p:cNvPr id="170" name=""/>
            <p:cNvSpPr/>
            <p:nvPr/>
          </p:nvSpPr>
          <p:spPr>
            <a:xfrm>
              <a:off x="2411280" y="3141720"/>
              <a:ext cx="655344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90000"/>
                </a:lnSpc>
                <a:spcBef>
                  <a:spcPts val="799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66ff"/>
                  </a:solidFill>
                  <a:latin typeface="Arial"/>
                </a:rPr>
                <a:t>Дебиторская задолженность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– это сумма долгов, причитающаяся предприяти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Картинки по запросу дебиторская задолженность картинки"/>
            <p:cNvPicPr/>
            <p:nvPr/>
          </p:nvPicPr>
          <p:blipFill>
            <a:blip r:embed="rId2"/>
            <a:stretch/>
          </p:blipFill>
          <p:spPr>
            <a:xfrm>
              <a:off x="3635280" y="4565520"/>
              <a:ext cx="3033720" cy="229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174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завершенное производство – это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АКТИВЫ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9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340000" y="2852640"/>
            <a:ext cx="6804000" cy="4005360"/>
            <a:chOff x="2340000" y="2852640"/>
            <a:chExt cx="6804000" cy="400536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2340000" y="4869000"/>
              <a:ext cx="2592360" cy="19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4932360" y="4869000"/>
              <a:ext cx="4211640" cy="19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492280" y="2852640"/>
              <a:ext cx="6400800" cy="19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80000"/>
                </a:lnSpc>
                <a:spcBef>
                  <a:spcPts val="700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9966ff"/>
                  </a:solidFill>
                  <a:latin typeface="Arial"/>
                </a:rPr>
                <a:t>Незавершенное производство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– это незаконченная продукция, находящаяся на различных стадиях производственного процесс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183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438280" y="1125000"/>
            <a:ext cx="6400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 счет какого капитала формируется Р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АССИВЫ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333520" y="2276640"/>
            <a:ext cx="6810480" cy="4581360"/>
            <a:chOff x="2333520" y="2276640"/>
            <a:chExt cx="6810480" cy="458136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2333520" y="3048120"/>
              <a:ext cx="68104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373560" y="2276640"/>
              <a:ext cx="4438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УСТАВНОЙ КАПИТА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192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5T08:47:17Z</dcterms:created>
  <dc:creator>golubeva</dc:creator>
  <dc:description/>
  <dc:language>en-US</dc:language>
  <cp:lastModifiedBy>марина михайловна</cp:lastModifiedBy>
  <dcterms:modified xsi:type="dcterms:W3CDTF">2015-11-06T07:50:34Z</dcterms:modified>
  <cp:revision>16</cp:revision>
  <dc:subject/>
  <dc:title>Деловая игра «Аукцион»</dc:title>
</cp:coreProperties>
</file>