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226-25BE-4778-A566-9A3E278F8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ibliotekar.ru/kGe/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tskiysad.ru/art/kartina098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retyakovgallery.ru/ru/collection/_show/image/_id/2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retyakovgallery.ru/ru/collection/_show/image/_id/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rt-portrets.ru/shishkin_rozh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s://ru.wikipedia.org/wiki/%D0%91%D0%B5%D1%80%D1%91%D0%B7%D0%BE%D0%B2%D0%B0%D1%8F_%D1%80%D0%BE%D1%89%D0%B0_(%D0%BA%D0%B0%D1%80%D1%82%D0%B8%D0%BD%D0%B0_%D0%9A%D1%83%D0%B8%D0%BD%D0%B4%D0%B6%D0%B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ydojnik.ru/Polenov/canvas.php?Author=%CF%EE%EB%E5%ED%EE%E2&amp;namepic=%CC%EE%F1%EA%EE%E2%F1%EA%E8%E9_%E4%E2%EE%F0%E8%EA._1878&amp;canvas=polenov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karpuhin-art.ru/articles/repin-burlaki-na-vo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798e15f5-326a-47a8-ae3c-836b7688f422/Surikov.BojarynjaMorozov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retyakovgallery.ru/ru/collection/_show/image/_id/2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aa4bd4a2-3882-42f6-a2d8-5174d2ec4b78/%5BIS8IR_4-34%5D_%5BPF_04%5D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google.ru/search?q=%D0%B0%D0%BB%D0%B5%D0%BA%D1%81%D0%B0%D0%BD%D0%B4%D1%80+%D0%BC%D0%B8%D1%85%D0%B0%D0%B9%D0%BB%D0%BE%D0%B2%D0%B8%D1%87+%D0%BE%D0%BF%D0%B5%D0%BA%D1%83%D1%88%D0%B8%D0%BD+%D0%BF%D0%B0%D0%BC%D1%8F%D1%82%D0%BD%D0%B8%D0%BA+%D0%BF%D1%83%D1%88%D0%BA%D0%B8%D0%BD%D1%83&amp;newwindow=1&amp;client=firefox-a&amp;rls=org.mozilla:ru:official&amp;channel=np&amp;biw=1920&amp;bih=952&amp;tbm=isch&amp;imgil=lHjpKHhAqwCvEM%253A%253BTU-0GV-B0AN31M%253Bhttp%25253A%25252F%25252Fwww.krugosvet.ru%25252Fenc%25252Fkultura_i_obrazovanie%25252Fizobrazitelnoe_iskusstvo%25252FOPEKUSHIN_ALEKSANDR_MIHALOVICH.html&amp;source=iu&amp;pf=m&amp;fir=lHjpKHhAqwCvEM%253A%252CTU-0GV-B0AN31M%252C_&amp;usg=__6aMpQO4dxfLdk2Z9QOgUjGhjxt0%3D&amp;ved=0CD0Qyjc&amp;ei=YSFaVKiqK4L5auuUgbgJ#newwindow=1&amp;rls=org.mozilla:ru:official&amp;channel=np&amp;tbm=isch&amp;q=%D0%BE%D0%BF%D0%B5%D0%BA%D1%83%D1%88%D0%B8%D0%BD+%D0%BF%D0%B0%D0%BC%D1%8F%D1%82%D0%BD%D0%B8%D0%BA+%D0%BF%D1%83%D1%88%D0%BA%D0%B8%D0%BD%D1%83+%D0%B2+%D0%BC%D0%BE%D1%81%D0%BA%D0%B2%D0%B5&amp;facrc=_&amp;imgdii=_&amp;imgrc=Riq46BjWpZxCiM%253A%3B3qDRoIxPaevrpM%3Bhttp%253A%252F%252Fpolitrussia.com%252Fupload%252Fiblock%252F365%252F365dcb8f05ef4578775fef357f9d4a9a.jpg%3Bhttp%253A%252F%252Fpolitrussia.com%252Fpolitkasha%252Fv-kharkove-oskvernili-pamyatnik-pushkinu-836%252F%3B361%3B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s://ru.wikipedia.org/wiki/%D0%90%D0%BD%D1%82%D0%BE%D0%BA%D0%BE%D0%BB%D1%8C%D1%81%D0%BA%D0%B8%D0%B9,_%D0%9C%D0%B0%D1%80%D0%BA_%D0%9C%D0%B0%D1%82%D0%B2%D0%B5%D0%B5%D0%B2%D0%B8%D1%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google.ru/search?q=%D0%B1%D0%BE%D1%80%D0%BE%D0%B4%D0%B8%D0%BD+%D0%BA%D0%BD%D1%8F%D0%B7%D1%8C+%D0%B8%D0%B3%D0%BE%D1%80%D1%8C+%D0%A2%D1%8B+%D0%BC%D0%BE%D1%8F+%D0%B3%D0%BE%D0%BB%D1%83%D0%B1%D0%BA%D0%B0+%D0%BB%D0%B0%D0%B4%D0%B0&amp;newwindow=1&amp;client=firefox-a&amp;rls=org.mozilla:ru:official&amp;channel=np&amp;biw=1920&amp;bih=952&amp;source=lnms&amp;tbm=isch&amp;sa=X&amp;ei=yitaVLLTONXXau2lgZAP&amp;ved=0CAcQ_AUoAg#newwindow=1&amp;rls=org.mozilla:ru:official&amp;channel=np&amp;tbm=isch&amp;q=%D0%B1%D0%BE%D1%80%D0%BE%D0%B4%D0%B8%D0%BD+%D0%BA%D0%BD%D1%8F%D0%B7%D1%8C+%D0%B8%D0%B3%D0%BE%D1%80%D1%8C+%D0%A2%D1%8B+%D0%BC%D0%BE%D1%8F+%D0%B3%D0%BE%D0%BB%D1%83%D0%B1%D0%BA%D0%B0+%D0%BB%D0%B0%D0%B4%D0%B0+%D1%81%D1%86%D0%B5%D0%BD%D0%B0+%D0%B2+%D0%BE%D0%BF%D0%B5%D1%80%D0%B5+&amp;facrc=_&amp;imgdii=_&amp;imgrc=LLrwXcIe373ARM%253A%3B9l73FK3C2fd0fM%3Bhttp%253A%252F%252Fwww.bolshoy-teatr.com%252Fshow_foto.php%253FWidth%253D177%2526Height%253D248%2526File%253Dimages%252Fupload%252Fimg22444688.png%3Bhttp%253A%252F%252Fwww.bolshoy-teatr.com%252Fevent_431.html%3B177%3B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kazan-opera.ru/afisha/926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DE7C-4951-41CC-AD6D-EEE864272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google.ru/search?q=%D0%B1%D0%BE%D1%80%D0%BE%D0%B4%D0%B8%D0%BD+%D0%BA%D0%BD%D1%8F%D0%B7%D1%8C+%D0%B8%D0%B3%D0%BE%D1%80%D1%8C+%D0%A2%D1%8B+%D0%BC%D0%BE%D1%8F+%D0%B3%D0%BE%D0%BB%D1%83%D0%B1%D0%BA%D0%B0+%D0%BB%D0%B0%D0%B4%D0%B0&amp;newwindow=1&amp;client=firefox-a&amp;rls=org.mozilla:ru:official&amp;channel=np&amp;biw=1920&amp;bih=952&amp;source=lnms&amp;tbm=isch&amp;sa=X&amp;ei=yitaVLLTONXXau2lgZAP&amp;ved=0CAcQ_AUoAg#newwindow=1&amp;rls=org.mozilla:ru:official&amp;channel=np&amp;tbm=isch&amp;q=%D0%A7%D0%B0%D0%B9%D0%BA%D0%BE%D0%B2%D1%81%D0%BA%D0%B8%D0%B9+%D0%B1+%D1%89%D0%B5%D0%BB%D0%BA%D1%83%D0%BD%D1%87%D0%B8%D0%BA+%D0%B2%D0%B0%D0%BB%D1%8C%D1%81+%D1%86%D0%B2%D0%B5%D1%82%D0%BE%D0%B2+%D0%9F%D0%B5%D1%80%D0%BC%D1%81%D0%BA%D0%B8%D0%B9+%D1%82%D0%B5%D0%B0%D1%82%D1%80+%D0%BE%D0%BF%D0%B5%D1%80%D0%B0%D1%8B+%D0%B8+%D0%B1%D0%B0%D0%BB%D0%B5%D1%82%D0%B0+&amp;facrc=_&amp;imgdii=_&amp;imgrc=0N_MKByL54zm8M%253A%3B8mGY3DfQUmIODM%3Bhttp%253A%252F%252Fi.ytimg.com%252Fvi%252F5ghZxeGfapc%252Fmaxresdefault.jpg%3Bhttp%253A%252F%252Fwww.liveinternet.ru%252Fcommunity%252F4989775%252Fpost323751689%252F%3B1280%3B7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8b85e3ef-892c-4bc2-99b0-1aefb39d8973/%5BIS8IR_4-35%5D_%5BPF_02%5D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01e69e3a-26b5-44be-9806-0fdca87beb5d/%5BIS8IR_4-34%5D_%5BPF_05%5D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870-4011-4240-AA05-B8B6E2688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c14ea198-7b52-4877-8299-ec7564a3b8b7/%5BIS8IR_4-35%5D_%5BPF_01%5D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orldtemples.ru/znamenitie-chrami-rossii/chram-spasa-na-krovi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odon.org/art-0711061627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rt-portrets.ru/portret_neizvestno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F60-F91A-48D6-AAB3-2334C8B1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6B6-0D84-4939-9D08-FF54713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047-BC1C-49AF-9EE6-77330E3D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224-2807-4097-85A0-941EFCEE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F2B-8AE6-44C9-808E-AA4DEEF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2A1-8F2B-4967-88EA-AC4EF31F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38E-BBC0-49DD-9001-F6211CC2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874-CA70-479B-A5DF-2B3C136A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311-CA6A-4544-B0F7-302BEEE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47E-8752-4F09-AB87-FFA8598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FE9-4E5E-40C5-B089-0B2CEDF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911-C3A8-475C-9A70-80A7BEC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601F-5E29-4AB1-9757-0888C33625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3716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усство Росс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0-90-е годы XIX 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095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Н. 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т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рашивает царевича Алексея». 187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картина Петр 1 допрашивает царевича Алексея"/>
          <p:cNvPicPr/>
          <p:nvPr/>
        </p:nvPicPr>
        <p:blipFill>
          <a:blip r:embed="rId1"/>
          <a:stretch/>
        </p:blipFill>
        <p:spPr>
          <a:xfrm>
            <a:off x="685800" y="168120"/>
            <a:ext cx="7696080" cy="565164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2157480" y="5943600"/>
            <a:ext cx="52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Е. Ма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бульваре». 188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Описание картины В. Е. Маковского «На бульваре»"/>
          <p:cNvPicPr/>
          <p:nvPr/>
        </p:nvPicPr>
        <p:blipFill>
          <a:blip r:embed="rId1"/>
          <a:stretch/>
        </p:blipFill>
        <p:spPr>
          <a:xfrm>
            <a:off x="2368440" y="914400"/>
            <a:ext cx="4788000" cy="3552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943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Ярошен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юду жизнь». 1878-88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1888. Nikolaj Alexandrowitsch Jaroschenko 008.jpg"/>
          <p:cNvPicPr/>
          <p:nvPr/>
        </p:nvPicPr>
        <p:blipFill>
          <a:blip r:embed="rId1"/>
          <a:stretch/>
        </p:blipFill>
        <p:spPr>
          <a:xfrm>
            <a:off x="3200400" y="274680"/>
            <a:ext cx="2490840" cy="505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1752480" y="565776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. Верещ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офеоз войны». 1871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Посмотреть полный размер"/>
          <p:cNvPicPr/>
          <p:nvPr/>
        </p:nvPicPr>
        <p:blipFill>
          <a:blip r:embed="rId1"/>
          <a:stretch/>
        </p:blipFill>
        <p:spPr>
          <a:xfrm>
            <a:off x="914400" y="380880"/>
            <a:ext cx="7596360" cy="48675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5867280"/>
            <a:ext cx="8077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И. Шишкин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жь». 1878 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Шишкин Рожь"/>
          <p:cNvPicPr/>
          <p:nvPr/>
        </p:nvPicPr>
        <p:blipFill>
          <a:blip r:embed="rId1"/>
          <a:stretch/>
        </p:blipFill>
        <p:spPr>
          <a:xfrm>
            <a:off x="336600" y="297000"/>
            <a:ext cx="8458200" cy="485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12480" y="5029200"/>
            <a:ext cx="830556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 Куинд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зовая роща». 187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9" descr="Archip Iwanowitsch Kuindshi 005.jpg"/>
          <p:cNvPicPr/>
          <p:nvPr/>
        </p:nvPicPr>
        <p:blipFill>
          <a:blip r:embed="rId1"/>
          <a:stretch/>
        </p:blipFill>
        <p:spPr>
          <a:xfrm>
            <a:off x="541440" y="304920"/>
            <a:ext cx="80769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55321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 Пол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сковский дворик». 187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polenov13"/>
          <p:cNvPicPr/>
          <p:nvPr/>
        </p:nvPicPr>
        <p:blipFill>
          <a:blip r:embed="rId1"/>
          <a:stretch/>
        </p:blipFill>
        <p:spPr>
          <a:xfrm>
            <a:off x="1371600" y="274680"/>
            <a:ext cx="6507000" cy="52578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219320" y="4952880"/>
            <a:ext cx="64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Е. Реп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рлаки на Волге».1870-187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burlaki-na-volge"/>
          <p:cNvPicPr/>
          <p:nvPr/>
        </p:nvPicPr>
        <p:blipFill>
          <a:blip r:embed="rId1"/>
          <a:stretch/>
        </p:blipFill>
        <p:spPr>
          <a:xfrm>
            <a:off x="266760" y="210960"/>
            <a:ext cx="8696160" cy="43434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8840" y="5409720"/>
            <a:ext cx="81536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ур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ярыня Морозова». 1887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36440" y="380880"/>
            <a:ext cx="8880480" cy="45705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914400" y="57913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гатыри». 1881—9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Посмотреть полный размер"/>
          <p:cNvPicPr/>
          <p:nvPr/>
        </p:nvPicPr>
        <p:blipFill>
          <a:blip r:embed="rId1"/>
          <a:stretch/>
        </p:blipFill>
        <p:spPr>
          <a:xfrm>
            <a:off x="914400" y="258840"/>
            <a:ext cx="7620120" cy="499572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6"/>
          <p:cNvSpPr txBox="1"/>
          <p:nvPr/>
        </p:nvSpPr>
        <p:spPr>
          <a:xfrm>
            <a:off x="2819520" y="243828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тектур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3124080" y="2590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ульпту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4920" y="57150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О. Микеш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«Тысячелетие России». 1862 г. Новгор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0" descr="%5bIS8IR_4-34%5d_%5bPF_04-r%5d"/>
          <p:cNvPicPr/>
          <p:nvPr/>
        </p:nvPicPr>
        <p:blipFill>
          <a:blip r:embed="rId1"/>
          <a:stretch/>
        </p:blipFill>
        <p:spPr>
          <a:xfrm>
            <a:off x="2895480" y="228600"/>
            <a:ext cx="3581640" cy="538632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5790960"/>
            <a:ext cx="80773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М. Опекуш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А.С. Пушкину. 1880 г. Мо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http://politrussia.com/upload/iblock/365/365dcb8f05ef4578775fef357f9d4a9a.jpg"/>
          <p:cNvPicPr/>
          <p:nvPr/>
        </p:nvPicPr>
        <p:blipFill>
          <a:blip r:embed="rId1"/>
          <a:stretch/>
        </p:blipFill>
        <p:spPr>
          <a:xfrm>
            <a:off x="2481120" y="228600"/>
            <a:ext cx="4105440" cy="56880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6240" y="6019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 Анток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 Грозный». 187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220px-Ivan_IV_by_Antokolsky_by_shakko_01"/>
          <p:cNvPicPr/>
          <p:nvPr/>
        </p:nvPicPr>
        <p:blipFill>
          <a:blip r:embed="rId1"/>
          <a:stretch/>
        </p:blipFill>
        <p:spPr>
          <a:xfrm>
            <a:off x="2666880" y="306360"/>
            <a:ext cx="3740400" cy="50832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3276720" y="2666880"/>
            <a:ext cx="2438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7800" y="5867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А. Балакир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ая фантазия «Исламей». 186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4" descr=""/>
          <p:cNvPicPr/>
          <p:nvPr/>
        </p:nvPicPr>
        <p:blipFill>
          <a:blip r:embed="rId1"/>
          <a:stretch/>
        </p:blipFill>
        <p:spPr>
          <a:xfrm>
            <a:off x="2819520" y="1017720"/>
            <a:ext cx="3039840" cy="40320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3440" y="5866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Бород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 «Князь Игорь». Первое исполнение 189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Князь Игорь. Ты одна голубка лада..mp3" descr=""/>
          <p:cNvPicPr/>
          <p:nvPr/>
        </p:nvPicPr>
        <p:blipFill>
          <a:blip r:embed="rId1"/>
          <a:stretch/>
        </p:blipFill>
        <p:spPr>
          <a:xfrm>
            <a:off x="8253360" y="5943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http://www.bolshoy-teatr.com/show_foto.php?Width=177&amp;Height=248&amp;File=images/upload/img22444688.png"/>
          <p:cNvPicPr/>
          <p:nvPr/>
        </p:nvPicPr>
        <p:blipFill>
          <a:blip r:embed="rId2"/>
          <a:stretch/>
        </p:blipFill>
        <p:spPr>
          <a:xfrm>
            <a:off x="2828880" y="685800"/>
            <a:ext cx="3098880" cy="43434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64920" y="586692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 Мусорг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 «Борис Годунов». Первое исполнение 187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http://kazan-opera.ru/upload/iblock/3b5/img_3_big.jpg"/>
          <p:cNvPicPr/>
          <p:nvPr/>
        </p:nvPicPr>
        <p:blipFill>
          <a:blip r:embed="rId1"/>
          <a:stretch/>
        </p:blipFill>
        <p:spPr>
          <a:xfrm>
            <a:off x="988920" y="304920"/>
            <a:ext cx="7381800" cy="49212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0760" y="548640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И. Чайковск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«Щелкунчик». Музыка впервые прозвучала в 1892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http://i.ytimg.com/vi/5ghZxeGfapc/maxresdefault.jpg"/>
          <p:cNvPicPr/>
          <p:nvPr/>
        </p:nvPicPr>
        <p:blipFill>
          <a:blip r:embed="rId1"/>
          <a:stretch/>
        </p:blipFill>
        <p:spPr>
          <a:xfrm>
            <a:off x="914400" y="307800"/>
            <a:ext cx="7469280" cy="42022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107" name="П. Чайковский. Щелкунчик. Вальс цветов.mp3" descr=""/>
          <p:cNvPicPr/>
          <p:nvPr/>
        </p:nvPicPr>
        <p:blipFill>
          <a:blip r:embed="rId2"/>
          <a:stretch/>
        </p:blipFill>
        <p:spPr>
          <a:xfrm>
            <a:off x="8263080" y="594360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143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пасибо за внимание 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160" y="632448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ие торговые ряды (ГУМ). 1889-93 гг. Моск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359880" y="6010200"/>
            <a:ext cx="2091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Н. Померанц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%5bIS8IR_4-35%5d_%5bPF_02-r%5d"/>
          <p:cNvPicPr/>
          <p:nvPr/>
        </p:nvPicPr>
        <p:blipFill>
          <a:blip r:embed="rId1"/>
          <a:stretch/>
        </p:blipFill>
        <p:spPr>
          <a:xfrm>
            <a:off x="838080" y="152280"/>
            <a:ext cx="7488360" cy="561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58669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Семенов, В. И. Шерв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музей. 1875-81 гг. Моск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%5bIS8IR_4-34%5d_%5bPF_05-r%5d"/>
          <p:cNvPicPr/>
          <p:nvPr/>
        </p:nvPicPr>
        <p:blipFill>
          <a:blip r:embed="rId1"/>
          <a:stretch/>
        </p:blipFill>
        <p:spPr>
          <a:xfrm>
            <a:off x="1981080" y="152280"/>
            <a:ext cx="5253120" cy="5486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571464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Н. Чич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ая дума. 1890-92 гг. Моск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%5bIS8IR_4-35%5d_%5bPF_01-r%5d"/>
          <p:cNvPicPr/>
          <p:nvPr/>
        </p:nvPicPr>
        <p:blipFill>
          <a:blip r:embed="rId1"/>
          <a:stretch/>
        </p:blipFill>
        <p:spPr>
          <a:xfrm>
            <a:off x="380880" y="152280"/>
            <a:ext cx="8488440" cy="525780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440" y="5940000"/>
            <a:ext cx="807732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лан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Воскресения «На крови».1882 г. 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038480" y="5527800"/>
            <a:ext cx="3657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Храм Спаса на Крови (Собор Воскресения Христова) в Санкт-Петербурге"/>
          <p:cNvPicPr/>
          <p:nvPr/>
        </p:nvPicPr>
        <p:blipFill>
          <a:blip r:embed="rId1"/>
          <a:stretch/>
        </p:blipFill>
        <p:spPr>
          <a:xfrm>
            <a:off x="627120" y="190440"/>
            <a:ext cx="8077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3200400" y="2743200"/>
            <a:ext cx="309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пис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5880"/>
            <a:ext cx="65534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. Перов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льский крестный ход на Пасху». 1861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071106162721"/>
          <p:cNvPicPr/>
          <p:nvPr/>
        </p:nvPicPr>
        <p:blipFill>
          <a:blip r:embed="rId1"/>
          <a:stretch/>
        </p:blipFill>
        <p:spPr>
          <a:xfrm>
            <a:off x="743040" y="228600"/>
            <a:ext cx="7867440" cy="57070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560" y="6019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Н. Крамс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известная». 1883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Портрет неизвестной. Картина Ивана Крамского"/>
          <p:cNvPicPr/>
          <p:nvPr/>
        </p:nvPicPr>
        <p:blipFill>
          <a:blip r:embed="rId1"/>
          <a:stretch/>
        </p:blipFill>
        <p:spPr>
          <a:xfrm>
            <a:off x="928800" y="152280"/>
            <a:ext cx="733896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14:14:31Z</dcterms:created>
  <dc:creator>Мама</dc:creator>
  <dc:description/>
  <dc:language>en-US</dc:language>
  <cp:lastModifiedBy>RePack by Diakov</cp:lastModifiedBy>
  <dcterms:modified xsi:type="dcterms:W3CDTF">2021-03-30T17:12:0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