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12.png" ContentType="image/png"/>
  <Override PartName="/ppt/media/image49.jpeg" ContentType="image/jpeg"/>
  <Override PartName="/ppt/media/image48.jpeg" ContentType="image/jpeg"/>
  <Override PartName="/ppt/media/image8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38.jpeg" ContentType="image/jpeg"/>
  <Override PartName="/ppt/media/image50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9.jpeg" ContentType="image/jpeg"/>
  <Override PartName="/ppt/media/image4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21F-0014-4325-A9DB-940B8ED2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CA4-F564-4497-ACAD-39111601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EC3-958C-4735-9026-6AC6A91D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44A-04F8-4211-9221-E7B7EBC5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0313-6794-45F3-8F35-0612DB63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9CE2-ACBC-41C9-901C-C5B00855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E019-73FB-4615-B072-ED9C2AF6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2B18-E006-4CA2-9DFC-7D80231A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2E7C-33DD-4360-AB08-0C77C637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7502-CCBE-495B-8FC5-F972CE07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ADCF-8072-4598-A6B3-919C5DD9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C88-65D3-40A2-8C69-D313CF59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8B59-10F9-480A-A41B-CBE2954F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C267-2A4E-423F-9790-57A3AFFD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150C-8C94-469F-8EE3-81A991E5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4579-5910-40EE-B238-DCE46D80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249B-9AA3-4E83-A1DF-5129DD2D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1F2F4-BF06-4BCD-9F31-8D76130B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7347-594A-4A55-9774-C23D2EE6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53086-3CED-4ED8-A78E-427FA131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BC4AA-15E5-4919-B4D8-5540D8B4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875D1-94F2-482C-9A69-D5ADF718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BB7-CE38-4817-A942-FA954E1D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56777-E867-404C-8B2B-8A2B9848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66635-7CF1-4CFC-86C7-7428F1CF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0E05-9A1A-478C-9851-E2207752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63F39-3067-4683-A746-80E0580D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E406-D776-4957-B882-87F9FA9F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0F192-54D5-4FF5-80F2-B97163EB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D767-C394-4C69-9444-5C2D7952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72B04-6CA7-4BDF-86E5-A12866AE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573E5-CD35-4C07-A885-627EABCC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2881B-58AB-4381-920D-80454587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0EE-A391-42DD-B46A-387C131D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862E0-DD06-4D1D-BBA4-E3ED1742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A33B8-1BA3-452D-A1B3-D4F82F6D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15A84-1CA2-47C2-B95E-7CE52FAD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AF468-3601-4201-925E-BEFB6755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F64B-FAA6-41A9-955C-DCC23C3F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5279C-9DBE-46CC-A286-3EB30786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1EE5D-C841-4D10-BCC1-F2F3DD52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97909-311E-42B0-84D7-6C2FCC39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33D2C-E0D5-49D7-A834-7D7B9FD9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D05-6717-4A31-A46D-69D1D14D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2348-9E8E-4F6C-B22C-7A3F742F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B252-F4C7-4B74-ABBC-92CF7260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1E6-FA88-4266-A096-0993AF59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7EF-6CF3-4D5F-B547-8D68749E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F826-93B4-4661-888A-8CF723DAD1F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901F-2017-41BD-923F-3E9AC6293A6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50D6-19B6-41A0-92F9-DABD801661E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7A33-42A1-4943-9F0E-911196333AB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C:\Users\User\Desktop\9.png"/>
          <p:cNvPicPr/>
          <p:nvPr/>
        </p:nvPicPr>
        <p:blipFill>
          <a:blip r:embed="rId1"/>
          <a:stretch/>
        </p:blipFill>
        <p:spPr>
          <a:xfrm>
            <a:off x="0" y="2722680"/>
            <a:ext cx="4876920" cy="4135320"/>
          </a:xfrm>
          <a:prstGeom prst="rect">
            <a:avLst/>
          </a:prstGeom>
          <a:ln w="0">
            <a:noFill/>
          </a:ln>
        </p:spPr>
      </p:pic>
      <p:pic>
        <p:nvPicPr>
          <p:cNvPr id="215" name="Rectangle 2" descr=""/>
          <p:cNvPicPr/>
          <p:nvPr/>
        </p:nvPicPr>
        <p:blipFill>
          <a:blip r:embed="rId2"/>
          <a:stretch/>
        </p:blipFill>
        <p:spPr>
          <a:xfrm>
            <a:off x="79200" y="1170000"/>
            <a:ext cx="9064800" cy="18223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7"/>
          <p:cNvSpPr/>
          <p:nvPr/>
        </p:nvSpPr>
        <p:spPr>
          <a:xfrm>
            <a:off x="5257800" y="6324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241600" y="5241600"/>
            <a:ext cx="3902040" cy="16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Monotype Corsiva"/>
              </a:rPr>
              <a:t>Преподаватель ГБПОУ «ГК г. Сызрани» - Киреева Марина Владимировн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689040" y="-55440"/>
            <a:ext cx="8229600" cy="1549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специальные программы, которые используются злоумышленниками для проникновения в операционную систему через ее уязвимые, незащищенные места. Используются для проникновения программ, которые воруют информацию, необходимую для получения прав доступа к компьютеру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8" name="Picture 5" descr="4kYDKFmaCnc"/>
          <p:cNvPicPr/>
          <p:nvPr/>
        </p:nvPicPr>
        <p:blipFill>
          <a:blip r:embed="rId2"/>
          <a:stretch/>
        </p:blipFill>
        <p:spPr>
          <a:xfrm>
            <a:off x="2895480" y="3657600"/>
            <a:ext cx="3353040" cy="2236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689040" y="-55440"/>
            <a:ext cx="8229600" cy="1549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59984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редоносная программа, осуществляющая контроль над браузером пользователя и направляющая его на фальшивые сайты злоумышленника. Во «внутренности» браузера эти паразиты попадают при помощи троянов и червей. При этом будут отображаться только фальшивые сайты, даже если адрес был введен правильн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1" name="Picture 4" descr="pharming-y-phising-3-638"/>
          <p:cNvPicPr/>
          <p:nvPr/>
        </p:nvPicPr>
        <p:blipFill>
          <a:blip r:embed="rId2"/>
          <a:stretch/>
        </p:blipFill>
        <p:spPr>
          <a:xfrm>
            <a:off x="2743200" y="3581280"/>
            <a:ext cx="3352680" cy="2517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969840" y="-49320"/>
            <a:ext cx="7107480" cy="15001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Антивирусная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программа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(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антивирус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, средство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антивирусной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защиты, средство обнаружения вредоносных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программ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) — специализированная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программа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для обнаружения компьютерных вирусов, а также нежелательных (считающихся вредоносными)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программ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и восстановления заражённых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4" name="Picture 4" descr="img15"/>
          <p:cNvPicPr/>
          <p:nvPr/>
        </p:nvPicPr>
        <p:blipFill>
          <a:blip r:embed="rId2"/>
          <a:stretch/>
        </p:blipFill>
        <p:spPr>
          <a:xfrm>
            <a:off x="2743200" y="37339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/>
          <p:cNvSpPr/>
          <p:nvPr/>
        </p:nvSpPr>
        <p:spPr>
          <a:xfrm>
            <a:off x="533520" y="5105520"/>
            <a:ext cx="6094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993600" y="6480"/>
            <a:ext cx="7229520" cy="1444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1219320" y="19047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Детекторные программы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Лечебные программы (доктора), или фаг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Программы для ревизии (ревизоры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Программы фильтрации (фильтры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Программы вакцинации, или программы иммунизац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609480" y="5791320"/>
            <a:ext cx="762120" cy="609480"/>
          </a:xfrm>
          <a:custGeom>
            <a:avLst/>
            <a:gdLst>
              <a:gd name="textAreaLeft" fmla="*/ 177480 w 762120"/>
              <a:gd name="textAreaRight" fmla="*/ 584280 w 76212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Users\User\Desktop\1.jpg"/>
          <p:cNvPicPr/>
          <p:nvPr/>
        </p:nvPicPr>
        <p:blipFill>
          <a:blip r:embed="rId1"/>
          <a:stretch/>
        </p:blipFill>
        <p:spPr>
          <a:xfrm>
            <a:off x="5334120" y="301788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2" descr=""/>
          <p:cNvPicPr/>
          <p:nvPr/>
        </p:nvPicPr>
        <p:blipFill>
          <a:blip r:embed="rId2"/>
          <a:stretch/>
        </p:blipFill>
        <p:spPr>
          <a:xfrm>
            <a:off x="993600" y="6480"/>
            <a:ext cx="7010640" cy="14443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96720" y="1176480"/>
            <a:ext cx="83822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Программы-детекторы осуществляют поиск характерной для конкретного вируса сигнатуры в оперативной памяти и в файлах и при обнаружении выдают соответствующее сообщение. Недостатком таких антивирусных программ является то, что они могут находить только те вирусы, которые известны разработчикам таких програм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C:\Users\User\Desktop\3.jpg"/>
          <p:cNvPicPr/>
          <p:nvPr/>
        </p:nvPicPr>
        <p:blipFill>
          <a:blip r:embed="rId1"/>
          <a:stretch/>
        </p:blipFill>
        <p:spPr>
          <a:xfrm>
            <a:off x="4338720" y="2082960"/>
            <a:ext cx="4775040" cy="4775040"/>
          </a:xfrm>
          <a:prstGeom prst="rect">
            <a:avLst/>
          </a:prstGeom>
          <a:ln w="0">
            <a:noFill/>
          </a:ln>
        </p:spPr>
      </p:pic>
      <p:pic>
        <p:nvPicPr>
          <p:cNvPr id="283" name="Rectangle 2" descr=""/>
          <p:cNvPicPr/>
          <p:nvPr/>
        </p:nvPicPr>
        <p:blipFill>
          <a:blip r:embed="rId2"/>
          <a:stretch/>
        </p:blipFill>
        <p:spPr>
          <a:xfrm>
            <a:off x="-36360" y="6480"/>
            <a:ext cx="8924760" cy="1444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304920" y="12952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граммы-доктора или фаги, а также программы-вакцины не только находят зараженные вирусами файлы, но и «лечат» их, то есть удаляют из файла тело программы-вируса, возвращая файлы в исходное состояние. В начале своей работы фаги ищут вирусы в оперативной памяти, уничтожая их, и только затем переходят к «лечению» файлов. Среди фагов выделяют полифаги, то есть программы-доктора, предназначенные для поиска и уничтожения большого количества вирусов. Учитывая, что постоянно появляются новые вирусы, программы-детекторы и программы-доктора быстро устаревают, и требуется регулярное обновление версий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C:\Users\User\Desktop\4.jpg"/>
          <p:cNvPicPr/>
          <p:nvPr/>
        </p:nvPicPr>
        <p:blipFill>
          <a:blip r:embed="rId1"/>
          <a:stretch/>
        </p:blipFill>
        <p:spPr>
          <a:xfrm>
            <a:off x="5572080" y="2813040"/>
            <a:ext cx="3556080" cy="402912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2" descr=""/>
          <p:cNvPicPr/>
          <p:nvPr/>
        </p:nvPicPr>
        <p:blipFill>
          <a:blip r:embed="rId2"/>
          <a:stretch/>
        </p:blipFill>
        <p:spPr>
          <a:xfrm>
            <a:off x="993600" y="6480"/>
            <a:ext cx="7010640" cy="14443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-360" y="1218960"/>
            <a:ext cx="8915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граммы-ревизоры (инспектора) относятся к самым надежным средствам защиты от вирусов. Ревизоры (инспектора) проверяют данные на диске на предмет вирусов-невидимок, изучают, не забрался ли вирус в файлы, нет ли посторонних в загрузочном секторе жесткого диска, нет ли несанкционированных изменений реестра Windows. Причем инспектор может не пользоваться средствами операционной системы для обращения к дискам (а значит, активный вирус не сможет это обращение перехватить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C:\Users\User\Desktop\5.jpg"/>
          <p:cNvPicPr/>
          <p:nvPr/>
        </p:nvPicPr>
        <p:blipFill>
          <a:blip r:embed="rId1"/>
          <a:srcRect l="0" t="10624" r="0" b="10624"/>
          <a:stretch/>
        </p:blipFill>
        <p:spPr>
          <a:xfrm>
            <a:off x="2568600" y="2716200"/>
            <a:ext cx="4457520" cy="3510000"/>
          </a:xfrm>
          <a:prstGeom prst="rect">
            <a:avLst/>
          </a:prstGeom>
          <a:ln w="0">
            <a:noFill/>
          </a:ln>
        </p:spPr>
      </p:pic>
      <p:pic>
        <p:nvPicPr>
          <p:cNvPr id="289" name="Rectangle 2" descr=""/>
          <p:cNvPicPr/>
          <p:nvPr/>
        </p:nvPicPr>
        <p:blipFill>
          <a:blip r:embed="rId2"/>
          <a:stretch/>
        </p:blipFill>
        <p:spPr>
          <a:xfrm>
            <a:off x="993600" y="6480"/>
            <a:ext cx="7010640" cy="14443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-360" y="11430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граммы-фильтры (мониторы) или «сторожа» представляют собой небольшие резидентные программы, предназначенные для обнаружения подозрительных действий при работе компьютера, характерных для вирусов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1" name="Picture 2" descr="C:\Users\User\Desktop\2.jpg"/>
          <p:cNvPicPr/>
          <p:nvPr/>
        </p:nvPicPr>
        <p:blipFill>
          <a:blip r:embed="rId3"/>
          <a:stretch/>
        </p:blipFill>
        <p:spPr>
          <a:xfrm>
            <a:off x="-7620120" y="-876312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C:\Users\User\Desktop\2.jpg"/>
          <p:cNvPicPr/>
          <p:nvPr/>
        </p:nvPicPr>
        <p:blipFill>
          <a:blip r:embed="rId1"/>
          <a:srcRect l="27660" t="3727" r="24445" b="0"/>
          <a:stretch/>
        </p:blipFill>
        <p:spPr>
          <a:xfrm>
            <a:off x="6858000" y="2293920"/>
            <a:ext cx="2286000" cy="4564080"/>
          </a:xfrm>
          <a:prstGeom prst="rect">
            <a:avLst/>
          </a:prstGeom>
          <a:ln w="0">
            <a:noFill/>
          </a:ln>
        </p:spPr>
      </p:pic>
      <p:pic>
        <p:nvPicPr>
          <p:cNvPr id="293" name="Rectangle 2" descr=""/>
          <p:cNvPicPr/>
          <p:nvPr/>
        </p:nvPicPr>
        <p:blipFill>
          <a:blip r:embed="rId2"/>
          <a:stretch/>
        </p:blipFill>
        <p:spPr>
          <a:xfrm>
            <a:off x="993600" y="6480"/>
            <a:ext cx="7010640" cy="14443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380880" y="11426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езидентные программы, предотвращающие заражение файлов. Вакцины применяют, если отсутствуют программы-доктора, «лечащие» этот вирус. Вакцинация возможна только от известных вирусов. Вакцина модифицирует программу или диск таким образом, чтобы это не отражалось на их работе, а вирус будет воспринимать их зараженными и поэтому не внедрится. В настоящее время программы-вакцины имеют ограниченное применен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457200" y="-109440"/>
            <a:ext cx="8448840" cy="14446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348920"/>
            <a:ext cx="8229600" cy="39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omic Sans MS"/>
              </a:rPr>
              <a:t>Avast! </a:t>
            </a: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— антивирусная программа для операционных систем Windows, Mac OS, а также для КПК на платформе Palm, Android и Windows CE.  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omic Sans MS"/>
              </a:rPr>
              <a:t>Антивирус Касперского</a:t>
            </a: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 — антивирусное программное обеспечение, разрабатываемое Лабораторией Касперского. Предоставляет пользователю защиту от вирусов, троянских программ, шпионских программ, руткитов, adware, а также неизвестных угроз с помощью проактивной защиты, включающей компонент HIPS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omic Sans MS"/>
              </a:rPr>
              <a:t>Agnitum</a:t>
            </a: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 — российская компания-производитель программного обеспечения в области безопасности персонального компьютера. Наиболее известный продукт Agnitum — персональный файрвол Outpost Firewall Pro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omic Sans MS"/>
              </a:rPr>
              <a:t>Dr.Web</a:t>
            </a: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 ( </a:t>
            </a:r>
            <a:r>
              <a:rPr b="1" lang="ru-RU" sz="1600" spc="-1" strike="noStrike">
                <a:solidFill>
                  <a:srgbClr val="404040"/>
                </a:solidFill>
                <a:latin typeface="Comic Sans MS"/>
              </a:rPr>
              <a:t>Доктор Веб</a:t>
            </a: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) — общее название семейства программного антивирусного ПО для различных платформ (Windows, OS X, Linux, мобильные платформы) и линейки программно-аппаратных решений (Dr.Web Office Shield), а также решений для обеспечения безопасности всех узлов корпоративной сет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7" name="Picture 4" descr="167dc6739424c74060c0c43749c77bde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121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AV_small_print"/>
          <p:cNvPicPr/>
          <p:nvPr/>
        </p:nvPicPr>
        <p:blipFill>
          <a:blip r:embed="rId3"/>
          <a:stretch/>
        </p:blipFill>
        <p:spPr>
          <a:xfrm>
            <a:off x="2819520" y="5181480"/>
            <a:ext cx="1103040" cy="1524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t1@6b519d54-c296-4e3b-b5d5-2444f8394847"/>
          <p:cNvPicPr/>
          <p:nvPr/>
        </p:nvPicPr>
        <p:blipFill>
          <a:blip r:embed="rId4"/>
          <a:stretch/>
        </p:blipFill>
        <p:spPr>
          <a:xfrm>
            <a:off x="4495680" y="5181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t1@e3fa3824-f156-4e61-90c0-49f4b50d66d0"/>
          <p:cNvPicPr/>
          <p:nvPr/>
        </p:nvPicPr>
        <p:blipFill>
          <a:blip r:embed="rId5"/>
          <a:stretch/>
        </p:blipFill>
        <p:spPr>
          <a:xfrm>
            <a:off x="6934320" y="51814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8"/>
          <p:cNvSpPr/>
          <p:nvPr/>
        </p:nvSpPr>
        <p:spPr>
          <a:xfrm>
            <a:off x="7696080" y="762120"/>
            <a:ext cx="990720" cy="685800"/>
          </a:xfrm>
          <a:prstGeom prst="sun">
            <a:avLst>
              <a:gd name="adj" fmla="val 25000"/>
            </a:avLst>
          </a:prstGeom>
          <a:solidFill>
            <a:srgbClr val="59a8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1298520" y="30240"/>
            <a:ext cx="6510240" cy="1493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219320" y="190476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Компьютерный вирус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Виды компьютерных вирусо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Антивирусная программа -  это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Виды антивирусных програм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Примеры антивирусных програм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1292400" y="944640"/>
            <a:ext cx="6535440" cy="1493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C:\Users\User\Desktop\8.jpg"/>
          <p:cNvPicPr/>
          <p:nvPr/>
        </p:nvPicPr>
        <p:blipFill>
          <a:blip r:embed="rId2"/>
          <a:stretch/>
        </p:blipFill>
        <p:spPr>
          <a:xfrm>
            <a:off x="746280" y="2514600"/>
            <a:ext cx="76197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комп вирус"/>
          <p:cNvPicPr/>
          <p:nvPr/>
        </p:nvPicPr>
        <p:blipFill>
          <a:blip r:embed="rId1"/>
          <a:stretch/>
        </p:blipFill>
        <p:spPr>
          <a:xfrm>
            <a:off x="3276720" y="4309920"/>
            <a:ext cx="279864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2" descr=""/>
          <p:cNvPicPr/>
          <p:nvPr/>
        </p:nvPicPr>
        <p:blipFill>
          <a:blip r:embed="rId2"/>
          <a:stretch/>
        </p:blipFill>
        <p:spPr>
          <a:xfrm>
            <a:off x="231840" y="-122400"/>
            <a:ext cx="8229600" cy="1494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5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Компью́терный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ви́рус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— вид вредоносного программного обеспечения, способного внедряться в код других программ, системные области памяти, загрузочные секторы, и распространять свои копии по разнообразным каналам связи. Основная цель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вируса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— его распространение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762120" y="4800600"/>
            <a:ext cx="609480" cy="990720"/>
          </a:xfrm>
          <a:prstGeom prst="upArrow">
            <a:avLst>
              <a:gd name="adj1" fmla="val 50000"/>
              <a:gd name="adj2" fmla="val 40638"/>
            </a:avLst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378080" y="341280"/>
            <a:ext cx="6802200" cy="12924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457200"/>
            <a:ext cx="7924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85800" y="1371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8610480" y="1295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1"/>
          <p:cNvSpPr/>
          <p:nvPr/>
        </p:nvSpPr>
        <p:spPr>
          <a:xfrm>
            <a:off x="1523880" y="13716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2209680" y="1371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2971800" y="1371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3809880" y="13716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4724280" y="13716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"/>
          <p:cNvSpPr/>
          <p:nvPr/>
        </p:nvSpPr>
        <p:spPr>
          <a:xfrm>
            <a:off x="5638680" y="1371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9"/>
          <p:cNvSpPr/>
          <p:nvPr/>
        </p:nvSpPr>
        <p:spPr>
          <a:xfrm>
            <a:off x="6400800" y="1371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0"/>
          <p:cNvSpPr/>
          <p:nvPr/>
        </p:nvSpPr>
        <p:spPr>
          <a:xfrm>
            <a:off x="7086600" y="13716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>
            <a:off x="7894800" y="1447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229320" y="2971080"/>
            <a:ext cx="86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в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3"/>
          <p:cNvSpPr/>
          <p:nvPr/>
        </p:nvSpPr>
        <p:spPr>
          <a:xfrm>
            <a:off x="914400" y="51040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оянская програм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4"/>
          <p:cNvSpPr/>
          <p:nvPr/>
        </p:nvSpPr>
        <p:spPr>
          <a:xfrm>
            <a:off x="1744560" y="4486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3200400" y="5180400"/>
            <a:ext cx="1371600" cy="7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шпи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1756800" y="3839040"/>
            <a:ext cx="88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нн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2362320" y="289476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грузочные виру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8"/>
          <p:cNvSpPr/>
          <p:nvPr/>
        </p:nvSpPr>
        <p:spPr>
          <a:xfrm>
            <a:off x="4191480" y="327564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спло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9"/>
          <p:cNvSpPr/>
          <p:nvPr/>
        </p:nvSpPr>
        <p:spPr>
          <a:xfrm>
            <a:off x="8114040" y="2666160"/>
            <a:ext cx="102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арми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0"/>
          <p:cNvSpPr/>
          <p:nvPr/>
        </p:nvSpPr>
        <p:spPr>
          <a:xfrm>
            <a:off x="5943600" y="23616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ши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1"/>
          <p:cNvSpPr/>
          <p:nvPr/>
        </p:nvSpPr>
        <p:spPr>
          <a:xfrm>
            <a:off x="6324480" y="5486040"/>
            <a:ext cx="1570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пионское П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2"/>
          <p:cNvSpPr/>
          <p:nvPr/>
        </p:nvSpPr>
        <p:spPr>
          <a:xfrm>
            <a:off x="7549560" y="3428280"/>
            <a:ext cx="83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тк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4722840" y="4571640"/>
            <a:ext cx="2082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ный вир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5"/>
          <p:cNvSpPr/>
          <p:nvPr/>
        </p:nvSpPr>
        <p:spPr>
          <a:xfrm>
            <a:off x="304920" y="60199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img3"/>
          <p:cNvPicPr/>
          <p:nvPr/>
        </p:nvPicPr>
        <p:blipFill>
          <a:blip r:embed="rId1"/>
          <a:stretch/>
        </p:blipFill>
        <p:spPr>
          <a:xfrm>
            <a:off x="2743200" y="3886200"/>
            <a:ext cx="3749760" cy="281160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2" descr=""/>
          <p:cNvPicPr/>
          <p:nvPr/>
        </p:nvPicPr>
        <p:blipFill>
          <a:blip r:embed="rId2"/>
          <a:stretch/>
        </p:blipFill>
        <p:spPr>
          <a:xfrm>
            <a:off x="0" y="-85680"/>
            <a:ext cx="8229600" cy="15494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8991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just">
              <a:lnSpc>
                <a:spcPct val="13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omic Sans MS"/>
              </a:rPr>
              <a:t> </a:t>
            </a:r>
            <a:r>
              <a:rPr b="0" lang="ru-RU" sz="1900" spc="-1" strike="noStrike">
                <a:solidFill>
                  <a:srgbClr val="404040"/>
                </a:solidFill>
                <a:latin typeface="Comic Sans MS"/>
              </a:rPr>
              <a:t>вредоносная программа, целью которой является забить компьютер всяким мусором для того, чтобы он стал медленным и неуклюжим. Червь способен саморазмножаться, но не может быть частью программы. Чаще всего заражение этим вирусом происходит посредством электронных писем.</a:t>
            </a:r>
            <a:br>
              <a:rPr sz="1900"/>
            </a:b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0" y="-128520"/>
            <a:ext cx="8772480" cy="2232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эта программа полностью оправдывает свое название. Она проникает в другие программы и скрывается там до момента, когда программа-хозяин будет запущена. До запуска хозяйской программы вирус не может нанести вред. Чаще всего троянский конь используется для удаления, изменения или кражи данных. Самостоятельно размножатся троян не может.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5" name="Picture 6" descr="cb85c657207ed93ed44a4f9b0b5d894a"/>
          <p:cNvPicPr/>
          <p:nvPr/>
        </p:nvPicPr>
        <p:blipFill>
          <a:blip r:embed="rId2"/>
          <a:stretch/>
        </p:blipFill>
        <p:spPr>
          <a:xfrm>
            <a:off x="4572000" y="3962520"/>
            <a:ext cx="3813120" cy="2738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304920" y="-128520"/>
            <a:ext cx="8229600" cy="1542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эти Штирлицы занимаются сбором информации о пользователе и его действиях. Чаще всего они воруют конфиденциальную информацию: пароли, адреса, номера карт/счетов и т. д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Зомби – такое название вредоносные программы получили, оттого, что и в самом деле делают из компьютера «безвольную» машину, подчиняющуюся злоумышленникам. Проще говоря, нехорошие люди могут управлять чьим-либо компьютером посредством этих вредоносных программ. Чаще всего пользователь даже не знает, что его компьютер уже не только ег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Picture 6" descr="spying-laptop"/>
          <p:cNvPicPr/>
          <p:nvPr/>
        </p:nvPicPr>
        <p:blipFill>
          <a:blip r:embed="rId2"/>
          <a:stretch/>
        </p:blipFill>
        <p:spPr>
          <a:xfrm>
            <a:off x="838080" y="4267080"/>
            <a:ext cx="3048120" cy="2136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cnx_PI_XoJo"/>
          <p:cNvPicPr/>
          <p:nvPr/>
        </p:nvPicPr>
        <p:blipFill>
          <a:blip r:embed="rId3"/>
          <a:stretch/>
        </p:blipFill>
        <p:spPr>
          <a:xfrm>
            <a:off x="4648320" y="4114800"/>
            <a:ext cx="3581280" cy="2438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311040" y="-128520"/>
            <a:ext cx="8985240" cy="15429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380880" y="1294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эти программы блокируют доступ к операционной системе. При включении компьютера пользователь видит всплывающее окно, в котором обычно его в чем-то обвиняют: нарушении авторских прав или скачивании пиратского программного обеспечения. Далее, следуют угрозы полного удаления всей информации с компьютера. Для того чтобы этого избежать пользователь должен пополнить счет определенного телефона или отослать СМС. Только вот, даже если пользователь проделает все эти операции, баннер с угрозами никуда не денетс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2" name="Picture 7" descr="Trojan"/>
          <p:cNvPicPr/>
          <p:nvPr/>
        </p:nvPicPr>
        <p:blipFill>
          <a:blip r:embed="rId2"/>
          <a:stretch/>
        </p:blipFill>
        <p:spPr>
          <a:xfrm>
            <a:off x="2362320" y="3657600"/>
            <a:ext cx="4572000" cy="2666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762120" y="-55440"/>
            <a:ext cx="6791040" cy="1549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поражают загрузочный сектор винчестера (жесткого диска). Их целью является существенное замедление процесса загрузки операционной системы. После длительного воздействия этих вирусов на компьютер существует большая вероятность не загрузить операционную систему совсем.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5" name="Picture 4" descr="img3 (1)"/>
          <p:cNvPicPr/>
          <p:nvPr/>
        </p:nvPicPr>
        <p:blipFill>
          <a:blip r:embed="rId2"/>
          <a:stretch/>
        </p:blipFill>
        <p:spPr>
          <a:xfrm>
            <a:off x="2743200" y="33526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3T10:26:07Z</dcterms:created>
  <dc:creator>1 курс</dc:creator>
  <dc:description/>
  <dc:language>en-US</dc:language>
  <cp:lastModifiedBy>User</cp:lastModifiedBy>
  <dcterms:modified xsi:type="dcterms:W3CDTF">2021-03-10T09:15:4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