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CD03-19A1-4719-9D5C-F311BAD1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1EB1-AC72-4CD8-88E6-DFE3F5E7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6C3-D3B5-4321-B0AF-7914C06F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2AC-0A90-461C-9AE4-E42E2C48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2FB-4821-4655-BFC6-EED486E3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DAE-B48B-441F-9C14-C16B6BC3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D2F-9AD5-4A6C-84AD-6BFF9B6D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94F-C1A9-44D7-A301-2D5EAF91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4C6-D5FD-4940-B302-29DF8C23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DA3-72EB-4704-8ABE-AC7C1FE8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24D-8E89-49D8-8CFB-90EEE67F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677-65C0-49B3-B2C0-91399893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3E8A-874A-417F-9E73-FC1DE52A04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ольклорный стил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сточного танц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САИД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2143080"/>
            <a:ext cx="42148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народный танец пришедший к нам из Южного Египта из региона под названием Саид или Верхний Егип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го можно танцевать с тростью или без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h101zmNIrm4.jpg"/>
          <p:cNvPicPr/>
          <p:nvPr/>
        </p:nvPicPr>
        <p:blipFill>
          <a:blip r:embed="rId1"/>
          <a:stretch/>
        </p:blipFill>
        <p:spPr>
          <a:xfrm>
            <a:off x="5214960" y="20001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56760"/>
            <a:ext cx="4829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нский костюм похож на костюм для Балади - галапея - длинное прямое платье, с использованием шарфа или платка вокруг бёдер и длинного платка, покрывающего голов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0R-TC_O8G0E.jpg"/>
          <p:cNvPicPr/>
          <p:nvPr/>
        </p:nvPicPr>
        <p:blipFill>
          <a:blip r:embed="rId1"/>
          <a:stretch/>
        </p:blipFill>
        <p:spPr>
          <a:xfrm>
            <a:off x="5214960" y="428760"/>
            <a:ext cx="3643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$_3.jpg"/>
          <p:cNvPicPr/>
          <p:nvPr/>
        </p:nvPicPr>
        <p:blipFill>
          <a:blip r:embed="rId1"/>
          <a:stretch/>
        </p:blipFill>
        <p:spPr>
          <a:xfrm>
            <a:off x="824040" y="285840"/>
            <a:ext cx="74959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«Саиди» с тростью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340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ахтиб – исполняется мужчинами с одной или двумя специальными толстыми прямыми тростями. Этот танец изображает бой или навыки владения оруж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001.jpg"/>
          <p:cNvPicPr/>
          <p:nvPr/>
        </p:nvPicPr>
        <p:blipFill>
          <a:blip r:embed="rId1"/>
          <a:stretch/>
        </p:blipFill>
        <p:spPr>
          <a:xfrm>
            <a:off x="4071960" y="1357200"/>
            <a:ext cx="46432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ks al Assa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571400"/>
            <a:ext cx="32576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ереводится как танец с тростью. Исполняется женщинами или женщинами и мужчинами вместе. В танце используются одна, реже 2 обычных трости  и демонстрируется владение тростью или трюк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003.jpg"/>
          <p:cNvPicPr/>
          <p:nvPr/>
        </p:nvPicPr>
        <p:blipFill>
          <a:blip r:embed="rId1"/>
          <a:stretch/>
        </p:blipFill>
        <p:spPr>
          <a:xfrm>
            <a:off x="3643200" y="1571760"/>
            <a:ext cx="3286080" cy="3071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004.jpg"/>
          <p:cNvPicPr/>
          <p:nvPr/>
        </p:nvPicPr>
        <p:blipFill>
          <a:blip r:embed="rId2"/>
          <a:stretch/>
        </p:blipFill>
        <p:spPr>
          <a:xfrm>
            <a:off x="6500880" y="3429000"/>
            <a:ext cx="2286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трост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368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ычная трость или ассайя. Она изготавливается из бамбука. При выборе трости следим, чтобы она была прямая, не гнулась, не была слишком длиной или коротк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005.jpg"/>
          <p:cNvPicPr/>
          <p:nvPr/>
        </p:nvPicPr>
        <p:blipFill>
          <a:blip r:embed="rId1"/>
          <a:stretch/>
        </p:blipFill>
        <p:spPr>
          <a:xfrm>
            <a:off x="4786200" y="1500120"/>
            <a:ext cx="27147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нкие декоративные тро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006.jpg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лстые украшены бисером тр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007.jpg"/>
          <p:cNvPicPr/>
          <p:nvPr/>
        </p:nvPicPr>
        <p:blipFill>
          <a:blip r:embed="rId1"/>
          <a:stretch/>
        </p:blipFill>
        <p:spPr>
          <a:xfrm>
            <a:off x="714240" y="1857240"/>
            <a:ext cx="72867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ециальные прямые мужские трости для исполнения танц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ахтиб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002.jpg"/>
          <p:cNvPicPr/>
          <p:nvPr/>
        </p:nvPicPr>
        <p:blipFill>
          <a:blip r:embed="rId1"/>
          <a:stretch/>
        </p:blipFill>
        <p:spPr>
          <a:xfrm>
            <a:off x="2357280" y="2000160"/>
            <a:ext cx="43578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зыка для танца «Саид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840" y="1285560"/>
            <a:ext cx="59292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ет свой собственный ритм легко узнаваемый .  Оркестр играет на традиционных инструментах, как «рабаба» (прародитель современной скрипки), «мизмар» (рожок) и разных ударных инструментах. Движения самой трости следуют ритму музы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саиди.jpg"/>
          <p:cNvPicPr/>
          <p:nvPr/>
        </p:nvPicPr>
        <p:blipFill>
          <a:blip r:embed="rId1"/>
          <a:stretch/>
        </p:blipFill>
        <p:spPr>
          <a:xfrm>
            <a:off x="6215040" y="1428840"/>
            <a:ext cx="2714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стюм для танца «Саиди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356840"/>
            <a:ext cx="44719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диционный мужской костюм для Саиди состоит из длинных брюк, рубашки с широкими рукавами и округлённым воротником, а также длинного шарфа, обёрнутого вокруг гол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saidi01.jpg"/>
          <p:cNvPicPr/>
          <p:nvPr/>
        </p:nvPicPr>
        <p:blipFill>
          <a:blip r:embed="rId1"/>
          <a:stretch/>
        </p:blipFill>
        <p:spPr>
          <a:xfrm>
            <a:off x="5214960" y="1500120"/>
            <a:ext cx="36432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1T14:32:21Z</dcterms:created>
  <dc:creator>User</dc:creator>
  <dc:description/>
  <dc:language>en-US</dc:language>
  <cp:lastModifiedBy>User</cp:lastModifiedBy>
  <dcterms:modified xsi:type="dcterms:W3CDTF">2016-12-27T13:54:05Z</dcterms:modified>
  <cp:revision>11</cp:revision>
  <dc:subject/>
  <dc:title>Фольклорный стиль  восточного танца «</dc:title>
</cp:coreProperties>
</file>