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34.jpeg" ContentType="image/jpeg"/>
  <Override PartName="/ppt/media/image36.jpeg" ContentType="image/jpeg"/>
  <Override PartName="/ppt/media/image20.png" ContentType="image/pn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0.png" ContentType="image/png"/>
  <Override PartName="/ppt/media/image35.jpeg" ContentType="image/jpeg"/>
  <Override PartName="/ppt/media/image13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712D-BF35-4744-997A-0C7DB52DB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FE9E-97A1-4B30-BC22-E23E4E9A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32D6-E777-433A-9767-78FA1FFB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8E10-0791-4678-A635-52EBB1FEA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58F1-749D-4660-9A48-B951B4DA8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165D-24E5-4D7D-BAD7-8C709D23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396E-513A-433E-9C5A-7451AD57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3C44-F018-4965-A9CC-648F352F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C1E6-5E67-44C2-A7FE-CFF77464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1B5F-54BA-4FAA-9057-A8D084EC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13BD-C734-4CEC-8C3F-C48BCC45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C912-4295-4613-8EBF-F6F413A1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D289-54D7-428D-B496-843CF243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4132-A663-428E-A987-35966EEF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8774-15CA-4FD4-B509-762E00F5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30A7-D883-46DA-B2B6-3CBBB254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6ECB-0E20-42C9-8C6A-5B813E304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3BD04-1480-4E3D-9089-79E1809F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AA4D3-8C24-4C5C-8C6F-C6260AF7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9523B-8067-4A25-96FF-7BF46CB3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27554-76A2-4C51-8F2F-05A0A548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BC4F3-7965-4247-8FC4-09562516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509B-1D29-40CB-A55C-5399701F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4C572-0409-4F08-9E89-7BF78314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C0231-5F5D-48A7-AC39-231D7DC7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51B47-AC19-4F85-BF01-00F7997E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06D0D-0BBC-4194-8195-D9D0EEF1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9E731-1F37-4D8E-B49B-8C7274B8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7358A-C658-48F8-A033-1F2E759DF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A56A2-36FB-419D-AAFC-C7286AFC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468A8-2A95-429B-A26C-2546D1F5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55D64-CDDB-4683-BCD6-2DBC2626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8CEEB-14AF-4ABC-9DA9-5F370441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23DF-3C21-48BE-B55F-24320330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04E2B-0A83-4C33-AC6F-528006AD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275B9-A517-40D1-878C-73C3A8DB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3F8FC-38DB-4DD8-A6A6-B6FC70CA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09811-6D78-4AB6-A3AC-AC43921F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39E8F-9578-4EE5-B3C9-DB087E6D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14265-95FD-458B-B087-023EC69E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2A65F-3F11-4AA3-8AD6-6F91F784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D1F96-FF8A-4483-8C6F-16FE16D77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C5AE1-B406-45C4-BB98-5CA982BA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DD2A5-F5DA-49F6-B6E6-D17544A83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102F-96AB-4FA3-99FE-16B55FAE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53175-801F-4751-BD36-7C62551C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DD8E6-5CA7-491A-B5A4-151671A0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B4CAF-3707-4732-A058-B40D9152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E6B42-81F6-4C55-9F59-93BBEAD4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0BA64-25DF-41DB-96B2-D7AE73F6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A0980-275B-4471-B58C-8E4D0A0B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C2FC3-96F1-4FFB-B0D8-69EAD504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37BEB-8A73-4D9C-A762-7CFEF288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579BF-7212-4721-BA6D-E8C404FC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FA97C-5447-4E21-B6FD-4C0E3AB22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C86D-2B37-4F7E-911C-B8C63CB7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D0EB0-4C24-4C77-B9EB-BBE05A1E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8EDE-2E7F-49CE-B553-C3EF7863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4E65-B9CD-4A9F-AEFB-4963EB3B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988A-497A-4A5F-A895-9160F1A6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87429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45FC-D0F3-4A33-BB48-3105A5AAE290}" type="slidenum"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3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87429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D186-E55C-4439-8B2E-6CC38D96BD1A}" type="slidenum"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9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10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2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87429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1B9D-26C3-4CB8-8AE2-64E409B9F0B5}" type="slidenum"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57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87429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839F-DA69-4D06-956F-15939532408B}" type="slidenum"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3f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cap="rnd" w="3240">
            <a:solidFill>
              <a:srgbClr val="d6c0c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07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1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12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4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fd6e2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4e7e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alibri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spcBef>
                <a:spcPts val="601"/>
              </a:spcBef>
              <a:buClr>
                <a:srgbClr val="87429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8a5a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186F-49D3-43BB-8E0A-72F46EDC4700}" type="slidenum">
              <a:rPr b="0" lang="ru-RU" sz="1200" spc="-1" strike="noStrike">
                <a:solidFill>
                  <a:srgbClr val="b8a5a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57200" y="214200"/>
            <a:ext cx="7407360" cy="19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34b73"/>
                </a:solidFill>
                <a:latin typeface="Times New Roman"/>
                <a:ea typeface="Times New Roman"/>
              </a:rPr>
              <a:t>Школьная служба примирения</a:t>
            </a:r>
            <a:endParaRPr b="0" lang="en-US" sz="60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258" name="TextBox 4"/>
          <p:cNvSpPr/>
          <p:nvPr/>
        </p:nvSpPr>
        <p:spPr>
          <a:xfrm>
            <a:off x="1733400" y="4157640"/>
            <a:ext cx="700092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аленко  Елена Юрьевн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ный работник,  заместитель директор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чебно – воспитательной рабо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СОШ «Патриот» с кадетскими классами»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гельсского муниципального район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ратовской обла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4" descr="&amp;Scy;&amp;ocy;&amp;tcy;&amp;rcy;&amp;ucy;&amp;dcy;&amp;ncy;&amp;icy;&amp;kcy; &amp;Kcy;&amp;Rcy;&amp;Mcy;&amp;Ocy;&amp;Ocy; &amp;TScy;&amp;iecy;&amp;ncy;&amp;tcy;&amp;rcy; «&amp;Scy;&amp;ocy;&amp;tcy;&amp;rcy;&amp;ucy;&amp;dcy;&amp;ncy;&amp;icy;&amp;chcy;&amp;iecy;&amp;scy;&amp;tcy;&amp;vcy;&amp;ocy;» &amp;pcy;&amp;rcy;&amp;icy;&amp;ncy;&amp;yacy;&amp;lcy; &amp;ucy;&amp;chcy;&amp;acy;&amp;scy;&amp;tcy;&amp;icy;&amp;iecy; &amp;vcy; &amp;Mcy;&amp;ocy;&amp;scy;&amp;kcy;&amp;ocy;&amp;vcy;&amp;scy;&amp;kcy;&amp;ocy;&amp;jcy; &amp;kcy;&amp;ocy;&amp;ncy;&amp;fcy;&amp;iecy;&amp;rcy;&amp;iecy;&amp;ncy;&amp;tscy;&amp;icy;&amp;icy; &amp;pcy;&amp;ocy; &amp;vcy;&amp;ocy;&amp;scy;&amp;scy;&amp;tcy;&amp;acy;&amp;ncy;&amp;ocy;&amp;vcy;&amp;icy;&amp;tcy;&amp;iecy;&amp;lcy;&amp;softcy;&amp;ncy;&amp;ycy;&amp;mcy; &amp;pcy;&amp;rcy;&amp;acy;&amp;kcy;&amp;tcy;&amp;icy;&amp;kcy;&amp;acy;&amp;mcy;"/>
          <p:cNvPicPr/>
          <p:nvPr/>
        </p:nvPicPr>
        <p:blipFill>
          <a:blip r:embed="rId1"/>
          <a:stretch/>
        </p:blipFill>
        <p:spPr>
          <a:xfrm>
            <a:off x="3857760" y="2286000"/>
            <a:ext cx="24987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E:\21.10.14\IMG_0642.JPG"/>
          <p:cNvPicPr/>
          <p:nvPr/>
        </p:nvPicPr>
        <p:blipFill>
          <a:blip r:embed="rId1"/>
          <a:stretch/>
        </p:blipFill>
        <p:spPr>
          <a:xfrm>
            <a:off x="855720" y="3929040"/>
            <a:ext cx="3571920" cy="23814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E:\21.10.14\IMG_0634.JPG"/>
          <p:cNvPicPr/>
          <p:nvPr/>
        </p:nvPicPr>
        <p:blipFill>
          <a:blip r:embed="rId2"/>
          <a:stretch/>
        </p:blipFill>
        <p:spPr>
          <a:xfrm>
            <a:off x="4827600" y="981000"/>
            <a:ext cx="3963960" cy="26431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E:\21.10.14\IMG_0632.JPG"/>
          <p:cNvPicPr/>
          <p:nvPr/>
        </p:nvPicPr>
        <p:blipFill>
          <a:blip r:embed="rId3"/>
          <a:stretch/>
        </p:blipFill>
        <p:spPr>
          <a:xfrm>
            <a:off x="857160" y="1123920"/>
            <a:ext cx="3535560" cy="2357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E:\21.10.14\IMG_0630.JPG"/>
          <p:cNvPicPr/>
          <p:nvPr/>
        </p:nvPicPr>
        <p:blipFill>
          <a:blip r:embed="rId4"/>
          <a:stretch/>
        </p:blipFill>
        <p:spPr>
          <a:xfrm>
            <a:off x="4786200" y="3786120"/>
            <a:ext cx="4000680" cy="2667240"/>
          </a:xfrm>
          <a:prstGeom prst="rect">
            <a:avLst/>
          </a:prstGeom>
          <a:ln w="0">
            <a:noFill/>
          </a:ln>
        </p:spPr>
      </p:pic>
      <p:sp>
        <p:nvSpPr>
          <p:cNvPr id="281" name="Прямоугольник 7"/>
          <p:cNvSpPr/>
          <p:nvPr/>
        </p:nvSpPr>
        <p:spPr>
          <a:xfrm>
            <a:off x="2606760" y="16992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Работа медиатор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60480" y="836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br>
              <a:rPr sz="4300"/>
            </a:b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- драки; </a:t>
            </a:r>
            <a:br>
              <a:rPr sz="4300"/>
            </a:br>
            <a:r>
              <a:rPr b="0" lang="ru-RU" sz="4300" spc="-1" strike="noStrike">
                <a:solidFill>
                  <a:srgbClr val="c22ea4"/>
                </a:solidFill>
                <a:latin typeface="Calibri"/>
              </a:rPr>
              <a:t>                                   </a:t>
            </a: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- оскорбления; </a:t>
            </a:r>
            <a:br>
              <a:rPr sz="4300"/>
            </a:br>
            <a:br>
              <a:rPr sz="4300"/>
            </a:b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                - ссоры</a:t>
            </a:r>
            <a:br>
              <a:rPr sz="4300"/>
            </a:b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pic>
        <p:nvPicPr>
          <p:cNvPr id="283" name="Picture 3" descr="J:\о шк. дружбе\498171-a2ed7218971323e5.jpg"/>
          <p:cNvPicPr/>
          <p:nvPr/>
        </p:nvPicPr>
        <p:blipFill>
          <a:blip r:embed="rId1"/>
          <a:stretch/>
        </p:blipFill>
        <p:spPr>
          <a:xfrm>
            <a:off x="5127480" y="4521240"/>
            <a:ext cx="2305080" cy="22352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J:\о шк. дружбе\12717403.jpg"/>
          <p:cNvPicPr/>
          <p:nvPr/>
        </p:nvPicPr>
        <p:blipFill>
          <a:blip r:embed="rId2"/>
          <a:stretch/>
        </p:blipFill>
        <p:spPr>
          <a:xfrm>
            <a:off x="6012000" y="12682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J:\о шк. дружбе\poza_001_00071375_1182826207_00.jpg"/>
          <p:cNvPicPr/>
          <p:nvPr/>
        </p:nvPicPr>
        <p:blipFill>
          <a:blip r:embed="rId3"/>
          <a:stretch/>
        </p:blipFill>
        <p:spPr>
          <a:xfrm>
            <a:off x="3132000" y="1601640"/>
            <a:ext cx="2168640" cy="2168640"/>
          </a:xfrm>
          <a:prstGeom prst="rect">
            <a:avLst/>
          </a:prstGeom>
          <a:ln w="0">
            <a:noFill/>
          </a:ln>
        </p:spPr>
      </p:pic>
      <p:sp>
        <p:nvSpPr>
          <p:cNvPr id="286" name="Прямоугольник 8"/>
          <p:cNvSpPr/>
          <p:nvPr/>
        </p:nvSpPr>
        <p:spPr>
          <a:xfrm>
            <a:off x="1044360" y="333360"/>
            <a:ext cx="51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b13f9a"/>
                </a:solidFill>
                <a:uFillTx/>
                <a:latin typeface="Times New Roman"/>
                <a:ea typeface="Times New Roman"/>
              </a:rPr>
              <a:t>Разрешаем ситуации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22ea4"/>
                </a:solidFill>
                <a:latin typeface="Calibri"/>
              </a:rPr>
              <a:t>Организация профилактики</a:t>
            </a: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" descr="C:\Users\Учитель\Desktop\уполномоч\P1100015.JPG"/>
          <p:cNvPicPr/>
          <p:nvPr/>
        </p:nvPicPr>
        <p:blipFill>
          <a:blip r:embed="rId2"/>
          <a:stretch/>
        </p:blipFill>
        <p:spPr>
          <a:xfrm rot="20821800">
            <a:off x="1952280" y="1419120"/>
            <a:ext cx="3106800" cy="20718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" descr="C:\Users\Учитель\Desktop\уполномоч\P1100454.JPG"/>
          <p:cNvPicPr/>
          <p:nvPr/>
        </p:nvPicPr>
        <p:blipFill>
          <a:blip r:embed="rId3"/>
          <a:stretch/>
        </p:blipFill>
        <p:spPr>
          <a:xfrm>
            <a:off x="3780000" y="3357720"/>
            <a:ext cx="3095640" cy="16905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" descr="C:\Users\Учитель\Desktop\уполномоч\P1090503.JPG"/>
          <p:cNvPicPr/>
          <p:nvPr/>
        </p:nvPicPr>
        <p:blipFill>
          <a:blip r:embed="rId4"/>
          <a:stretch/>
        </p:blipFill>
        <p:spPr>
          <a:xfrm rot="20818800">
            <a:off x="1700280" y="4738680"/>
            <a:ext cx="2892240" cy="19288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C:\Users\Учитель\Desktop\уполномоч\P1100521.JPG"/>
          <p:cNvPicPr/>
          <p:nvPr/>
        </p:nvPicPr>
        <p:blipFill>
          <a:blip r:embed="rId5"/>
          <a:stretch/>
        </p:blipFill>
        <p:spPr>
          <a:xfrm rot="644400">
            <a:off x="5767200" y="4539960"/>
            <a:ext cx="2678040" cy="17859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C:\Users\Учитель\Desktop\уполномоч\P1100482.JPG"/>
          <p:cNvPicPr/>
          <p:nvPr/>
        </p:nvPicPr>
        <p:blipFill>
          <a:blip r:embed="rId6"/>
          <a:stretch/>
        </p:blipFill>
        <p:spPr>
          <a:xfrm>
            <a:off x="611280" y="3000240"/>
            <a:ext cx="2357280" cy="15717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C:\Users\Учитель\Desktop\уполномоч\P1100014.JPG"/>
          <p:cNvPicPr/>
          <p:nvPr/>
        </p:nvPicPr>
        <p:blipFill>
          <a:blip r:embed="rId7"/>
          <a:stretch/>
        </p:blipFill>
        <p:spPr>
          <a:xfrm rot="693600">
            <a:off x="5789520" y="1455480"/>
            <a:ext cx="31435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олерантность – искусство жить вместе»</a:t>
            </a:r>
            <a:endParaRPr b="0" lang="en-US" sz="2800" spc="-1" strike="noStrike">
              <a:solidFill>
                <a:srgbClr val="c22ea4"/>
              </a:solidFill>
              <a:latin typeface="Calibri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C:\Users\Учитель\Desktop\уполномоч\P1090514.JPG"/>
          <p:cNvPicPr/>
          <p:nvPr/>
        </p:nvPicPr>
        <p:blipFill>
          <a:blip r:embed="rId2"/>
          <a:srcRect l="19354" t="0" r="6451" b="10524"/>
          <a:stretch/>
        </p:blipFill>
        <p:spPr>
          <a:xfrm>
            <a:off x="3000240" y="1357200"/>
            <a:ext cx="3143520" cy="25275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C:\Users\Учитель\Desktop\уполномоч\P1090926.JPG"/>
          <p:cNvPicPr/>
          <p:nvPr/>
        </p:nvPicPr>
        <p:blipFill>
          <a:blip r:embed="rId3"/>
          <a:stretch/>
        </p:blipFill>
        <p:spPr>
          <a:xfrm rot="1474800">
            <a:off x="5308560" y="3419280"/>
            <a:ext cx="4071960" cy="27144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C:\Users\Учитель\Desktop\уполномоч\P1090923.JPG"/>
          <p:cNvPicPr/>
          <p:nvPr/>
        </p:nvPicPr>
        <p:blipFill>
          <a:blip r:embed="rId4"/>
          <a:stretch/>
        </p:blipFill>
        <p:spPr>
          <a:xfrm rot="19903800">
            <a:off x="-182160" y="3432240"/>
            <a:ext cx="396720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курс рисунков «Я выбираю МИР» и «Мирись, мирись и больше не дерись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и толерантности в 5-6 класс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ция «День спонтанного проявления доброт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нинги  «Цвета толерантност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22ea4"/>
                </a:solidFill>
                <a:latin typeface="Calibri"/>
              </a:rPr>
              <a:t>Некоторые мероприятия</a:t>
            </a: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28480" y="28548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22ea4"/>
                </a:solidFill>
                <a:latin typeface="Calibri"/>
              </a:rPr>
              <a:t>Просветительская деятельность</a:t>
            </a:r>
            <a:br>
              <a:rPr sz="3900"/>
            </a:br>
            <a:endParaRPr b="0" lang="en-US" sz="3900" spc="-1" strike="noStrike">
              <a:solidFill>
                <a:srgbClr val="c22ea4"/>
              </a:solidFill>
              <a:latin typeface="Calibri"/>
            </a:endParaRPr>
          </a:p>
        </p:txBody>
      </p:sp>
      <p:pic>
        <p:nvPicPr>
          <p:cNvPr id="304" name="Группа 3" descr=""/>
          <p:cNvPicPr/>
          <p:nvPr/>
        </p:nvPicPr>
        <p:blipFill>
          <a:blip r:embed="rId1"/>
          <a:stretch/>
        </p:blipFill>
        <p:spPr>
          <a:xfrm>
            <a:off x="3786120" y="2895480"/>
            <a:ext cx="1571760" cy="1103400"/>
          </a:xfrm>
          <a:prstGeom prst="rect">
            <a:avLst/>
          </a:prstGeom>
          <a:ln w="0">
            <a:noFill/>
          </a:ln>
        </p:spPr>
      </p:pic>
      <p:pic>
        <p:nvPicPr>
          <p:cNvPr id="305" name="Схема 6" descr=""/>
          <p:cNvPicPr/>
          <p:nvPr/>
        </p:nvPicPr>
        <p:blipFill>
          <a:blip r:embed="rId2"/>
          <a:stretch/>
        </p:blipFill>
        <p:spPr>
          <a:xfrm>
            <a:off x="1359000" y="1189080"/>
            <a:ext cx="585936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just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c22ea4"/>
                </a:solidFill>
                <a:latin typeface="Times New Roman"/>
                <a:ea typeface="Times New Roman"/>
              </a:rPr>
              <a:t>Просветительская деятельность</a:t>
            </a:r>
            <a:br>
              <a:rPr sz="3200"/>
            </a:br>
            <a:endParaRPr b="0" lang="en-US" sz="3600" spc="-1" strike="noStrike">
              <a:solidFill>
                <a:srgbClr val="c22ea4"/>
              </a:solidFill>
              <a:latin typeface="Calibri"/>
            </a:endParaRPr>
          </a:p>
        </p:txBody>
      </p:sp>
      <p:pic>
        <p:nvPicPr>
          <p:cNvPr id="307" name="Picture 2" descr="J:\уполномоч\P1060987.JPG"/>
          <p:cNvPicPr/>
          <p:nvPr/>
        </p:nvPicPr>
        <p:blipFill>
          <a:blip r:embed="rId1"/>
          <a:stretch/>
        </p:blipFill>
        <p:spPr>
          <a:xfrm>
            <a:off x="1187280" y="1557360"/>
            <a:ext cx="3598920" cy="23972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J:\уполномоч\P1090940.JPG"/>
          <p:cNvPicPr/>
          <p:nvPr/>
        </p:nvPicPr>
        <p:blipFill>
          <a:blip r:embed="rId2"/>
          <a:stretch/>
        </p:blipFill>
        <p:spPr>
          <a:xfrm>
            <a:off x="31680" y="4221000"/>
            <a:ext cx="3819600" cy="25927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" descr="J:\уполномоч\P1090351.JPG"/>
          <p:cNvPicPr/>
          <p:nvPr/>
        </p:nvPicPr>
        <p:blipFill>
          <a:blip r:embed="rId3"/>
          <a:stretch/>
        </p:blipFill>
        <p:spPr>
          <a:xfrm>
            <a:off x="5975280" y="1557360"/>
            <a:ext cx="3168720" cy="2400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J:\уполномоч\P1090491.JPG"/>
          <p:cNvPicPr/>
          <p:nvPr/>
        </p:nvPicPr>
        <p:blipFill>
          <a:blip r:embed="rId4"/>
          <a:stretch/>
        </p:blipFill>
        <p:spPr>
          <a:xfrm>
            <a:off x="5740560" y="4276800"/>
            <a:ext cx="340344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c22ea4"/>
                </a:solidFill>
                <a:latin typeface="Calibri"/>
              </a:rPr>
              <a:t>Результаты деятельности ШСП:</a:t>
            </a:r>
            <a:r>
              <a:rPr b="1" i="1" lang="ru-RU" sz="4000" spc="-1" strike="noStrike">
                <a:solidFill>
                  <a:srgbClr val="c22ea4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116000" y="1447560"/>
            <a:ext cx="781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Снижение количества правонарушений среди детей и подростков;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Снижение уровня конфликтности в школе;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Снижение числа вновь выявленных детей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 группы риска»;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Улучшение психологического микроклимата в классе, школе.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22ea4"/>
                </a:solidFill>
                <a:latin typeface="Calibri"/>
              </a:rPr>
              <a:t>Благодарю за внимание!</a:t>
            </a: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pic>
        <p:nvPicPr>
          <p:cNvPr id="314" name="Picture 2" descr="J:\о шк. дружбе\egyuttmuk.jpg"/>
          <p:cNvPicPr/>
          <p:nvPr/>
        </p:nvPicPr>
        <p:blipFill>
          <a:blip r:embed="rId1"/>
          <a:stretch/>
        </p:blipFill>
        <p:spPr>
          <a:xfrm>
            <a:off x="1042920" y="1341360"/>
            <a:ext cx="78631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1258560" y="54900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691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азе школы открыта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91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ональная инновационная площадка 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апробации модели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91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«Школьной Службы Примирения»(ШСП)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образования Саратовской области № 1418 от 29.05.2014 г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91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лужб школьной медиации является важнейшей социальной инновацией, оно востребовано жизнью и становится одной из приоритетных задач в области современного воспитания и образования, особенно в направлении уважения прав, свобод и обязанностей человек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3" descr="J:\о шк. дружбе\0_a5141_e3e06828_XL.jpg"/>
          <p:cNvPicPr/>
          <p:nvPr/>
        </p:nvPicPr>
        <p:blipFill>
          <a:blip r:embed="rId1"/>
          <a:stretch/>
        </p:blipFill>
        <p:spPr>
          <a:xfrm>
            <a:off x="-9360" y="-11160"/>
            <a:ext cx="1384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999720" y="692280"/>
            <a:ext cx="792972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0000" indent="-90000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900000" indent="-90000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900000" indent="-90000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СП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форма социально-психологической помощи всем участникам образовательного процесса в конфликтах, тяжелых жизненных ситуациях, случаях правонарушений обучающих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00000" indent="-900000" algn="just">
              <a:lnSpc>
                <a:spcPct val="11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900000" indent="-90000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900000" indent="-900000">
              <a:lnSpc>
                <a:spcPct val="11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Прямоугольник 2"/>
          <p:cNvSpPr/>
          <p:nvPr/>
        </p:nvSpPr>
        <p:spPr>
          <a:xfrm>
            <a:off x="1023840" y="514440"/>
            <a:ext cx="4824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b13f9a"/>
                </a:solidFill>
                <a:uFillTx/>
                <a:latin typeface="Times New Roman"/>
                <a:ea typeface="Tahoma"/>
              </a:rPr>
              <a:t>Структура службы примир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В школьную службу примирения входит несколько взрослых кураторов, а также школьники старших классов, поскольку у них лучше взаимопонимание со сверстникам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Все участники школьной службы примирения  отбираются и проходят обучение. Кураторы взаимодействуют с администрацией школы и с научным руководителем площад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2" descr="J:\о шк. дружбе\nash_vybor.png"/>
          <p:cNvPicPr/>
          <p:nvPr/>
        </p:nvPicPr>
        <p:blipFill>
          <a:blip r:embed="rId1"/>
          <a:stretch/>
        </p:blipFill>
        <p:spPr>
          <a:xfrm>
            <a:off x="5848200" y="1596960"/>
            <a:ext cx="32958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47322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Организационное собрание обучающихся, учителей и родителей</a:t>
            </a:r>
            <a:endParaRPr b="0" lang="en-US" sz="2800" spc="-1" strike="noStrike">
              <a:solidFill>
                <a:srgbClr val="c22ea4"/>
              </a:solidFill>
              <a:latin typeface="Calibri"/>
            </a:endParaRPr>
          </a:p>
        </p:txBody>
      </p:sp>
      <p:pic>
        <p:nvPicPr>
          <p:cNvPr id="266" name="Picture 4" descr="J:\фото ШСП\фото ШСП\P1070146.JPG"/>
          <p:cNvPicPr/>
          <p:nvPr/>
        </p:nvPicPr>
        <p:blipFill>
          <a:blip r:embed="rId1"/>
          <a:stretch/>
        </p:blipFill>
        <p:spPr>
          <a:xfrm>
            <a:off x="179280" y="3662280"/>
            <a:ext cx="4392720" cy="29289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J:\фото ШСП\фото ШСП\P1070144.JPG"/>
          <p:cNvPicPr/>
          <p:nvPr/>
        </p:nvPicPr>
        <p:blipFill>
          <a:blip r:embed="rId2"/>
          <a:stretch/>
        </p:blipFill>
        <p:spPr>
          <a:xfrm>
            <a:off x="5025960" y="4005360"/>
            <a:ext cx="3760920" cy="25858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G:\фото ШСП\P1070151.JPG"/>
          <p:cNvPicPr/>
          <p:nvPr/>
        </p:nvPicPr>
        <p:blipFill>
          <a:blip r:embed="rId3"/>
          <a:stretch/>
        </p:blipFill>
        <p:spPr>
          <a:xfrm>
            <a:off x="5429160" y="696960"/>
            <a:ext cx="335772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3"/>
          <p:cNvSpPr/>
          <p:nvPr/>
        </p:nvSpPr>
        <p:spPr>
          <a:xfrm>
            <a:off x="2206440" y="620640"/>
            <a:ext cx="474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b13f9a"/>
                </a:solidFill>
                <a:latin typeface="Times New Roman"/>
                <a:ea typeface="Times New Roman"/>
              </a:rPr>
              <a:t>Обучение, тренинг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0" name="Picture 2" descr="http://kadetsc64.ucoz.ru/_nw/4/62617074.jpg"/>
          <p:cNvPicPr/>
          <p:nvPr/>
        </p:nvPicPr>
        <p:blipFill>
          <a:blip r:embed="rId1"/>
          <a:stretch/>
        </p:blipFill>
        <p:spPr>
          <a:xfrm>
            <a:off x="1971720" y="1989000"/>
            <a:ext cx="578628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голок Уполномоченного по ЗПУОО, 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голок ШСП</a:t>
            </a:r>
            <a:endParaRPr b="0" lang="en-US" sz="2800" spc="-1" strike="noStrike">
              <a:solidFill>
                <a:srgbClr val="c22ea4"/>
              </a:solidFill>
              <a:latin typeface="Calibri"/>
            </a:endParaRPr>
          </a:p>
        </p:txBody>
      </p:sp>
      <p:pic>
        <p:nvPicPr>
          <p:cNvPr id="272" name="Picture 3" descr="J:\уполномоч\P1100560.JPG"/>
          <p:cNvPicPr/>
          <p:nvPr/>
        </p:nvPicPr>
        <p:blipFill>
          <a:blip r:embed="rId1"/>
          <a:stretch/>
        </p:blipFill>
        <p:spPr>
          <a:xfrm>
            <a:off x="1403280" y="1341360"/>
            <a:ext cx="75614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c22ea4"/>
                </a:solidFill>
                <a:latin typeface="Calibri"/>
              </a:rPr>
              <a:t>Направления ШСП:</a:t>
            </a:r>
            <a:br>
              <a:rPr sz="3900"/>
            </a:br>
            <a:endParaRPr b="0" lang="en-US" sz="3900" spc="-1" strike="noStrike">
              <a:solidFill>
                <a:srgbClr val="c22ea4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лизация восстановительных програм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я профилактики конфликтных ситуаци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светительская деятельность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я взаимодействия с социум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номеди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22ea4"/>
                </a:solidFill>
                <a:latin typeface="Calibri"/>
              </a:rPr>
              <a:t>Источники информации: </a:t>
            </a:r>
            <a:endParaRPr b="0" lang="en-US" sz="4300" spc="-1" strike="noStrike">
              <a:solidFill>
                <a:srgbClr val="c22ea4"/>
              </a:solidFill>
              <a:latin typeface="Calibri"/>
            </a:endParaRPr>
          </a:p>
        </p:txBody>
      </p:sp>
      <p:pic>
        <p:nvPicPr>
          <p:cNvPr id="276" name="Содержимое 3" descr=""/>
          <p:cNvPicPr/>
          <p:nvPr/>
        </p:nvPicPr>
        <p:blipFill>
          <a:blip r:embed="rId1"/>
          <a:stretch/>
        </p:blipFill>
        <p:spPr>
          <a:xfrm>
            <a:off x="1212840" y="1359000"/>
            <a:ext cx="74977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6T12:01:07Z</dcterms:created>
  <dc:creator>olga</dc:creator>
  <dc:description/>
  <dc:language>en-US</dc:language>
  <cp:lastModifiedBy>user</cp:lastModifiedBy>
  <dcterms:modified xsi:type="dcterms:W3CDTF">2018-04-18T08:11:30Z</dcterms:modified>
  <cp:revision>257</cp:revision>
  <dc:subject/>
  <dc:title>Школьные службы примирения</dc:title>
</cp:coreProperties>
</file>