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D9A-3292-4993-9781-82959603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B34-947F-48E3-9F5D-AA44C03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12E-AE00-4C1B-A7B8-9DA3CF72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A22-1D98-4E05-A4C6-C16A84EC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DD7-2CC5-4111-AC56-34FB1FD8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A297-5F17-4AB2-AFDD-39A18D0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D259-E2FC-4A30-96FB-DC6A8A81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0716-AE5E-496D-B500-57ADA3F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5FD0-F2D2-441C-898E-0D870E7D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2CB2-83A3-454B-843C-0F726D65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F6E2-595D-469D-B1EE-B93DB67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F1B-24D9-4499-81EC-560153DB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018A-3725-4EDA-810A-98F931F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E17B-08C6-4CA4-8191-4C554AF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7A5C-4AE0-49E0-827A-FF468C1D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C9B2-C6D9-4916-B007-A0250A40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3573-47F1-4F0B-9283-9665152A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B077-083B-4820-81A2-46D5C1BD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D506-7BBB-44B7-B3CB-6B38A7F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E7633-F3F9-4CD1-8F86-6F432732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64DF-8EBD-4085-80C7-5EAA148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B9B9-035B-47BE-95B2-2E8C4297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4F3-C628-492A-9EBE-5B1DC30A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F802-D26B-4D7B-BF60-F1AC6BB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E3EA-3A3C-4C6C-A119-FEFDD19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C7D1-3E5F-4C57-866A-61522F35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C9C0-9D40-4C68-B511-29035D1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DE36-2E39-41F1-B859-8A399141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431F-5A22-44AB-A3AE-B6F86FFD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7895-AF13-4C16-ABF5-ADB68D46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D603-A55F-4676-93C5-9E4D5C3A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48E7-DDAD-4B1E-9F17-8BAF73D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89A4-FA2C-40A0-95B2-A591482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FED-1A14-44FB-AF20-2C7992A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DC5C-B84D-40CD-8F0A-87A00F4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F085-9C7B-49AC-AFB2-05F7D8A0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3D2B-A1E3-413F-AA0B-86B9DA0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EC13-3DBF-4499-8B5A-EB21604C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3102-4C62-4BEC-B651-3569D3E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FA62-706B-441C-B6EB-2FEEE96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3BFE-1031-4CD1-BA60-3E721DAF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EFF0-7A4C-4D90-BD7F-DBA72D10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7C53-7640-4D66-A60A-8B1FA840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5DBAB-4065-491E-8892-134A2855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A36-6F06-43EA-888E-A144BF6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BF68F-BDA8-4A7B-B51F-E8F0048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8992-498E-4247-A3A8-E85EAE09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0C082-55EF-4A78-91B0-1AF2C850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82C92-23BA-4121-8B50-7CC9A32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63E4-0F76-49CE-B4F3-17A6B4A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D4804-74CC-4609-9F53-F17631E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517A-1A6F-4B4A-ADB1-4106B161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DFBC-BD17-420E-8537-50E756A4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1CD90-1EE4-4488-B84F-C559A01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56B1-CAB0-46B1-A18F-97392B35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665-E52D-4649-B9B0-6C72049B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E1E68-2B28-4F95-B48D-20F35C40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01C4-3667-4F6F-918D-63C498ED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B59CB-63EC-424C-A921-D252B04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9B3F0-F446-4F87-8EA6-2DC08B3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3D930-5084-4193-A8A3-9F1E77D0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7FE1-519A-4FD7-91F3-E4C94929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5449-C5E1-4442-89A6-7097075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B2D99-D917-40AC-84BC-3F4641F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CAF46-573E-463A-A248-4B49196F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BE10-9BAB-42EB-B519-04D70FE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FC5-84A5-4260-8F39-10054BEB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52C6-6608-400C-982E-6718613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4A179-5091-41D6-9D1B-96721386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F02C3-92F8-4A27-8A37-6C93C6F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0764-B0D1-4E57-8CE0-DFD6EC0F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C0AC0-E94E-4404-ABF1-0A6279EA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4968-06F6-42C9-BA33-54D98A1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A260-2E44-4178-9081-32161CBF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F72D-D8EE-4B1F-9E18-D2EDDAA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2480C-6217-44DF-A9DF-51074CD2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9D057-8BF3-416D-8F52-EC806A3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B67-E225-4EE1-8672-FD27824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F1A3D-8707-4778-BB50-268B5DE7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531C4-5252-44F1-AA16-D8E14C6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3BAC9-9CBC-402A-930A-3A6FD0E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925C-8617-4A90-94CB-F66BB8F6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A1FA6-D4E1-4A10-B0FB-71753669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E8ED-2138-4960-BE13-114249AA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1C6FF-FFC0-4CB5-BDC2-C73A4ABC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F8EA-371E-4402-BCA1-7FDFB00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FA7A-0E49-4D86-92FB-CB3B9E91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AD0FE-9721-41B8-A091-19CB95A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B4A-370B-4055-A427-FE4FDB1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6C0D6-A38D-4ACC-8C2F-0FDA3CD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100B-BCCB-47CF-88EC-278476D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A82A7-C991-4A84-98A6-59328069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8D8F3-D7D7-4154-8996-D90B2C1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6910-1A9C-45E2-8C1E-8B00F9A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C2AE-68D4-4A95-B62E-0402F3D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56BF5-0FB6-49AF-8602-F821C59E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36AB-C50B-4EC5-9608-2D36A5A1806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8672-44C0-46F8-9D36-1BD1B001705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DE18-7DD6-427F-B4A5-E4659694EFAF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C46-64C9-4E24-B9E8-ED3778517179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47F-16A2-4AC2-978F-5CE9D6B59FF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2CC8-E3CF-4626-8AC3-ECC27A122CE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09D-68D4-426C-BE5D-93E5F6A4ADF8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328-F68B-4646-B7B6-35B7A8DE94C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itizenship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Spotlight 10 Module 3 Across the curricul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стопка"/>
          <p:cNvPicPr/>
          <p:nvPr/>
        </p:nvPicPr>
        <p:blipFill>
          <a:blip r:embed="rId1"/>
          <a:stretch/>
        </p:blipFill>
        <p:spPr>
          <a:xfrm>
            <a:off x="6227640" y="404640"/>
            <a:ext cx="2592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74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short paragraph expressing your opinion)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560" y="1125000"/>
            <a:ext cx="856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Education For Al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y opinion, all children should have the right to a free education. They should have access to a school in their local area that is equipped with enough teachers so that the class sizes are less than 30 students to a class. The schools should also have enough books, supplies and facilities for every child. The classes should be for children of a similar age and education level so that students can get an education that is appropriate for them. I also believe that schools should teach practical subjects as well that will help children in deprived areas to find a decent jo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lexion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565000"/>
            <a:ext cx="8362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have you learnt toda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was interesting to discover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was difficul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ctivity did you enjoy mos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skills would you like to develop and improv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ow I Can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8" descr="http://math.phillipmartin.info/school_teacher5.gif"/>
          <p:cNvPicPr/>
          <p:nvPr/>
        </p:nvPicPr>
        <p:blipFill>
          <a:blip r:embed="rId1"/>
          <a:srcRect l="0" t="0" r="0" b="8449"/>
          <a:stretch/>
        </p:blipFill>
        <p:spPr>
          <a:xfrm>
            <a:off x="4568760" y="333360"/>
            <a:ext cx="3851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ttp://img12.nnm.ru/9/8/7/d/3/f716980eb85894161c09cb35c0d.jpg"/>
          <p:cNvPicPr/>
          <p:nvPr/>
        </p:nvPicPr>
        <p:blipFill>
          <a:blip r:embed="rId1"/>
          <a:stretch/>
        </p:blipFill>
        <p:spPr>
          <a:xfrm>
            <a:off x="684360" y="5278320"/>
            <a:ext cx="1979640" cy="1486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http://www.dinaburg.eu/upload/news_foto/ef4ee02d28fd4c4ec98b96f316ddc300.jpg"/>
          <p:cNvPicPr/>
          <p:nvPr/>
        </p:nvPicPr>
        <p:blipFill>
          <a:blip r:embed="rId2"/>
          <a:stretch/>
        </p:blipFill>
        <p:spPr>
          <a:xfrm>
            <a:off x="5832360" y="4967280"/>
            <a:ext cx="2014560" cy="1508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http://uelen.ucoz.ru/titul/emblema.gif"/>
          <p:cNvPicPr/>
          <p:nvPr/>
        </p:nvPicPr>
        <p:blipFill>
          <a:blip r:embed="rId3"/>
          <a:stretch/>
        </p:blipFill>
        <p:spPr>
          <a:xfrm>
            <a:off x="2975040" y="1413000"/>
            <a:ext cx="2460600" cy="1841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student01"/>
          <p:cNvPicPr/>
          <p:nvPr/>
        </p:nvPicPr>
        <p:blipFill>
          <a:blip r:embed="rId4"/>
          <a:stretch/>
        </p:blipFill>
        <p:spPr>
          <a:xfrm>
            <a:off x="6494400" y="1449360"/>
            <a:ext cx="1979640" cy="1582920"/>
          </a:xfrm>
          <a:prstGeom prst="rect">
            <a:avLst/>
          </a:prstGeom>
          <a:ln w="0">
            <a:noFill/>
          </a:ln>
        </p:spPr>
      </p:pic>
      <p:sp>
        <p:nvSpPr>
          <p:cNvPr id="359" name="Выноска-облако 8"/>
          <p:cNvSpPr/>
          <p:nvPr/>
        </p:nvSpPr>
        <p:spPr>
          <a:xfrm>
            <a:off x="723960" y="3297240"/>
            <a:ext cx="3635280" cy="1800360"/>
          </a:xfrm>
          <a:prstGeom prst="cloudCallout">
            <a:avLst>
              <a:gd name="adj1" fmla="val -12171"/>
              <a:gd name="adj2" fmla="val 66662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Выноска-облако 9"/>
          <p:cNvSpPr/>
          <p:nvPr/>
        </p:nvSpPr>
        <p:spPr>
          <a:xfrm>
            <a:off x="4392720" y="3068640"/>
            <a:ext cx="4751280" cy="1728720"/>
          </a:xfrm>
          <a:prstGeom prst="cloudCallout">
            <a:avLst>
              <a:gd name="adj1" fmla="val -32305"/>
              <a:gd name="adj2" fmla="val 62587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Выноска-облако 10"/>
          <p:cNvSpPr/>
          <p:nvPr/>
        </p:nvSpPr>
        <p:spPr>
          <a:xfrm>
            <a:off x="5364000" y="0"/>
            <a:ext cx="3780000" cy="1413000"/>
          </a:xfrm>
          <a:prstGeom prst="cloudCallout">
            <a:avLst>
              <a:gd name="adj1" fmla="val 13083"/>
              <a:gd name="adj2" fmla="val 67578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Выноска-облако 11"/>
          <p:cNvSpPr/>
          <p:nvPr/>
        </p:nvSpPr>
        <p:spPr>
          <a:xfrm>
            <a:off x="0" y="404640"/>
            <a:ext cx="3672000" cy="1511640"/>
          </a:xfrm>
          <a:prstGeom prst="cloudCallout">
            <a:avLst>
              <a:gd name="adj1" fmla="val 45532"/>
              <a:gd name="adj2" fmla="val 25550"/>
            </a:avLst>
          </a:prstGeom>
          <a:solidFill>
            <a:srgbClr val="dde9ec"/>
          </a:solidFill>
          <a:ln w="1908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e9ec"/>
                </a:solidFill>
                <a:latin typeface="Gill Sans MT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539640" y="54936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children in the world should be able to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6156360" y="9828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achers do a very hard job and should be paid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890640" y="351792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children should expect to be helped when they have difficulties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5435640" y="32846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es should not have more than 30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391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25b7e"/>
                </a:solidFill>
                <a:latin typeface="Bookman Old Style"/>
              </a:rPr>
              <a:t>How to agree/ disagree</a:t>
            </a:r>
            <a:r>
              <a:rPr b="0" lang="en-US" sz="2200" spc="-1" strike="noStrike">
                <a:solidFill>
                  <a:srgbClr val="525b7e"/>
                </a:solidFill>
                <a:latin typeface="Bookman Old Style"/>
              </a:rPr>
              <a:t>. </a:t>
            </a:r>
            <a:endParaRPr b="0" lang="en-US" sz="2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8442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. g.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es, I agree with all the statements. All children in the world should be able to go to school, as without an education they will find it difficult to make a liv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chool classes should be small, as it is impossible to learn in a large cla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Teachers do work hard and deserve a good salary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 also agree that children with difficulties in school should be help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0" y="0"/>
            <a:ext cx="893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Bookman Old Style"/>
              </a:rPr>
              <a:t>(support the  statement with justification or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24000" y="1318680"/>
            <a:ext cx="20160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a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stud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c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erl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cabulary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2" name="Содержимое 2"/>
          <p:cNvSpPr/>
          <p:nvPr/>
        </p:nvSpPr>
        <p:spPr>
          <a:xfrm>
            <a:off x="2124000" y="1324080"/>
            <a:ext cx="7020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ire with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your own; without outsid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fession/study of writing or reporting news stories for th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hool subject that deals with all aspects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pen to you; go throug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: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iece of paper upon which a student’s  school grades are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lieve some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ce and gymnastics performed to encourage crowds to cheer on sports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ormal discussion on a particular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of people set up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mote s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7ca3"/>
              </a:buClr>
              <a:buSzPct val="76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Reading </a:t>
            </a:r>
            <a:r>
              <a:rPr b="0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Ex. 2, p. 58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 letter to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 letter fro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the writer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 the pupils and teachers at Mill House Secondary School, Greetings from Brazil! I've been here for just a week, but already I have so much to share with you about the children and teachers I've met her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etter abou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expect to rea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children that Mrs Myles met receiving a good education? Why/ Why no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26 Дорожка 26.wma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52182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Vocabulary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79280" y="1341360"/>
            <a:ext cx="2448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 wi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p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them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Содержимое 2"/>
          <p:cNvSpPr/>
          <p:nvPr/>
        </p:nvSpPr>
        <p:spPr>
          <a:xfrm>
            <a:off x="2633760" y="1268280"/>
            <a:ext cx="61214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share sth with somebody, you both have it, use it, or occup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 sth i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d/ wanted/ anticip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ing a lot of money for the job p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y paid to stay in a house/flat pe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/mon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ned or organised occas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d to raise mone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cash for a specific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th happen; set i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hat is your school like?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What would you change if any?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0" name="Picture 2" descr="http://cs10796.vkontakte.ru/u107606103/-14/x_40407e53.jpg"/>
          <p:cNvPicPr/>
          <p:nvPr/>
        </p:nvPicPr>
        <p:blipFill>
          <a:blip r:embed="rId1"/>
          <a:stretch/>
        </p:blipFill>
        <p:spPr>
          <a:xfrm>
            <a:off x="396720" y="3565440"/>
            <a:ext cx="4175280" cy="2786040"/>
          </a:xfrm>
          <a:prstGeom prst="rect">
            <a:avLst/>
          </a:prstGeom>
          <a:ln w="0">
            <a:noFill/>
          </a:ln>
        </p:spPr>
      </p:pic>
      <p:sp>
        <p:nvSpPr>
          <p:cNvPr id="381" name="Выноска-облако 4"/>
          <p:cNvSpPr/>
          <p:nvPr/>
        </p:nvSpPr>
        <p:spPr>
          <a:xfrm>
            <a:off x="3276720" y="1052640"/>
            <a:ext cx="5867280" cy="2881080"/>
          </a:xfrm>
          <a:prstGeom prst="cloudCallout">
            <a:avLst>
              <a:gd name="adj1" fmla="val -68425"/>
              <a:gd name="adj2" fmla="val 49236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 would like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f I could I w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f only we c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53"/>
                </a:solidFill>
                <a:latin typeface="Bookman Old Style"/>
              </a:rPr>
              <a:t>Listening           </a:t>
            </a:r>
            <a:r>
              <a:rPr b="1" i="1" lang="en-US" sz="2400" spc="-1" strike="noStrike">
                <a:solidFill>
                  <a:srgbClr val="525b7e"/>
                </a:solidFill>
                <a:latin typeface="Bookman Old Style"/>
              </a:rPr>
              <a:t>A Child’s right to a free education</a:t>
            </a: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3" name="27 Дорожка 27.wma" descr=""/>
          <p:cNvPicPr/>
          <p:nvPr/>
        </p:nvPicPr>
        <p:blipFill>
          <a:blip r:embed="rId1"/>
          <a:stretch/>
        </p:blipFill>
        <p:spPr>
          <a:xfrm>
            <a:off x="1979640" y="49212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684360" y="1557360"/>
          <a:ext cx="7848360" cy="424800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93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ib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217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benefits of going to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843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problems some children 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593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ho can 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6438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25b7e"/>
                </a:solidFill>
                <a:latin typeface="Bookman Old Style"/>
              </a:rPr>
              <a:t>A Child’s right to a free education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941400" y="1484280"/>
          <a:ext cx="7272360" cy="4537080"/>
        </p:xfrm>
        <a:graphic>
          <a:graphicData uri="http://schemas.openxmlformats.org/drawingml/2006/table">
            <a:tbl>
              <a:tblPr/>
              <a:tblGrid>
                <a:gridCol w="1819440"/>
                <a:gridCol w="1817640"/>
                <a:gridCol w="1817640"/>
                <a:gridCol w="1817640"/>
              </a:tblGrid>
              <a:tr h="3366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ib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754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benefits of going to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arn to read and write, have employment opportunities, make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753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he problems some children h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school, one school and one teacher for all ages, large class sizes, no fri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92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ho can 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vernments, the med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5:21:13Z</dcterms:created>
  <dc:creator>Андреева; Тропина</dc:creator>
  <dc:description/>
  <dc:language>en-US</dc:language>
  <cp:lastModifiedBy>Пользователь</cp:lastModifiedBy>
  <dcterms:modified xsi:type="dcterms:W3CDTF">2020-11-15T15:15:22Z</dcterms:modified>
  <cp:revision>39</cp:revision>
  <dc:subject/>
  <dc:title>Citizenship</dc:title>
</cp:coreProperties>
</file>