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9CF-47DD-49C6-B194-0CA62A5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A32-42CA-4A01-A902-470F150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36B-4A7A-44AF-9871-8B59C3FD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05A-4901-4DB6-97D5-6822A5B0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791-4168-4909-85D4-9C4CAB98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2CF-48BF-42D9-8FE4-C9331922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E392-74A0-4C1F-AD8C-B4395E4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7B2D-A890-481C-9D3C-D15F59FB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02B4-8E92-4740-987E-F977D2A6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7A9C-11F3-4544-8431-9911A9C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3798-31D1-4455-9F99-40B462E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EC9-92A7-46D5-8141-388056F0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EC62-9105-41EA-8597-4AF99B6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24E-6BF6-4220-9337-B55DACE8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95C-0DA9-49BD-B585-F5A268D9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6973-1212-4A07-8E87-2D74968F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5343-FCBE-40C0-AAD4-84B8674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334-09DB-4251-BD18-B780A7D7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C8C-601F-4DC9-8064-53B0C11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997-00B6-4FC3-8E70-4327DF35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1D0-083B-4560-8585-3DBC8F62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6DD-E137-48B6-9F6E-5D86000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6ED-98D9-48D2-92AF-4404969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560-AE40-4EA1-8F1F-D21EECA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6FD-EA5C-474A-88B5-B9A1E1D041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2F3D-2A4C-4B86-9E13-F16B00D67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523880" y="609480"/>
            <a:ext cx="685800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58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500120" y="1571760"/>
            <a:ext cx="70009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Сумма углов треуголь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25400" y="4572000"/>
            <a:ext cx="708948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: Вязинько Е.П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КОУ «ООШ с. Полево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680" y="1752480"/>
            <a:ext cx="757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imes New Roman"/>
              </a:rPr>
              <a:t>Повтори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1219320" y="3429000"/>
            <a:ext cx="3276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2819520" y="3429000"/>
            <a:ext cx="914400" cy="12952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371600" y="2133360"/>
            <a:ext cx="228600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371484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imes New Roman"/>
              </a:rPr>
              <a:t>Повтори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219320" y="3429000"/>
            <a:ext cx="3276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819520" y="3429000"/>
            <a:ext cx="914400" cy="12952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 flipV="1">
            <a:off x="1371600" y="2133360"/>
            <a:ext cx="228600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3714480" cy="421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5000760" y="1714680"/>
            <a:ext cx="3643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1533600" y="15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2"/>
          <p:cNvSpPr/>
          <p:nvPr/>
        </p:nvSpPr>
        <p:spPr>
          <a:xfrm>
            <a:off x="195120" y="1654200"/>
            <a:ext cx="875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51" descr="BD05102_"/>
          <p:cNvPicPr/>
          <p:nvPr/>
        </p:nvPicPr>
        <p:blipFill>
          <a:blip r:embed="rId1"/>
          <a:stretch/>
        </p:blipFill>
        <p:spPr>
          <a:xfrm>
            <a:off x="7072200" y="1500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1857240" y="357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Практическая (исследовательская) рабо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1071720" y="808200"/>
            <a:ext cx="7786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ь углы треугольников с помощью транспортира. Вычислить сумму углов каждого треугольника. Высказать гипотезу о сумме углов треугольни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треугольника вырезать углы, приложить углы друг к другу и приклеить. Какой угол образовали углы треугольника, сложенные вместе? Высказать гипотезу о сумме углов треугольни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ь произвольный треугольник АВС. С помощью циркуля и линейки построить на сторонах угла В угл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крест лежащие;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М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М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крест лежащие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 на вопрос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о взаимное расположение прямой АС и луча 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ямой АС и луча ВМ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составили лучи 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М? Чему равна градусная мера этого угла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сумма углов треугольника АВС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42960" y="285840"/>
            <a:ext cx="8215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42840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86800" y="17524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000080" y="423720"/>
            <a:ext cx="7715160" cy="4862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000080" y="510480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вностороннем треугольнике все углы равны 60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ямоугольном треугольнике сумма острых углов равна 90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ямоугольном равнобедренном треугольнике острые углы равны 45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2916360"/>
          <a:ext cx="3733920" cy="1788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8586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:   ΔАВС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: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: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:3: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: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 gridSpan="2"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одна часть углов составляет 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гда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 2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=3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4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Т. к. по теореме о сумме углов треугольника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+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1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 получим уравнение 2х+3х+4х=180, 9х=180, х=20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дна часть углов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 2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= 3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 4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 4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6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15160" cy="61610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"/>
          <p:cNvGrpSpPr/>
          <p:nvPr/>
        </p:nvGrpSpPr>
        <p:grpSpPr>
          <a:xfrm>
            <a:off x="1071720" y="1643040"/>
            <a:ext cx="3357000" cy="1499760"/>
            <a:chOff x="1071720" y="1643040"/>
            <a:chExt cx="3357000" cy="1499760"/>
          </a:xfrm>
        </p:grpSpPr>
        <p:sp>
          <p:nvSpPr>
            <p:cNvPr id="125" name="Line 9"/>
            <p:cNvSpPr/>
            <p:nvPr/>
          </p:nvSpPr>
          <p:spPr>
            <a:xfrm flipV="1">
              <a:off x="1629360" y="1940760"/>
              <a:ext cx="167688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634040" y="2993400"/>
              <a:ext cx="22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3311280" y="1946160"/>
              <a:ext cx="55764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1071720" y="2838960"/>
              <a:ext cx="834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2745360" y="1643040"/>
              <a:ext cx="8391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"/>
            <p:cNvSpPr/>
            <p:nvPr/>
          </p:nvSpPr>
          <p:spPr>
            <a:xfrm>
              <a:off x="3869280" y="2844000"/>
              <a:ext cx="559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Прямоугольник 14"/>
          <p:cNvSpPr/>
          <p:nvPr/>
        </p:nvSpPr>
        <p:spPr>
          <a:xfrm>
            <a:off x="1285920" y="2643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3071880" y="1500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6"/>
          <p:cNvSpPr/>
          <p:nvPr/>
        </p:nvSpPr>
        <p:spPr>
          <a:xfrm>
            <a:off x="3929040" y="2571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428840" y="30729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1000080" y="35002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сть одна часть углов составляет х, тогд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= 2х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=3х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=4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000080" y="3958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 по теореме о сумме углов треугольник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+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180, то получим уравнение 2х+3х+4х=180, 9х=180, х=2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000080" y="457416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 одна часть угл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 2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40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 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60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 4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8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285920" y="537588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40, 60, 8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28800" y="1213920"/>
            <a:ext cx="75722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2880" y="1643040"/>
            <a:ext cx="3905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Изображение"/>
          <p:cNvPicPr/>
          <p:nvPr/>
        </p:nvPicPr>
        <p:blipFill>
          <a:blip r:embed="rId1"/>
          <a:stretch/>
        </p:blipFill>
        <p:spPr>
          <a:xfrm>
            <a:off x="1071720" y="1714680"/>
            <a:ext cx="1606320" cy="1071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071720" y="126072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рисунке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ве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786040" y="1634760"/>
            <a:ext cx="192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9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66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57160" y="298728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рисунке 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авен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Изображение1"/>
          <p:cNvPicPr/>
          <p:nvPr/>
        </p:nvPicPr>
        <p:blipFill>
          <a:blip r:embed="rId2"/>
          <a:stretch/>
        </p:blipFill>
        <p:spPr>
          <a:xfrm>
            <a:off x="1071720" y="3429000"/>
            <a:ext cx="15714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2786040" y="328932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2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7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3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пределить невозможн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000760" y="1316160"/>
            <a:ext cx="38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 рисунке величина угла С рав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Изображение 002"/>
          <p:cNvPicPr/>
          <p:nvPr/>
        </p:nvPicPr>
        <p:blipFill>
          <a:blip r:embed="rId3"/>
          <a:stretch/>
        </p:blipFill>
        <p:spPr>
          <a:xfrm>
            <a:off x="5000760" y="178596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2"/>
          <p:cNvSpPr/>
          <p:nvPr/>
        </p:nvSpPr>
        <p:spPr>
          <a:xfrm>
            <a:off x="6500880" y="177984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0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т верног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929120" y="309960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внобедренным является треугольник, изображенный на рисунке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4" descr="Изображение1"/>
          <p:cNvPicPr/>
          <p:nvPr/>
        </p:nvPicPr>
        <p:blipFill>
          <a:blip r:embed="rId4"/>
          <a:stretch/>
        </p:blipFill>
        <p:spPr>
          <a:xfrm>
            <a:off x="5000760" y="357192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8"/>
          <p:cNvSpPr/>
          <p:nvPr/>
        </p:nvSpPr>
        <p:spPr>
          <a:xfrm>
            <a:off x="1000080" y="4929120"/>
            <a:ext cx="77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ва угла треугольника равны 27° и 41°. Найти третий угол и определить вид треугольн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9"/>
          <p:cNvSpPr/>
          <p:nvPr/>
        </p:nvSpPr>
        <p:spPr>
          <a:xfrm>
            <a:off x="1000080" y="5357880"/>
            <a:ext cx="785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треугольнике АВС: АВ = ВС, угол А равен 40°. Из вершины В к основанию АС проведена высота. Чему равны углы АСВ, АВ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дание на до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28440" y="1752480"/>
            <a:ext cx="77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рвая часть домашнего зад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. 30, № 223 (а. б, в), № 2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торая часть зад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ить на вопрос: «Может ли треугольник иметь: а) два прямых угла; б) два тупых угла; в) один прямой и один тупой угол?». Ответы должны быть обоснованы с помощью теоремы о сумме углов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0:02:29Z</dcterms:created>
  <dc:creator>Гусев Григорий Юрьев</dc:creator>
  <dc:description/>
  <dc:language>en-US</dc:language>
  <cp:lastModifiedBy>Юрий</cp:lastModifiedBy>
  <dcterms:modified xsi:type="dcterms:W3CDTF">2021-02-13T08:49:47Z</dcterms:modified>
  <cp:revision>93</cp:revision>
  <dc:subject/>
  <dc:title>Презентация PowerPoint</dc:title>
</cp:coreProperties>
</file>